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500-DD18-44DB-A8C4-AACD02BF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AC8-E283-49AB-84B8-84C579E7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E31-AADC-4E6F-B108-FCDFAC94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14D-FFE2-47C4-8896-99B4B8C6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593-3C9D-49FA-ACDF-8348A677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2EC-4B1C-44B4-95A2-AB412C8F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28F-B887-4016-9312-7D797277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CFA-C46C-4990-AF92-98BB72A0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68E-CD6A-42E7-A162-404F5DDE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22B-CC6E-4D57-A41C-951132B6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474-F160-4AAF-B0D2-05A6B27E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B75-767E-40FE-A595-51B21052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63F5-A889-4ABE-BB3A-9E61E7EDB5A3}" type="slidenum">
              <a:rPr b="0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Тема доклада: «Здоровьесберегающие технологии»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58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окладчик: Баранова Светлана Ивановна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Picture 5" descr="SNV39132"/>
          <p:cNvPicPr/>
          <p:nvPr/>
        </p:nvPicPr>
        <p:blipFill>
          <a:blip r:embed="rId1"/>
          <a:stretch/>
        </p:blipFill>
        <p:spPr>
          <a:xfrm>
            <a:off x="3780000" y="3573360"/>
            <a:ext cx="21081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Личный пример учителе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3" name="Picture 9" descr="SNV32493"/>
          <p:cNvPicPr/>
          <p:nvPr/>
        </p:nvPicPr>
        <p:blipFill>
          <a:blip r:embed="rId1"/>
          <a:stretch/>
        </p:blipFill>
        <p:spPr>
          <a:xfrm>
            <a:off x="1517760" y="221472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SNV38336"/>
          <p:cNvPicPr/>
          <p:nvPr/>
        </p:nvPicPr>
        <p:blipFill>
          <a:blip r:embed="rId2"/>
          <a:stretch/>
        </p:blipFill>
        <p:spPr>
          <a:xfrm>
            <a:off x="5573880" y="221472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SNV38626"/>
          <p:cNvPicPr/>
          <p:nvPr/>
        </p:nvPicPr>
        <p:blipFill>
          <a:blip r:embed="rId3"/>
          <a:stretch/>
        </p:blipFill>
        <p:spPr>
          <a:xfrm>
            <a:off x="1515960" y="4230720"/>
            <a:ext cx="2487600" cy="1865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SNV38889"/>
          <p:cNvPicPr/>
          <p:nvPr/>
        </p:nvPicPr>
        <p:blipFill>
          <a:blip r:embed="rId4"/>
          <a:stretch/>
        </p:blipFill>
        <p:spPr>
          <a:xfrm>
            <a:off x="5572080" y="4230720"/>
            <a:ext cx="24876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Знания о ЗОЖ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8" name="Содержимое 4" descr="SNV39140.JPG"/>
          <p:cNvPicPr/>
          <p:nvPr/>
        </p:nvPicPr>
        <p:blipFill>
          <a:blip r:embed="rId1"/>
          <a:stretch/>
        </p:blipFill>
        <p:spPr>
          <a:xfrm>
            <a:off x="809640" y="2692440"/>
            <a:ext cx="3902040" cy="2925720"/>
          </a:xfrm>
          <a:prstGeom prst="rect">
            <a:avLst/>
          </a:prstGeom>
          <a:ln w="0">
            <a:noFill/>
          </a:ln>
        </p:spPr>
      </p:pic>
      <p:pic>
        <p:nvPicPr>
          <p:cNvPr id="179" name="Содержимое 5" descr="SNV38974.JPG"/>
          <p:cNvPicPr/>
          <p:nvPr/>
        </p:nvPicPr>
        <p:blipFill>
          <a:blip r:embed="rId2"/>
          <a:stretch/>
        </p:blipFill>
        <p:spPr>
          <a:xfrm>
            <a:off x="4863960" y="2690640"/>
            <a:ext cx="3903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Приобщение к спорту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Picture 8" descr="SNV38416"/>
          <p:cNvPicPr/>
          <p:nvPr/>
        </p:nvPicPr>
        <p:blipFill>
          <a:blip r:embed="rId1"/>
          <a:stretch/>
        </p:blipFill>
        <p:spPr>
          <a:xfrm>
            <a:off x="1517760" y="221472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SNV38564"/>
          <p:cNvPicPr/>
          <p:nvPr/>
        </p:nvPicPr>
        <p:blipFill>
          <a:blip r:embed="rId2"/>
          <a:stretch/>
        </p:blipFill>
        <p:spPr>
          <a:xfrm>
            <a:off x="5573880" y="221472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SNV39128"/>
          <p:cNvPicPr/>
          <p:nvPr/>
        </p:nvPicPr>
        <p:blipFill>
          <a:blip r:embed="rId3"/>
          <a:stretch/>
        </p:blipFill>
        <p:spPr>
          <a:xfrm>
            <a:off x="3429000" y="4214880"/>
            <a:ext cx="2487600" cy="1865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809280" y="4230360"/>
            <a:ext cx="390204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Уроки на свежем воздухе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Picture 9" descr="SNV39158"/>
          <p:cNvPicPr/>
          <p:nvPr/>
        </p:nvPicPr>
        <p:blipFill>
          <a:blip r:embed="rId1"/>
          <a:stretch/>
        </p:blipFill>
        <p:spPr>
          <a:xfrm>
            <a:off x="1517760" y="221472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SNV32700"/>
          <p:cNvPicPr/>
          <p:nvPr/>
        </p:nvPicPr>
        <p:blipFill>
          <a:blip r:embed="rId2"/>
          <a:stretch/>
        </p:blipFill>
        <p:spPr>
          <a:xfrm>
            <a:off x="5573880" y="221472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SNV30688"/>
          <p:cNvPicPr/>
          <p:nvPr/>
        </p:nvPicPr>
        <p:blipFill>
          <a:blip r:embed="rId3"/>
          <a:stretch/>
        </p:blipFill>
        <p:spPr>
          <a:xfrm>
            <a:off x="1515960" y="4230720"/>
            <a:ext cx="2487600" cy="1865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SNV32429"/>
          <p:cNvPicPr/>
          <p:nvPr/>
        </p:nvPicPr>
        <p:blipFill>
          <a:blip r:embed="rId4"/>
          <a:stretch/>
        </p:blipFill>
        <p:spPr>
          <a:xfrm>
            <a:off x="5572080" y="4230720"/>
            <a:ext cx="24876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609480"/>
            <a:ext cx="76341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Школьные факторы риска 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Стрессовая педагогическая тактика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Несоответствие методик и технологий обучения возрастным и функциональным возможностям школьников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Несоблюдение элементарных физиологических и гигиенических требований к организации учебного процесса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Недостаточная грамотность родителей в вопросах сохранения здоровья детей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Провалы в существующей системе физического воспитания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Интенсификация учебного процесса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Функциональная неграмотность педагога в вопросах охраны и укрепления здоровья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Частичное разрушение служб школьного медицинского контроля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Отсутствие системной работы по формированию ценности здоровья и здорового образа жизни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Здоровьесберегающие компоненты на уроке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тренняя гимнастик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инамические паузы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Чередование поз во время урок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рганизационное начало (выстраиваются договорные отношения, принимаются правила урока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анжирование учебного материала урока по степени сложности, новизны , актуальност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Использование активных методов обучения: поисковый, диалогический, игровой, проектный, исследовательский и др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тражение в содержании вопросов, связанных со здоровьем, здоровым образом жизни (по возможности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Гармоничное сочетание обучения-воспитания-развития в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технологии, обеспечивающие гигиенически оптимальные условия образовательного процесса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технологии оптимальной организации учебного процесса и физической активности школьников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знообразные психолого-педагогические технологии, используемые на уроках и во внеурочной деятельности педагогами и воспитателями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500120" y="718560"/>
            <a:ext cx="7429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В учебно-воспитательном процессе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здоровьесберегающие технологии делятся: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Основные правила построения урока с позиции здоровьесберегающих технологий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ило 1: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Правильная организация                                                   урока 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ило 2: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 Использование каналов восприятия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ило 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3: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Учет зоны работоспособности учащихся 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ило 4: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Распределение интенсивности умственной деятельности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Психолого-педагогические технологии здоровьесбережения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Снятие эмоционального напряж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Создание благоприятного психологического климата на урок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Охрана здоровья и пропаганда здорового образа жизн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Комплексное использование личностно-ориентированных технологи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Принципы здоровьесбережения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«Не навреди!»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Приоритет заботы о здоровье учителя и учащегос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 </a:t>
            </a: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Субъект-субъектные взаимоотношения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Соответствие содержания и организации обучения возрастным особенностям учащихся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Комплексный, междисциплинарный подход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Успех порождает успех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Активность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Ответственность за свое здоровье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Дни здоровь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3" name="Picture 11" descr="SNV38206"/>
          <p:cNvPicPr/>
          <p:nvPr/>
        </p:nvPicPr>
        <p:blipFill>
          <a:blip r:embed="rId1"/>
          <a:stretch/>
        </p:blipFill>
        <p:spPr>
          <a:xfrm>
            <a:off x="1517760" y="221472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SNV38223"/>
          <p:cNvPicPr/>
          <p:nvPr/>
        </p:nvPicPr>
        <p:blipFill>
          <a:blip r:embed="rId2"/>
          <a:stretch/>
        </p:blipFill>
        <p:spPr>
          <a:xfrm>
            <a:off x="5573880" y="221472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SNV38245"/>
          <p:cNvPicPr/>
          <p:nvPr/>
        </p:nvPicPr>
        <p:blipFill>
          <a:blip r:embed="rId3"/>
          <a:stretch/>
        </p:blipFill>
        <p:spPr>
          <a:xfrm>
            <a:off x="1515960" y="4230720"/>
            <a:ext cx="2487600" cy="1865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SNV38968"/>
          <p:cNvPicPr/>
          <p:nvPr/>
        </p:nvPicPr>
        <p:blipFill>
          <a:blip r:embed="rId4"/>
          <a:stretch/>
        </p:blipFill>
        <p:spPr>
          <a:xfrm>
            <a:off x="5580000" y="4221000"/>
            <a:ext cx="248760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Приобщение семей к спорту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Содержимое 9" descr="SNV32569.JPG"/>
          <p:cNvPicPr/>
          <p:nvPr/>
        </p:nvPicPr>
        <p:blipFill>
          <a:blip r:embed="rId1"/>
          <a:stretch/>
        </p:blipFill>
        <p:spPr>
          <a:xfrm>
            <a:off x="1517760" y="2214720"/>
            <a:ext cx="2485800" cy="1863720"/>
          </a:xfrm>
          <a:prstGeom prst="rect">
            <a:avLst/>
          </a:prstGeom>
          <a:ln w="0">
            <a:noFill/>
          </a:ln>
        </p:spPr>
      </p:pic>
      <p:pic>
        <p:nvPicPr>
          <p:cNvPr id="169" name="Содержимое 11" descr="SNV39366.JPG"/>
          <p:cNvPicPr/>
          <p:nvPr/>
        </p:nvPicPr>
        <p:blipFill>
          <a:blip r:embed="rId2"/>
          <a:stretch/>
        </p:blipFill>
        <p:spPr>
          <a:xfrm>
            <a:off x="5573880" y="221472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70" name="Содержимое 10" descr="SNV32568.JPG"/>
          <p:cNvPicPr/>
          <p:nvPr/>
        </p:nvPicPr>
        <p:blipFill>
          <a:blip r:embed="rId3"/>
          <a:stretch/>
        </p:blipFill>
        <p:spPr>
          <a:xfrm>
            <a:off x="1517760" y="4230720"/>
            <a:ext cx="2485800" cy="186516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12" descr="SNV39355.JPG"/>
          <p:cNvPicPr/>
          <p:nvPr/>
        </p:nvPicPr>
        <p:blipFill>
          <a:blip r:embed="rId4"/>
          <a:stretch/>
        </p:blipFill>
        <p:spPr>
          <a:xfrm>
            <a:off x="5572080" y="4230720"/>
            <a:ext cx="24876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18:14:11Z</dcterms:created>
  <dc:creator>Казак Н.А. МОУ СОШ "Наша школа" г. Томск</dc:creator>
  <dc:description/>
  <dc:language>en-US</dc:language>
  <cp:lastModifiedBy>alex</cp:lastModifiedBy>
  <dcterms:modified xsi:type="dcterms:W3CDTF">2012-11-27T16:34:41Z</dcterms:modified>
  <cp:revision>28</cp:revision>
  <dc:subject/>
  <dc:title>Критерии урока здоровьесберегающей направленности</dc:title>
</cp:coreProperties>
</file>