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11.gif" ContentType="image/gif"/>
  <Override PartName="/ppt/media/image6.gif" ContentType="image/gif"/>
  <Override PartName="/ppt/media/image19.jpeg" ContentType="image/jpeg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5.gif" ContentType="image/gi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234-7B34-48D2-BB24-320315C3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B39-11C4-4B2A-8472-B240E885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1F1-D93C-4DE1-AAE5-102D0D19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3F7-4119-408B-B763-FEF21E45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F93-7FF4-46C3-9327-4497CB55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9C3-9052-408D-B8FB-900180F3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C19-530B-4E14-8AEF-C246CAA6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00F-6BA6-413F-B219-7879163C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8A4-2934-48FD-9C7A-385C4171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613-BF34-44BE-9A95-E6DC337C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960-38AF-4227-BD68-0D6A3C6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913-FBA7-422C-8C94-92E47F87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FC4D8-520D-41BD-B8BD-78BD604671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miles.33b.ru/smile.103428.html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hyperlink" Target="http://smiles.33b.ru/smile.108108.html" TargetMode="External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38360"/>
            <a:ext cx="77738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Приставки, которые всегда пишутся одинако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95920" y="388764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(первая групп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357720"/>
            <a:ext cx="166536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00ff"/>
                </a:solidFill>
                <a:latin typeface="Times New Roman"/>
              </a:rPr>
              <a:t>Самая непроглядная темень, густой тум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00ff"/>
                </a:solidFill>
                <a:latin typeface="Times New Roman"/>
              </a:rPr>
              <a:t>Существует две версии происхождения данного выражения. По первой, старинное слово «зга»  произошло от «стьга» (стёжка, дорожка, тропинка). Поэтому выражение «ни зги не видно» буквально означает: не видно дороги, тропы, пу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00ff"/>
                </a:solidFill>
                <a:latin typeface="Times New Roman"/>
              </a:rPr>
              <a:t>По второй версии, старинное слово «зга»  означало металлическое колечко на дуге упряжи лошади, к которому прикрепляется повод. В метель, пургу, темень, когда, сидя в санях или телеге, даже колечка на дуге не увидишь, ямщик так и говорил: «Вот темень! Ни зги не видн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09520" y="293760"/>
            <a:ext cx="653256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Ни зги не видн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89360" y="3935520"/>
            <a:ext cx="4702320" cy="269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6880" y="1730520"/>
            <a:ext cx="4899240" cy="482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тренируемс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…гущённое молоко, 2) прекрасное …доровье, 3) …берегательная касса, 4) …дание кинотеатра, 5) …дешние жители, 6) …горбленный человек, 7) …бритая боро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04360" y="20606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91480" y="284148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1840" y="2441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80200" y="308916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90160" y="35002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7416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91480" y="428292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812 -0.00185 L -0.77812 -0.00185 E">
                                      <p:cBhvr>
                                        <p:cTn id="15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326 -0.04208 L -0.81597 -0.04208 E">
                                      <p:cBhvr>
                                        <p:cTn id="16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614 0.01619 L -0.51614 0.01619 E">
                                      <p:cBhvr>
                                        <p:cTn id="16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17 -0.00486 L -0.30816 -0.00486 E">
                                      <p:cBhvr>
                                        <p:cTn id="17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264 -0.06474 L -0.78264 -0.06474 E">
                                      <p:cBhvr>
                                        <p:cTn id="17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764 -0.05433 L -0.55764 -0.05433 E">
                                      <p:cBhvr>
                                        <p:cTn id="17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08 -0.04231 L -0.82708 -0.04231 E">
                                      <p:cBhvr>
                                        <p:cTn id="18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06160"/>
            <a:ext cx="77724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79640" y="333360"/>
            <a:ext cx="4968720" cy="12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нравилось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24000" y="1700280"/>
            <a:ext cx="5184720" cy="1525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Запомнили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360" y="3716280"/>
            <a:ext cx="7777080" cy="28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Сколько и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08360" y="1483920"/>
            <a:ext cx="4749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-(во-)                П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зо-)                   Пер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-                      По-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-                       Под- (подо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-                        Пр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изо-)                   Пред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-                       Пр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- (надо-)        (разо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-, недо-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со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-                         Су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- (обо-)            У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- (ото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46200" y="2351160"/>
            <a:ext cx="136836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Большинство приставок первой группы подчиняется «главному» правилу. Гласные в них пишутся в безударном положении (слабая позиция) так, как в ударном (сильная позиц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Например: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до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сыта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, поэтому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до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ех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06800" y="428760"/>
            <a:ext cx="113364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Секрет безошибочного пись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Раз все приставки пишутся одинаково, то и секрет их письма несложен. Надо просто </a:t>
            </a:r>
            <a:r>
              <a:rPr b="0" lang="ru-RU" sz="4400" spc="-1" strike="noStrike">
                <a:solidFill>
                  <a:srgbClr val="660033"/>
                </a:solidFill>
                <a:latin typeface="Times New Roman"/>
              </a:rPr>
              <a:t>узнавать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 их в слов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19280" y="4149720"/>
            <a:ext cx="230508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    д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40360" y="4221000"/>
            <a:ext cx="1590480" cy="70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гнуть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11280" y="4149720"/>
            <a:ext cx="5050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843280" y="3716280"/>
            <a:ext cx="288720" cy="69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Выделите приставки в словах и запишите эти сло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7724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1) ворваться, воевать, ворох, вогна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2) добраться, домашний, доверить, добро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3) озабоченный, оловянный, одеревене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4) предвидеть, предсказать, предм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5) заработок, заре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6) подписать, порох, подправи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7) сотрудник, соловей, соедин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8) поездка, полоса, полеводство, поле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213080" y="1701720"/>
            <a:ext cx="86040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1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рваться, воевать, ворох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гна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2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д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браться, домашний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д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ерить, добро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3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забоченный, оловянный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деревене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4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ред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идеть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ред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сказать, предм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5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за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работок, заре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6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д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писать, порох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д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прави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7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с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трудник, соловей,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с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един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8)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ездка, полоса, полеводство, поле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43640" y="404640"/>
            <a:ext cx="176688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оварная приставка С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Осторожно! Она ошибкоопас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о-первых, потому, что она маленькая и легко ускользает от вним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А во-вторых, потому, что иногда оказывается пред звонким согласным звуком: сдаваться, сбиться, сгорбиться – чётко слышится </a:t>
            </a: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[ 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 ]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Но мы на эту удочку не попадёмс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129672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692360" y="2565360"/>
            <a:ext cx="4895640" cy="151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битьс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76360" y="2708280"/>
            <a:ext cx="1008000" cy="129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140360" y="3284640"/>
            <a:ext cx="42840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95640" y="1125360"/>
            <a:ext cx="3816360" cy="1833840"/>
          </a:xfrm>
          <a:prstGeom prst="wedgeEllipseCallout">
            <a:avLst>
              <a:gd name="adj1" fmla="val -39185"/>
              <a:gd name="adj2" fmla="val 732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га! Знаю! Опять игра «Делай как 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763640" y="765000"/>
            <a:ext cx="126216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Есть маленькая группа слов, которая пишется с буквой З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987640" y="2060640"/>
            <a:ext cx="20160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дес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3640" y="3500280"/>
            <a:ext cx="1944720" cy="11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здание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47640" y="3573360"/>
            <a:ext cx="2448000" cy="81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ь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68360" y="3789360"/>
            <a:ext cx="83808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116000" y="4653000"/>
            <a:ext cx="80028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484360" y="4653000"/>
            <a:ext cx="704880" cy="961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93080" y="2924280"/>
            <a:ext cx="1726920" cy="216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5651640" y="206064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7:09:41Z</dcterms:created>
  <dc:creator>АЛЕКС</dc:creator>
  <dc:description/>
  <dc:language>en-US</dc:language>
  <cp:lastModifiedBy>АЛЕКС</cp:lastModifiedBy>
  <dcterms:modified xsi:type="dcterms:W3CDTF">2011-02-14T15:59:45Z</dcterms:modified>
  <cp:revision>4</cp:revision>
  <dc:subject/>
  <dc:title>Приставки, которые всегда пишутся одинаково</dc:title>
</cp:coreProperties>
</file>