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gif" ContentType="image/gif"/>
  <Override PartName="/ppt/media/image13.gif" ContentType="image/gif"/>
  <Override PartName="/ppt/media/image8.gif" ContentType="image/gif"/>
  <Override PartName="/ppt/media/image18.jpeg" ContentType="image/jpeg"/>
  <Override PartName="/ppt/media/image11.gif" ContentType="image/gif"/>
  <Override PartName="/ppt/media/image6.gif" ContentType="image/gif"/>
  <Override PartName="/ppt/media/image19.jpeg" ContentType="image/jpeg"/>
  <Override PartName="/ppt/media/image17.gif" ContentType="image/gif"/>
  <Override PartName="/ppt/media/image16.gif" ContentType="image/gif"/>
  <Override PartName="/ppt/media/image2.png" ContentType="image/png"/>
  <Override PartName="/ppt/media/image15.gif" ContentType="image/gif"/>
  <Override PartName="/ppt/media/image1.png" ContentType="image/png"/>
  <Override PartName="/ppt/media/image14.gif" ContentType="image/gif"/>
  <Override PartName="/ppt/media/image3.gif" ContentType="image/gif"/>
  <Override PartName="/ppt/media/image12.png" ContentType="image/png"/>
  <Override PartName="/ppt/media/image7.png" ContentType="image/png"/>
  <Override PartName="/ppt/media/image4.gif" ContentType="image/gif"/>
  <Override PartName="/ppt/media/image5.gif" ContentType="image/gif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BFB2-AEE4-4B02-91B3-6576F5851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E72B-7B27-405B-AC41-EE0243F4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348C-F559-4D24-A409-11668D1B8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46F5-2098-4BAA-B138-1028B8171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7917-3C40-42AF-90F4-7272E7DA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8FC6-51F1-4094-B8C3-E8DCED0E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B4BE-4BEA-4CAB-A2B6-0CA60C6A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508A-41EA-490A-AE01-D310692D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680"/>
            <a:ext cx="7769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44EC-FC51-418F-862E-57B146B8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A6A9-B044-49B4-A366-F0237E7E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BE67-B806-44A1-988B-461BCEFF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931E-61FE-4C63-B562-55D216E5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42C0ED-604A-4BCA-9959-CB37C58E36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miles.33b.ru/smile.103428.html" TargetMode="Externa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6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gif"/><Relationship Id="rId7" Type="http://schemas.openxmlformats.org/officeDocument/2006/relationships/image" Target="../media/image14.gif"/><Relationship Id="rId8" Type="http://schemas.openxmlformats.org/officeDocument/2006/relationships/image" Target="../media/image15.gif"/><Relationship Id="rId9" Type="http://schemas.openxmlformats.org/officeDocument/2006/relationships/hyperlink" Target="http://smiles.33b.ru/smile.108108.html" TargetMode="External"/><Relationship Id="rId10" Type="http://schemas.openxmlformats.org/officeDocument/2006/relationships/image" Target="../media/image16.gif"/><Relationship Id="rId11" Type="http://schemas.openxmlformats.org/officeDocument/2006/relationships/image" Target="../media/image17.gif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38360"/>
            <a:ext cx="777384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Times New Roman"/>
              </a:rPr>
              <a:t>Приставки, которые всегда пишутся одинаков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95920" y="3887640"/>
            <a:ext cx="312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(первая групп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71640" y="3357720"/>
            <a:ext cx="1665360" cy="26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73160"/>
            <a:ext cx="8229600" cy="15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cc00ff"/>
                </a:solidFill>
                <a:latin typeface="Times New Roman"/>
              </a:rPr>
              <a:t>Самая непроглядная темень, густой тума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cc00ff"/>
                </a:solidFill>
                <a:latin typeface="Times New Roman"/>
              </a:rPr>
              <a:t>Существует две версии происхождения данного выражения. По первой, старинное слово «зга»  произошло от «стьга» (стёжка, дорожка, тропинка). Поэтому выражение «ни зги не видно» буквально означает: не видно дороги, тропы, пут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cc00ff"/>
                </a:solidFill>
                <a:latin typeface="Times New Roman"/>
              </a:rPr>
              <a:t>По второй версии, старинное слово «зга»  означало металлическое колечко на дуге упряжи лошади, к которому прикрепляется повод. В метель, пургу, темень, когда, сидя в санях или телеге, даже колечка на дуге не увидишь, ямщик так и говорил: «Вот темень! Ни зги не видно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109520" y="293760"/>
            <a:ext cx="6532560" cy="1371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99"/>
                    </a:gs>
                    <a:gs pos="100000">
                      <a:srgbClr val="ffffcc"/>
                    </a:gs>
                  </a:gsLst>
                  <a:lin ang="5400000"/>
                </a:gradFill>
                <a:latin typeface="Times New Roman"/>
              </a:rPr>
              <a:t>Ни зги не видн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99"/>
                  </a:gs>
                  <a:gs pos="100000">
                    <a:srgbClr val="ffffcc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789360" y="3935520"/>
            <a:ext cx="4702320" cy="2695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26880" y="1730520"/>
            <a:ext cx="4899240" cy="482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dur="indefinite" fill="hold">
                      <p:stCondLst>
                        <p:cond delay="indefinite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тренируемся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…гущённое молоко, 2) прекрасное …доровье, 3) …берегательная касса, 4) …дание кинотеатра, 5) …дешние жители, 6) …горбленный человек, 7) …бритая бород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604360" y="206064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691480" y="2841480"/>
            <a:ext cx="4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151840" y="2441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080200" y="308916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90160" y="350028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174160" y="393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691480" y="4282920"/>
            <a:ext cx="4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dur="indefinite" fill="hold">
                      <p:stCondLst>
                        <p:cond delay="indefinite"/>
                      </p:stCondLst>
                      <p:childTnLst>
                        <p:par>
                          <p:cTn id="1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2812 -0.00185 L -0.77812 -0.00185 E">
                                      <p:cBhvr>
                                        <p:cTn id="159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7326 -0.04208 L -0.81597 -0.04208 E">
                                      <p:cBhvr>
                                        <p:cTn id="163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dur="indefinite" fill="hold">
                      <p:stCondLst>
                        <p:cond delay="indefinite"/>
                      </p:stCondLst>
                      <p:childTnLst>
                        <p:par>
                          <p:cTn id="1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614 0.01619 L -0.51614 0.01619 E">
                                      <p:cBhvr>
                                        <p:cTn id="167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dur="indefinite" fill="hold">
                      <p:stCondLst>
                        <p:cond delay="indefinite"/>
                      </p:stCondLst>
                      <p:childTnLst>
                        <p:par>
                          <p:cTn id="1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017 -0.00486 L -0.30816 -0.00486 E">
                                      <p:cBhvr>
                                        <p:cTn id="171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dur="indefinite" fill="hold">
                      <p:stCondLst>
                        <p:cond delay="indefinite"/>
                      </p:stCondLst>
                      <p:childTnLst>
                        <p:par>
                          <p:cTn id="1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3264 -0.06474 L -0.78264 -0.06474 E">
                                      <p:cBhvr>
                                        <p:cTn id="175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dur="indefinite" fill="hold">
                      <p:stCondLst>
                        <p:cond delay="indefinite"/>
                      </p:stCondLst>
                      <p:childTnLst>
                        <p:par>
                          <p:cTn id="1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764 -0.05433 L -0.55764 -0.05433 E">
                                      <p:cBhvr>
                                        <p:cTn id="179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dur="indefinite" fill="hold">
                      <p:stCondLst>
                        <p:cond delay="indefinite"/>
                      </p:stCondLst>
                      <p:childTnLst>
                        <p:par>
                          <p:cTn id="1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7708 -0.04231 L -0.82708 -0.04231 E">
                                      <p:cBhvr>
                                        <p:cTn id="183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06160"/>
            <a:ext cx="777240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979640" y="333360"/>
            <a:ext cx="4968720" cy="1243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нравилось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124000" y="1700280"/>
            <a:ext cx="5184720" cy="1525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Запомнили?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4360" y="3716280"/>
            <a:ext cx="7777080" cy="2808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dur="indefinite" fill="hold">
                      <p:stCondLst>
                        <p:cond delay="indefinite"/>
                      </p:stCondLst>
                      <p:childTnLst>
                        <p:par>
                          <p:cTn id="1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dur="indefinite" fill="hold">
                      <p:stCondLst>
                        <p:cond delay="indefinite"/>
                      </p:stCondLst>
                      <p:childTnLst>
                        <p:par>
                          <p:cTn id="1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dur="indefinite" fill="hold">
                      <p:stCondLst>
                        <p:cond delay="indefinite"/>
                      </p:stCondLst>
                      <p:childTnLst>
                        <p:par>
                          <p:cTn id="1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Times New Roman"/>
              </a:rPr>
              <a:t>Сколько их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708360" y="1483920"/>
            <a:ext cx="47498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-(во-)                Па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взо-)                   Пере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-                      По-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-                       Под- (подо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-                        Пра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изо-)                   Пред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-                       Про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д- (надо-)        (разо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-, недо-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со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-                         Су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- (обо-)            У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- (ото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546200" y="2351160"/>
            <a:ext cx="1368360" cy="215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Большинство приставок первой группы подчиняется «главному» правилу. Гласные в них пишутся в безударном положении (слабая позиция) так, как в ударном (сильная позиция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Например: </a:t>
            </a:r>
            <a:r>
              <a:rPr b="1" i="1" lang="ru-RU" sz="3200" spc="-1" strike="noStrike">
                <a:solidFill>
                  <a:srgbClr val="cc3300"/>
                </a:solidFill>
                <a:latin typeface="Times New Roman"/>
              </a:rPr>
              <a:t>до</a:t>
            </a:r>
            <a:r>
              <a:rPr b="0" i="1" lang="ru-RU" sz="3200" spc="-1" strike="noStrike">
                <a:solidFill>
                  <a:srgbClr val="cc3300"/>
                </a:solidFill>
                <a:latin typeface="Times New Roman"/>
              </a:rPr>
              <a:t>сыта</a:t>
            </a: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, поэтому </a:t>
            </a:r>
            <a:r>
              <a:rPr b="1" i="1" lang="ru-RU" sz="3200" spc="-1" strike="noStrike">
                <a:solidFill>
                  <a:srgbClr val="cc3300"/>
                </a:solidFill>
                <a:latin typeface="Times New Roman"/>
              </a:rPr>
              <a:t>до</a:t>
            </a:r>
            <a:r>
              <a:rPr b="0" i="1" lang="ru-RU" sz="3200" spc="-1" strike="noStrike">
                <a:solidFill>
                  <a:srgbClr val="cc3300"/>
                </a:solidFill>
                <a:latin typeface="Times New Roman"/>
              </a:rPr>
              <a:t>еха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006800" y="428760"/>
            <a:ext cx="1133640" cy="150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imes New Roman"/>
              </a:rPr>
              <a:t>Секрет безошибочного пись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Раз все приставки пишутся одинаково, то и секрет их письма несложен. Надо просто </a:t>
            </a:r>
            <a:r>
              <a:rPr b="0" lang="ru-RU" sz="4400" spc="-1" strike="noStrike">
                <a:solidFill>
                  <a:srgbClr val="660033"/>
                </a:solidFill>
                <a:latin typeface="Times New Roman"/>
              </a:rPr>
              <a:t>узнавать</a:t>
            </a: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 их в слова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619280" y="4149720"/>
            <a:ext cx="2305080" cy="503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     д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140360" y="4221000"/>
            <a:ext cx="1590480" cy="708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игнуть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411280" y="4149720"/>
            <a:ext cx="505080" cy="476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2843280" y="3716280"/>
            <a:ext cx="288720" cy="693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2344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Times New Roman"/>
              </a:rPr>
              <a:t>Выделите приставки в словах и запишите эти слов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2349000"/>
            <a:ext cx="77724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660033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1) ворваться, воевать, ворох, вогнать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700"/>
              </a:spcBef>
              <a:buClr>
                <a:srgbClr val="660033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2) добраться, домашний, доверить, доброт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700"/>
              </a:spcBef>
              <a:buClr>
                <a:srgbClr val="660033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3) озабоченный, оловянный, одеревенеть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700"/>
              </a:spcBef>
              <a:buClr>
                <a:srgbClr val="660033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4) предвидеть, предсказать, предмет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700"/>
              </a:spcBef>
              <a:buClr>
                <a:srgbClr val="660033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5) заработок, зарево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700"/>
              </a:spcBef>
              <a:buClr>
                <a:srgbClr val="660033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6) подписать, порох, подправить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700"/>
              </a:spcBef>
              <a:buClr>
                <a:srgbClr val="660033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7) сотрудник, соловей, соединени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700"/>
              </a:spcBef>
              <a:buClr>
                <a:srgbClr val="660033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8) поездка, полоса, полеводство, поле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213080" y="1701720"/>
            <a:ext cx="860400" cy="7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вери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660033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1) </a:t>
            </a: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во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рваться, воевать, ворох, </a:t>
            </a: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во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гнать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700"/>
              </a:spcBef>
              <a:buClr>
                <a:srgbClr val="660033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2) </a:t>
            </a: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до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браться, домашний, </a:t>
            </a: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до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верить, доброт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700"/>
              </a:spcBef>
              <a:buClr>
                <a:srgbClr val="660033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3) </a:t>
            </a: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забоченный, оловянный, </a:t>
            </a: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деревенеть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700"/>
              </a:spcBef>
              <a:buClr>
                <a:srgbClr val="660033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4) </a:t>
            </a: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пред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видеть, </a:t>
            </a: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пред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сказать, предмет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700"/>
              </a:spcBef>
              <a:buClr>
                <a:srgbClr val="660033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5) </a:t>
            </a: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за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работок, зарево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700"/>
              </a:spcBef>
              <a:buClr>
                <a:srgbClr val="660033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6) </a:t>
            </a: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под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писать, порох, </a:t>
            </a: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под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править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700"/>
              </a:spcBef>
              <a:buClr>
                <a:srgbClr val="660033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7) </a:t>
            </a: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со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трудник, соловей, </a:t>
            </a: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со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единени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700"/>
              </a:spcBef>
              <a:buClr>
                <a:srgbClr val="660033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8) </a:t>
            </a: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по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ездка, полоса, полеводство, поле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443640" y="404640"/>
            <a:ext cx="176688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Коварная приставка С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Осторожно! Она ошибкоопасн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Во-первых, потому, что она маленькая и легко ускользает от вним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А во-вторых, потому, что иногда оказывается пред звонким согласным звуком: сдаваться, сбиться, сгорбиться – чётко слышится </a:t>
            </a:r>
            <a:r>
              <a:rPr b="0" lang="en-US" sz="3200" spc="-1" strike="noStrike">
                <a:solidFill>
                  <a:srgbClr val="660033"/>
                </a:solidFill>
                <a:latin typeface="Times New Roman"/>
              </a:rPr>
              <a:t>[ </a:t>
            </a: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З</a:t>
            </a:r>
            <a:r>
              <a:rPr b="0" lang="en-US" sz="3200" spc="-1" strike="noStrike">
                <a:solidFill>
                  <a:srgbClr val="660033"/>
                </a:solidFill>
                <a:latin typeface="Times New Roman"/>
              </a:rPr>
              <a:t> ]</a:t>
            </a: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Но мы на эту удочку не попадёмся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780000" y="1484280"/>
            <a:ext cx="1296720" cy="69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692360" y="2565360"/>
            <a:ext cx="4895640" cy="1511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биться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476360" y="2708280"/>
            <a:ext cx="1008000" cy="1298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З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140360" y="3284640"/>
            <a:ext cx="428400" cy="476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995640" y="1125360"/>
            <a:ext cx="3816360" cy="1833840"/>
          </a:xfrm>
          <a:prstGeom prst="wedgeEllipseCallout">
            <a:avLst>
              <a:gd name="adj1" fmla="val -39185"/>
              <a:gd name="adj2" fmla="val 7329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га! Знаю! Опять игра «Делай как Я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1763640" y="765000"/>
            <a:ext cx="126216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 fill="hold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2344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Times New Roman"/>
              </a:rPr>
              <a:t>Есть маленькая группа слов, которая пишется с буквой З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987640" y="2060640"/>
            <a:ext cx="2016000" cy="792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здес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003640" y="3500280"/>
            <a:ext cx="1944720" cy="1152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здание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547640" y="3573360"/>
            <a:ext cx="2448000" cy="811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доровье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468360" y="3789360"/>
            <a:ext cx="838080" cy="647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1116000" y="4653000"/>
            <a:ext cx="800280" cy="762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8"/>
          <a:stretch/>
        </p:blipFill>
        <p:spPr>
          <a:xfrm>
            <a:off x="2484360" y="4653000"/>
            <a:ext cx="704880" cy="961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093080" y="2924280"/>
            <a:ext cx="1726920" cy="2160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1"/>
          <a:stretch/>
        </p:blipFill>
        <p:spPr>
          <a:xfrm>
            <a:off x="5651640" y="2060640"/>
            <a:ext cx="1371600" cy="68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dur="indefinite" fill="hold">
                      <p:stCondLst>
                        <p:cond delay="indefinite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dur="indefinite" fill="hold">
                      <p:stCondLst>
                        <p:cond delay="indefinite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3T17:09:41Z</dcterms:created>
  <dc:creator>АЛЕКС</dc:creator>
  <dc:description/>
  <dc:language>en-US</dc:language>
  <cp:lastModifiedBy>АЛЕКС</cp:lastModifiedBy>
  <dcterms:modified xsi:type="dcterms:W3CDTF">2011-02-14T15:59:45Z</dcterms:modified>
  <cp:revision>4</cp:revision>
  <dc:subject/>
  <dc:title>Приставки, которые всегда пишутся одинаково</dc:title>
</cp:coreProperties>
</file>