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043-5183-49A4-88E9-A3E1DB6D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DFD-9DB9-4DAD-8452-4E7B361F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C50-2E35-4E14-AC17-7B26742B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4E17-CAF0-44E5-89D4-838657F1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013-6380-4EBE-A821-C858F006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B714-477B-443D-A39F-218E5DF5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0D5-C7D8-4ED2-956D-9010B2B4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66B9-3212-47D8-ABB5-7035C50F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441-B447-4FEF-B4AF-3ADE0358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B0F-70D0-4B0B-94E9-9CF5D114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179-B0A7-451B-9422-CA913BC1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3BC-FC5A-468A-90BA-CA755BAE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6C7A-2C1C-4597-BF77-9C2C1D587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62;&#1077;&#1083;&#1100;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Georgia"/>
              </a:rPr>
              <a:t>Проектная деятельность</a:t>
            </a:r>
            <a:br>
              <a:rPr sz="4800"/>
            </a:br>
            <a:r>
              <a:rPr b="1" i="1" lang="en-US" sz="4800" spc="-1" strike="noStrike">
                <a:solidFill>
                  <a:srgbClr val="660066"/>
                </a:solidFill>
                <a:latin typeface="Georgia"/>
              </a:rPr>
              <a:t> в детском са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8394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Прое́кт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(от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projectus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 — </a:t>
            </a: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брошенный вперед, выступающий, выдающийся вперёд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) — это уникальный процесс, состоящий из совокупности скоординированных и управляемых видов деятельности с начальной и конечной датами, предпринятый для достижени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цели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, соответствующей конкретным требованиям, включающий ограничения по срокам, стоимости и ресур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Проект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 — это работы, планы, мероприятия и другие задачи, направленные на создание нового продук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Выполнение проекта составляет </a:t>
            </a:r>
            <a:r>
              <a:rPr b="1" i="1" lang="ru-RU" sz="2800" spc="-1" strike="noStrike">
                <a:solidFill>
                  <a:srgbClr val="660066"/>
                </a:solidFill>
                <a:latin typeface="Georgia"/>
              </a:rPr>
              <a:t>проектную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838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Georgia"/>
              </a:rPr>
              <a:t>    </a:t>
            </a:r>
            <a:r>
              <a:rPr b="1" i="1" lang="en-US" sz="2800" spc="-1" strike="noStrike">
                <a:solidFill>
                  <a:srgbClr val="660066"/>
                </a:solidFill>
                <a:latin typeface="Georgia"/>
              </a:rPr>
              <a:t>Метод проектов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это дидактическая категория, обозначающая систе­му приемов и способов овладения определенными практическими или тео­ретическими знаниями, той или иной деятельност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Georgia"/>
              </a:rPr>
              <a:t>Переход на проектный мето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занятия с включением проблемных ситуаций детского экспериментирования и т.д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комплексные блочно-тематические зан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интегр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−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частичная интегр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−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полная интегр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метод про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−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форма организации образовательного простран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−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метод развития творческого познава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Основные этапы метода проектов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1. Целеполаг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2. Планирование про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(по образовательным областям, видам деятель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3. Выполнение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4. Подведение итог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бор и анализ информ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резентация продукта проектной деятельности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Georgia"/>
              </a:rPr>
              <a:t>Примерный план работы воспитателя по подготовке проекта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1. На основе изученных проблем детей поставить цель прое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2. Разработка плана достижения цели (воспитатель обсуждает план с родителям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3. Привлечение специалистов к осуществлению соответствующих разделов прое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4. Составление плана-схемы прое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5. Сбор, накопление материа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6. Включение в план схему проекта занятий, игр и других видов детской де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7. Домашние задания для сам. выпол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8. Подведение итог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Georgia"/>
              </a:rPr>
              <a:t>Классификация проектов</a:t>
            </a:r>
            <a:br>
              <a:rPr sz="3600"/>
            </a:br>
            <a:r>
              <a:rPr b="1" i="1" lang="en-US" sz="3600" spc="-1" strike="noStrike">
                <a:solidFill>
                  <a:srgbClr val="660066"/>
                </a:solidFill>
                <a:latin typeface="Georgia"/>
              </a:rPr>
              <a:t> в Д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по 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9080" y="3885480"/>
            <a:ext cx="48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по составу учас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7640" y="2894760"/>
            <a:ext cx="47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по срокам реа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1240" y="4875840"/>
            <a:ext cx="20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по ви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ид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ктуальност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рок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тапы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этап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полагание (совместно с деть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эта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пла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этап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бор и анализ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этап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продукта проект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808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Georgia"/>
              </a:rPr>
              <a:t>Проект «Зелёный друг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7-12T06:30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