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applause.wav" ContentType="audio/x-wav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7FF1-45E0-45C1-86AF-8E3552A1C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045A-D861-4559-ACCD-821AD4CE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DAC4F-1F24-468D-AE73-CB1376C8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D7CE0-FF00-48A0-8802-52823B77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59D89-2B78-4FA3-A829-3E3C127E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AD005-522A-41F6-9E34-0C7A999F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1C30B-A4F8-4B06-BE4D-30B67844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90266-938F-45A5-827C-1E59B51A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85736-D710-452B-A7D5-4115DED7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1B7E5-92F5-4B6C-9848-6EFECD7B9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371CD-87E6-4913-9BED-3D66F5CBF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0FDFA-F100-4790-B68D-99E6350C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E7D4-A9B4-4D7D-974A-287D457F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48329-CD61-4022-B68F-FB7DE1DE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CD487-A992-4965-AA56-B0B74538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C1D9DB-7E61-4A8E-B96E-6B8822E8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7DE59-A786-484C-815F-1E9C36CD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D0AD4-6021-427D-9DFD-E202B7DB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864313-3425-45E2-A5F2-DEDDC0DA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ABBD1-C1A8-4149-A41B-71D2FFD6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9DE3E-6095-4323-9008-30FD21F2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918E2D-122C-4B09-B7E1-A6F21D38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D04C7-8AF7-45AC-8631-EF053FE3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2109-A034-4704-9FC6-D12A7DD85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6BEFB-9D83-4920-94BA-757FB69E7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D6D06-32BA-4202-BC22-39BC6FC31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C0E85-B0A7-4E2B-AB0F-19C66AAC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07170-CCCE-457C-840B-B1D4ED27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9F8EC-3C37-4047-AF17-E676C1CA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565DF-FD03-4277-8A5B-7D1EB549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CF710-A43B-4E73-B3B5-B03C4EBE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A1088-5A34-4DD8-9722-36DB5EA4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1D670-CA18-40D6-90A9-859785C3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539BB-4166-4350-9E01-B731FEE1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E599-B3BA-4721-8976-8CE65C48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32D16-A5B8-4754-9AF5-72B2AE84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AF63A-38B7-4DD5-A063-BB7BEEDCF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26E05-FC02-4211-A962-45ACE7EF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E4222-C3EC-418E-8610-4C1A658F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35EA4-B44E-468C-9A59-3B1E0D31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11CAF-7755-4D77-BEF5-A8B56C4D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B0F3B6-DEFC-4EAA-BDF7-83EA72F1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C206F-E661-4A34-AB2C-AA6BDF9C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3B7AA6-57A3-4AC9-A072-E820AA1C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B924D-3325-453C-89CD-EDD5C6E3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B428-7B13-491F-AA7B-88D380A7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0FB5A-4CAA-4290-9D79-E13937FB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1C0E3-8DE4-46FC-B415-6E9F3545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F3E1C2-F7C5-4217-A46B-A6EB8C0B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93A223-18E7-4349-AE3B-1E00F281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9B9D8-0A78-4452-94ED-1E3D38CDD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B8D707-B01C-4D25-B15E-E7970793B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7E8DBE-4363-48CD-85FA-874FCDD0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1EBFA2-83D1-4050-9466-CA383A2B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A596ED-BD1C-4B88-B81E-6E4D88C7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77701B-B53A-48A7-AD64-9F646DF1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D091-9469-4D9F-86A4-1CC7EDD0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591E91-2974-4441-B4EB-F2C508BE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9B4ED9-AFCD-4A2E-AB38-634A15A0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741F98-DBAB-42CC-9C6D-C71F6291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F94DEA-07F8-4EFD-B8F2-25AE302B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4E1CC8-A2B4-4358-A891-9B90E402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A1F797-A5F8-4300-98FA-E6B4288F7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66A0E7-91A8-4D89-84A8-F0F44AB2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AD58-C74E-4101-B1DF-10249F8A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C7DC-F8D5-45C4-B3F9-859BF570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F873-B790-4FC2-8383-35049589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6151-A17F-416C-9E60-B1A1CC70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7C93-29CB-4941-B5F1-6254DBD8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24F3-2838-4185-8EF2-DF192042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7FA1-94D8-48A2-8EE5-755A9E67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DB85-D804-4E92-9DDE-CCCEE34E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7511-DEB6-480E-A4A7-A489BD544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AF0F-1D68-473B-AC01-EC49C678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38C82-1114-4CE4-8B5D-675546FF6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70982-0F05-424B-8785-106D81F1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8D3CB-3894-436F-A876-F5A91374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E4866-825D-47EA-9E10-A4FCB339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24AFF-12BC-4FAA-845B-178C3E81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FB6F-BF0B-4569-B001-978E048F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B6E14-6A0C-41A3-A945-45626D6E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D3628-626A-49C1-876E-3C16BC4E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506AA-B557-480D-98CF-D1665A2B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188EE-75D0-44E7-9D75-0C46EB2D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258D7-B4CA-4FB1-9E47-D070871B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E6469-99FE-4E11-A057-7AD4DA341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09D09-BA99-46F7-82F0-3714B47C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FD448-0DBD-4EE8-8788-932EF8038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89D51-999E-4463-AE0C-E135DFA7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3956B-C158-4C44-9FC4-02AB2AF9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AAA5-B719-4B03-ADD2-723268F7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55D2C-A866-4C2F-BCD0-173624D7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8F71C-72C5-4F08-95F1-2915A8C5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660EE-65DD-48A8-AB49-1A0E98CB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E6E6D-200D-4A9F-812C-66F55DC8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ADF78-2604-480B-899A-B9B8EB70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EE1D9-EE35-4FB5-8F52-77E371E3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C2F11-2B71-4E27-986A-D96D88B1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2A014-9AA5-4C35-80C9-E4E8542C6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DC8F2-314D-4CD4-AB43-9F88D799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0F29B-CD3E-4867-B06F-372375189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E99B-797B-407D-8840-35127AB4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E59EA-6111-41D4-8068-2F81E7E4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1C84A-118B-49DC-8C7C-892338AE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0A481-5436-4375-96E5-73BE4FD6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13B5C-D205-48B7-836B-F7AD7365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6130D-CF95-4E6A-8D26-EB79BECC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A1234-C70F-425C-BCCA-9A341C0C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4BDB5-975C-401C-BE27-C26498FA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13AED-BAAC-4244-89A3-53D2A815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C2EEC-7031-47D8-B216-F8910B9F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3F6E8-547C-41D2-8978-1DA6B94D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F3C3-7868-4DF6-85D9-2DD09E39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61B48-0515-4E40-97D3-3564AEF45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58E05-5138-472A-BB45-327617DEA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36878-FD28-4EEB-A503-70A2D2F5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7A016-D9BE-44D4-9F7C-87A14C7C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670DE-81EE-4A66-A436-DD4BB6B9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1D4AF-0B48-4C4D-ACEA-6042956D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1500F-E7A1-46A2-855A-8BCF6F4E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4E6F4-A3C6-4CFF-83CA-2825CE8B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0AE1C-484C-4C1C-A5EC-C10B9042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48B24-9A94-4566-96C2-0C24E2B9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2727-4DB2-4107-BF80-883B2BD4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160D8-0CFE-4980-A0E8-32A7C6DD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B5664-80E1-4F01-AB5E-052561280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02B73-2BF1-4C56-BB4D-CF52057C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11873-F873-457A-92BA-CF5882912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C8232-53FB-447A-97BF-1FB0A9DE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F8CAA-92E4-4E2D-AB89-F58E84D8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8900A-DC33-43D9-B552-88A36A13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B93CB-E258-4964-B888-FC79D41C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5E016-2131-4D58-8B78-DD890B39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E1797-8C27-4808-8931-54D69228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CA95-ED77-49DF-856D-82DD852F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33443-5891-4F92-AB82-59D11067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73AED-E6E6-4C26-A053-B8E46A85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B891B-8BC7-4D5B-815B-F7D68FAF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32CC0-9ABB-45E6-9CC4-CE50A491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4E617-9338-40F9-AB95-52E261CE8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CB36A-088E-464A-A0E4-A4BA07BB3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192D3-96B7-4BDA-A1B3-27FF7B2B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14857-7A53-4592-97D8-91DD8AD2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6C13A-8218-4E12-9B0D-C9E71FE8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CBFA2-A112-44A0-A76A-F8712462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6AC5-9CF9-4922-BFD0-99A3C02E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B6960-7B78-455E-A784-3530E580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92A5A-9E8D-4E58-BE8F-849D612D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C78DA-40BB-4D51-88BD-381DA61A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C111A-9A90-456C-91B1-8DC33983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CC0D8-BA3E-4070-828B-439B76BF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A5366-6D92-4462-9551-4A9BE3BF7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7EFD0-ABF9-4DE5-B356-EA018DF41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0E60F-802C-44F6-AA47-DF38F177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895C0C-28CD-4155-96DE-5B78F919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DE960-14BC-44FF-9C4A-3730061D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008885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5615-B815-4A3C-AF90-6DEECDC525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97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008885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19FC-4B28-458E-9199-BA6D62CC05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4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008885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5654-6E03-4B63-AF42-6BB9182022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85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6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008885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0DE0-D10A-4DA6-ABC1-78238A0243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29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008885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C3D3-18A1-48B3-B86B-D51646F2E18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006361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008885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4F8A-A1E5-451E-BFD8-CC472B2604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9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008885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1F17-9716-4F87-802A-8EE23AFFBB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33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008885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8FC5-B533-42CD-BA57-E6F1E23B0D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77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008885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AED7-F967-47B3-BFA1-8B11ACDC07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2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008885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2AA8-363F-4D17-BA97-36C3FE9DCE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65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008885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7B76-ECE6-4887-ACD1-72B10B96B8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09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008885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75C7-9AD5-48C2-8312-E5539EF5F7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53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4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008885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F4BD-0ADF-45A8-9866-A6CA83EE66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ru-RU" sz="6000" spc="-1" strike="noStrike">
                <a:solidFill>
                  <a:srgbClr val="ffff99"/>
                </a:solidFill>
                <a:latin typeface="Tahoma"/>
              </a:rPr>
              <a:t>ПРОЕКТ </a:t>
            </a:r>
            <a:br>
              <a:rPr sz="6000"/>
            </a:br>
            <a:r>
              <a:rPr b="0" lang="ru-RU" sz="6000" spc="-1" strike="noStrike">
                <a:solidFill>
                  <a:srgbClr val="ffff99"/>
                </a:solidFill>
                <a:latin typeface="Tahoma"/>
              </a:rPr>
              <a:t>«Моя Родина – Алтайский край»</a:t>
            </a:r>
            <a:endParaRPr b="0" lang="en-US" sz="60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p:transition spd="med" advTm="5000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ПЛАН РАБОТЫ ПО РЕАЛИЗАЦИИ ПРОЕКТА</a:t>
            </a:r>
            <a:endParaRPr b="0" lang="en-US" sz="2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1476360" y="1297080"/>
            <a:ext cx="37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500040" y="662040"/>
          <a:ext cx="8429760" cy="5205240"/>
        </p:xfrm>
        <a:graphic>
          <a:graphicData uri="http://schemas.openxmlformats.org/drawingml/2006/table">
            <a:tbl>
              <a:tblPr/>
              <a:tblGrid>
                <a:gridCol w="474840"/>
                <a:gridCol w="2805120"/>
                <a:gridCol w="3460680"/>
                <a:gridCol w="1689120"/>
              </a:tblGrid>
              <a:tr h="1926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Этап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Цель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Участник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52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Беседа « Флора и фауна Алтайского края»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асширять представление о многообразии животного и растительного мира; закреплять знания о животных и растениях родного края; расширит представления о взаимосвязях животных со средой обитания; воспитывать осознанное отношение к миру природы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спитатели, дет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Беседа «Выдающиеся люди Алтайского края»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формировать представление о выдающихся личностях Алтайского края, прославивших свой край; воспитывать чувства признательности, уважения к труду людей, внесших вклад в развитие края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спитатели, дет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332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ткрытое занятие для родителей «Хлеб-богатство Алтайского края»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родолжать знакомить детей с родным краем, его населением, трудом, которым они занимаются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уточнить и закрепить представление детей о выращивании хлеба ; воспитывать уважение и благодарное отношение к труду людей, участвующих в его выращивании и в производстве; бережное отношение к хлебу, любовь к родному краю ;развивать связную речь детей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спитатели, дет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412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Творческая мастерская. Знакомство с работами учащихся школы искусств, посвященных 75-летию Алтайского кр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ознакомить детей с творческой деятельностью учащихся школы искусств; развивать интерес к своему городу и Алтайскому краю; учить оценивать работы, выражая свое мнение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реподаватель школы искусств, воспитатели, воспитанник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8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ПЛАН РАБОТЫ ПО РЕАЛИЗАЦИИ ПРОЕКТА</a:t>
            </a:r>
            <a:endParaRPr b="0" lang="en-US" sz="2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105520" y="1773000"/>
            <a:ext cx="40384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428760" y="1146240"/>
          <a:ext cx="8429400" cy="5634000"/>
        </p:xfrm>
        <a:graphic>
          <a:graphicData uri="http://schemas.openxmlformats.org/drawingml/2006/table">
            <a:tbl>
              <a:tblPr/>
              <a:tblGrid>
                <a:gridCol w="474480"/>
                <a:gridCol w="2805120"/>
                <a:gridCol w="3460680"/>
                <a:gridCol w="1689120"/>
              </a:tblGrid>
              <a:tr h="2430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Эта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Ц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Участни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нкурс рисунков , объемных работ «Мой край родной!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Учить детей задумывать содержание своего рисунка, вспоминая необходимые способы изображения, развивать изобразительное творчество, образное восприятие; воспитывать чувство патриотизма, любви к совей Родине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спитатели, дети, родит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Фотовыставка « Мое любимое место в городе», выставка объемных рабо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асширять представление детей о родном  городе; продолжать формировать интерес к «малой Родине»; прививать чувство гордости, патриотизм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спитатели, дети, родит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7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Игра « Свой край люби, знай и почитай!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бобщить знания детей о растительном и животном мире родного края; развивать интерес к изучению своей Родины, умение делать выводы; воспитывать чувства гордости, любви, ответственности за родную природу, бережное отношение к ней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спитатели, воспитанни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34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8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ткрытое занятие «Наш город» (коллективная композици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овторить и систематизировать изученный материал об Алтайском крае и городе Барнаул; закрепить вырезывание домов из бумаги, сложенной гармошкой или дважды пополам; совершенствовать технику вырезания ножницами, на глаз – по прямой, по косой; развивать композиционные умения при создании панорамы улицы, ритмично располагая дома рядами; воспитать чувство патриотизма, любви к своей малой Родине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спитатели. де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4000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Беседа 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«Флора и фауна Алтайского края»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595" name="Picture 5" descr="G:\DCIM\100PHOTO\SAM_1460.JPG"/>
          <p:cNvPicPr/>
          <p:nvPr/>
        </p:nvPicPr>
        <p:blipFill>
          <a:blip r:embed="rId1"/>
          <a:stretch/>
        </p:blipFill>
        <p:spPr>
          <a:xfrm>
            <a:off x="457200" y="23335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7" descr="G:\DCIM\100PHOTO\SAM_1480.JPG"/>
          <p:cNvPicPr/>
          <p:nvPr/>
        </p:nvPicPr>
        <p:blipFill>
          <a:blip r:embed="rId2"/>
          <a:stretch/>
        </p:blipFill>
        <p:spPr>
          <a:xfrm>
            <a:off x="4648320" y="23335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advTm="1000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Tahoma"/>
              </a:rPr>
              <a:t>Беседа </a:t>
            </a: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Tahoma"/>
              </a:rPr>
              <a:t>«Выдающиеся люди Алтайского края»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598" name="Picture 8" descr="G:\DCIM\100PHOTO\SAM_1477.JPG"/>
          <p:cNvPicPr/>
          <p:nvPr/>
        </p:nvPicPr>
        <p:blipFill>
          <a:blip r:embed="rId1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4" descr="G:\DCIM\100PHOTO\SAM_1481.JPG"/>
          <p:cNvPicPr/>
          <p:nvPr/>
        </p:nvPicPr>
        <p:blipFill>
          <a:blip r:embed="rId2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G:\DCIM\100MEDIA\PIC_0353.JPG"/>
          <p:cNvPicPr/>
          <p:nvPr/>
        </p:nvPicPr>
        <p:blipFill>
          <a:blip r:embed="rId3"/>
          <a:stretch/>
        </p:blipFill>
        <p:spPr>
          <a:xfrm>
            <a:off x="3286080" y="3929040"/>
            <a:ext cx="2895480" cy="217188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imes New Roman"/>
                <a:ea typeface="Calibri"/>
              </a:rPr>
              <a:t>Открытое занятие для родителей 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Times New Roman"/>
                <a:ea typeface="Calibri"/>
              </a:rPr>
              <a:t>«Хлеб-богатство Алтайского края»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602" name="Picture 6" descr="H:\IMG_1609.JPG"/>
          <p:cNvPicPr/>
          <p:nvPr/>
        </p:nvPicPr>
        <p:blipFill>
          <a:blip r:embed="rId1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H:\IMG_1586.JPG"/>
          <p:cNvPicPr/>
          <p:nvPr/>
        </p:nvPicPr>
        <p:blipFill>
          <a:blip r:embed="rId2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H:\IMG_1595.JPG"/>
          <p:cNvPicPr/>
          <p:nvPr/>
        </p:nvPicPr>
        <p:blipFill>
          <a:blip r:embed="rId3"/>
          <a:stretch/>
        </p:blipFill>
        <p:spPr>
          <a:xfrm>
            <a:off x="3286080" y="3857760"/>
            <a:ext cx="2286000" cy="231444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in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  <a:ea typeface="Calibri"/>
              </a:rPr>
              <a:t>Творческая мастерская. Знакомство с работами учащихся школы искусств, посвященных 75-летию Алтайского края</a:t>
            </a:r>
            <a:br>
              <a:rPr sz="4000"/>
            </a:b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606" name="Picture 4" descr="G:\DCIM\100PHOTO\SAM_1467.JPG"/>
          <p:cNvPicPr/>
          <p:nvPr/>
        </p:nvPicPr>
        <p:blipFill>
          <a:blip r:embed="rId1"/>
          <a:stretch/>
        </p:blipFill>
        <p:spPr>
          <a:xfrm>
            <a:off x="457200" y="23335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5" descr="G:\DCIM\100PHOTO\SAM_1468.JPG"/>
          <p:cNvPicPr/>
          <p:nvPr/>
        </p:nvPicPr>
        <p:blipFill>
          <a:blip r:embed="rId2"/>
          <a:stretch/>
        </p:blipFill>
        <p:spPr>
          <a:xfrm>
            <a:off x="4648320" y="23335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advTm="6000">
    <p:strips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imes New Roman"/>
                <a:ea typeface="Calibri"/>
              </a:rPr>
              <a:t>Конкурс рисунков «Мой край родной!»</a:t>
            </a:r>
            <a:br>
              <a:rPr sz="4000"/>
            </a:b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609" name="Picture 5" descr="G:\DCIM\100PHOTO\SAM_1471.JPG"/>
          <p:cNvPicPr/>
          <p:nvPr/>
        </p:nvPicPr>
        <p:blipFill>
          <a:blip r:embed="rId1"/>
          <a:stretch/>
        </p:blipFill>
        <p:spPr>
          <a:xfrm>
            <a:off x="1576440" y="1600200"/>
            <a:ext cx="5991120" cy="449568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 txBox="1"/>
          <p:nvPr/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Times New Roman"/>
                <a:ea typeface="Calibri"/>
              </a:rPr>
              <a:t>Фотовыставка </a:t>
            </a:r>
            <a:br>
              <a:rPr sz="3600"/>
            </a:br>
            <a:r>
              <a:rPr b="0" lang="ru-RU" sz="3600" spc="-1" strike="noStrike">
                <a:solidFill>
                  <a:srgbClr val="ffff99"/>
                </a:solidFill>
                <a:latin typeface="Times New Roman"/>
                <a:ea typeface="Calibri"/>
              </a:rPr>
              <a:t>« Мое любимое место в городе»</a:t>
            </a:r>
            <a:endParaRPr b="0" lang="en-US" sz="36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612" name="Picture 5" descr="G:\DCIM\100PHOTO\SAM_1473.JPG"/>
          <p:cNvPicPr/>
          <p:nvPr/>
        </p:nvPicPr>
        <p:blipFill>
          <a:blip r:embed="rId1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6" descr="G:\DCIM\100PHOTO\SAM_1474.JPG"/>
          <p:cNvPicPr/>
          <p:nvPr/>
        </p:nvPicPr>
        <p:blipFill>
          <a:blip r:embed="rId2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7" descr="G:\DCIM\100PHOTO\SAM_1469.JPG"/>
          <p:cNvPicPr/>
          <p:nvPr/>
        </p:nvPicPr>
        <p:blipFill>
          <a:blip r:embed="rId3"/>
          <a:stretch/>
        </p:blipFill>
        <p:spPr>
          <a:xfrm>
            <a:off x="1028880" y="392436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8" descr="G:\DCIM\100PHOTO\SAM_1470.JPG"/>
          <p:cNvPicPr/>
          <p:nvPr/>
        </p:nvPicPr>
        <p:blipFill>
          <a:blip r:embed="rId4"/>
          <a:stretch/>
        </p:blipFill>
        <p:spPr>
          <a:xfrm>
            <a:off x="5219640" y="3924360"/>
            <a:ext cx="2895840" cy="217152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Открытое занятие «Наш город»            (коллективная композиция»</a:t>
            </a:r>
            <a:endParaRPr b="0" lang="en-US" sz="2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5720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8" name="Picture 5" descr="G:\DCIM\100PHOTO\SAM_1463.JPG"/>
          <p:cNvPicPr/>
          <p:nvPr/>
        </p:nvPicPr>
        <p:blipFill>
          <a:blip r:embed="rId1"/>
          <a:stretch/>
        </p:blipFill>
        <p:spPr>
          <a:xfrm>
            <a:off x="3000240" y="150012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" descr="G:\DCIM\100PHOTO\SAM_1465.JPG"/>
          <p:cNvPicPr/>
          <p:nvPr/>
        </p:nvPicPr>
        <p:blipFill>
          <a:blip r:embed="rId2"/>
          <a:stretch/>
        </p:blipFill>
        <p:spPr>
          <a:xfrm>
            <a:off x="1028880" y="392436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7" descr="G:\DCIM\100PHOTO\SAM_1466.JPG"/>
          <p:cNvPicPr/>
          <p:nvPr/>
        </p:nvPicPr>
        <p:blipFill>
          <a:blip r:embed="rId3"/>
          <a:stretch/>
        </p:blipFill>
        <p:spPr>
          <a:xfrm>
            <a:off x="5219640" y="3924360"/>
            <a:ext cx="2895840" cy="217152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Tahoma"/>
              </a:rPr>
              <a:t>Использованные ресурсы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213840" y="1600200"/>
            <a:ext cx="847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тератур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. Д. Пашкевич «Таинства педагогического проектирования в ДОУ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. К. Силевко «Современные педагогические образовательные технологии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. В. Жукова «Проектировочная деятельность в образовательном процессе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тернет – ресурс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6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ойчук Т.В., Бабкина Е. 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99"/>
                </a:solidFill>
                <a:latin typeface="Tahoma"/>
              </a:rPr>
              <a:t>Авторы проекта: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p:transition advTm="5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WordArt 4"/>
          <p:cNvSpPr txBox="1"/>
          <p:nvPr/>
        </p:nvSpPr>
        <p:spPr>
          <a:xfrm>
            <a:off x="900000" y="260280"/>
            <a:ext cx="7417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 </a:t>
            </a:r>
            <a:endParaRPr b="0" lang="en-US" sz="1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4" name="WordArt 5"/>
          <p:cNvSpPr txBox="1"/>
          <p:nvPr/>
        </p:nvSpPr>
        <p:spPr>
          <a:xfrm>
            <a:off x="755640" y="2492280"/>
            <a:ext cx="74167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 свидания!</a:t>
            </a:r>
            <a:endParaRPr b="0" lang="en-US" sz="1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5000">
    <p:zoom dir="in"/>
    <p:sndAc>
      <p:stSnd>
        <p:snd r:embed="rId5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Tahoma"/>
              </a:rPr>
              <a:t>Тип проекта:</a:t>
            </a:r>
            <a:br>
              <a:rPr sz="4400"/>
            </a:br>
            <a:r>
              <a:rPr b="1" lang="ru-RU" sz="4400" spc="-1" strike="noStrike">
                <a:solidFill>
                  <a:srgbClr val="ffff99"/>
                </a:solidFill>
                <a:latin typeface="Tahoma"/>
              </a:rPr>
              <a:t>групповой, краткосрочный, иформационно-практико - ориентированный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p:transition advTm="6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Tahoma"/>
              </a:rPr>
              <a:t>Актуальность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енаправленное ознакомление ребенка с родным краем – это составная часть формирования у него патриотизма. Ведь чувство Родины малыша связывается с местом, где он родился и живёт. Наша задача – углубить это чувство, помочь растущему человеку открывать Родину в том, что ему близко и дорого – в ближайшем окружении. Расширить круг представлений о родном крае, дать о нем некоторые доступные для ребенка исторические сведения, показав всё, что свято чтут люди, - значит раздвинуть горизонты познаваемого, заронив в детское сердце искорку любви к Родин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АКТУАЛЬНОСТЬ РАЗРАБОТКИ  И РЕАЛИЗАЦИИ ПЕДАГОГИЧЕСКОГО ПРОЕКТА:</a:t>
            </a: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Целенаправленное ознакомление ребенка с родным краем – это составная часть формирования у него патриотизма. Ведь чувство Родины малыша связывается с местом, где он родился и живёт. Наша задача – углубить это чувство, помочь растущему человеку открывать Родину в том, что ему близко и дорого – в ближайшем окружении. Расширить круг представлений о родном крае, дать о нем некоторые доступные для ребенка исторические сведения, показав всё, что свято чтут люди, - значит раздвинуть горизонты познаваемого, заронив в детское сердце искорку любви к Родин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Tahoma"/>
              </a:rPr>
              <a:t>Гипотеза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сли в воспитательно-образовательную работу  ввести систему мероприятий по расширению знаний детей о ближайшем окружении и родном крае, то это позволит значительно повысить их осведомление в этой области, а также будет способствовать эффективному воспитанию патриотизма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Tahoma"/>
              </a:rPr>
              <a:t>Цель проекта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здать условия для воспитания чувства патриотизма, любви к родному краю  через совместную познавательную, творческую  деятельность детей и  взросл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8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крепить знания детей о своей малой Родине, истории Алтайского края и Барнаула; расширить знания детей о флоре и фауне Алтайского края; воспитывать любовь к родному городу, краю, умение видеть прекрасное, гордиться им; развивать творческие способности детей в продуктивной деятельности; повысить мастерство педагогов в вопросах организации работы по краеведени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Tahoma"/>
              </a:rPr>
              <a:t>Предполагаемые результаты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вышение уровня развития воспитанников групп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здание познавательной предметной среды в групп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ьбом «Красоты Алтайского края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тоархи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иртуальный архи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ставка рисунк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крытое занят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27T12:03:18Z</dcterms:modified>
  <cp:revision>74</cp:revision>
  <dc:subject/>
  <dc:title>PowerPoint Presentation</dc:title>
</cp:coreProperties>
</file>