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4630F-6815-44CF-B78A-D99FA01172C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39DF2-3957-4078-843E-AE05D2E3E8F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CC964-377C-432C-8C70-74979B5540C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B29E4-190D-43EB-9453-F1E597D1390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67BDD-8000-46A1-A3F1-CCAE12B56DF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1AEEF-CA6E-4C20-B5B4-631F4F9103A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9F00D-1B3A-4BF4-B7C5-8A471A8E75F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795A5-4D99-43A0-85A3-C42A1D0C801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DF68D-C465-4425-BFD0-42410A9CCA2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1CA18-C665-42BD-A339-4791FEE5321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14E38-938E-490B-A47D-C357D20D752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E8E2-9A59-4980-AAC7-94E4555E5C0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96C10-5703-43F1-BD6A-5C8CD26190A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5A8E5-3C50-48E1-A260-94749072283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A276C-1081-4395-AA0E-58C0B8BFB7B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045E2-28C7-4131-AA5D-110E476D51E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A6644-BF4A-462B-B264-56369EF0A57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B7C41-891E-48DF-A879-C58B71E8F6D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9A880-078D-4BE6-80E2-477A30B73D4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C7519-1CF0-4B66-A43C-499A8261EEF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695A-9D35-4D86-9068-B090DB60C08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70301-8A56-47C2-A49A-FAE3A72A299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5D8CC-2234-44BB-874E-EF78C55D49F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87CEA-664F-4EA8-BC01-27C8D4B177A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FECE5-D2E0-40DF-921F-805D131AC21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F4F46-505F-4A10-92AC-E8F2B127FD9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D09AF-4CE4-463B-A3E8-579A0ADE96A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5483C-AC46-4DB8-8A19-94D1CC44AC2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A7C92-812C-46E6-BF1D-27E328A610A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240C3-64F7-47A1-A4BE-56A99D411EB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C402-D417-481C-B3E7-9AD093BA4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6210-FA26-4CBD-82B6-E18950A62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226C-B742-4E18-91F8-1D0885599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CF5C-7F5D-4697-9554-BF91A7B58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5DC1-4248-4598-94AD-628E46997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FF1E-7034-4EF0-AC2F-BE3AC013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6EA8-013B-4E06-B815-29DF299A7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7E65-784C-487E-94DE-BA98C46A5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2D93-B59A-40A3-91EE-74F391AD0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F2F5-F2FF-4E51-BD3C-37AFBAE3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1F4E-B5C0-4001-BD17-636B3098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CECE-4CCB-4D28-9BD6-F282D4B5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97fa"/>
            </a:gs>
            <a:gs pos="100000">
              <a:srgbClr val="d4ea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7716-B774-4044-95F0-F7642AE6D8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47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7667640" y="189000"/>
            <a:ext cx="1290600" cy="1800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"/>
          <p:cNvSpPr/>
          <p:nvPr/>
        </p:nvSpPr>
        <p:spPr>
          <a:xfrm>
            <a:off x="0" y="1304640"/>
            <a:ext cx="8713800" cy="38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офессиональное здоровье. Профессиональные деформац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офессиональные деструкц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60" y="3357360"/>
            <a:ext cx="8785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Профессиональное здоров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51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395280" y="6020280"/>
            <a:ext cx="828036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0" y="1773360"/>
            <a:ext cx="3743280" cy="15843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жличностные контакт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моционально насыще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5400720" y="1773360"/>
            <a:ext cx="3743280" cy="158436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тоянное включ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левых процесс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2268360" y="0"/>
            <a:ext cx="4824720" cy="16286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щущение новизны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повторимости ситуац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осуществлен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фессиональной деятель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4572000" y="4437000"/>
            <a:ext cx="4390920" cy="208908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обходимость постоянног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моразвития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держа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фессиональной фор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0" y="4437000"/>
            <a:ext cx="4390920" cy="2089080"/>
          </a:xfrm>
          <a:prstGeom prst="rect">
            <a:avLst/>
          </a:pr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сокая ответственн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 жизнь и здоровье люд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11"/>
          <p:cNvSpPr/>
          <p:nvPr/>
        </p:nvSpPr>
        <p:spPr>
          <a:xfrm flipV="1">
            <a:off x="4572000" y="1628280"/>
            <a:ext cx="0" cy="180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12"/>
          <p:cNvSpPr/>
          <p:nvPr/>
        </p:nvSpPr>
        <p:spPr>
          <a:xfrm flipV="1">
            <a:off x="7020000" y="3429000"/>
            <a:ext cx="79200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13"/>
          <p:cNvSpPr/>
          <p:nvPr/>
        </p:nvSpPr>
        <p:spPr>
          <a:xfrm flipH="1" flipV="1">
            <a:off x="826920" y="3429000"/>
            <a:ext cx="86544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4"/>
          <p:cNvSpPr/>
          <p:nvPr/>
        </p:nvSpPr>
        <p:spPr>
          <a:xfrm flipH="1">
            <a:off x="2771280" y="3933720"/>
            <a:ext cx="1729080" cy="43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5"/>
          <p:cNvSpPr/>
          <p:nvPr/>
        </p:nvSpPr>
        <p:spPr>
          <a:xfrm>
            <a:off x="4643280" y="3933720"/>
            <a:ext cx="1729080" cy="43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8785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Эмоциональное выгоран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— </a:t>
            </a:r>
            <a:br>
              <a:rPr sz="2400"/>
            </a:br>
            <a:br>
              <a:rPr sz="24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намический процесс и возникает поэтапно, в полном соответствии с механизмом развития стресса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и фазы накопленного стресса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1979640" y="2276640"/>
            <a:ext cx="5616720" cy="86508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рвное (тревожное) напряже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2411280" y="3789360"/>
            <a:ext cx="4753080" cy="934920"/>
          </a:xfrm>
          <a:prstGeom prst="rect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зистенц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3132000" y="5300640"/>
            <a:ext cx="3240360" cy="1224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стощ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7"/>
          <p:cNvSpPr/>
          <p:nvPr/>
        </p:nvSpPr>
        <p:spPr>
          <a:xfrm>
            <a:off x="4716360" y="2997360"/>
            <a:ext cx="0" cy="936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8"/>
          <p:cNvSpPr/>
          <p:nvPr/>
        </p:nvSpPr>
        <p:spPr>
          <a:xfrm>
            <a:off x="4716360" y="4581360"/>
            <a:ext cx="0" cy="1008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езистен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рофессионал  пытается более или менее успешно оградить себя от неприятных впечатл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SilverOnBlue (32)"/>
          <p:cNvPicPr/>
          <p:nvPr/>
        </p:nvPicPr>
        <p:blipFill>
          <a:blip r:embed="rId1"/>
          <a:stretch/>
        </p:blipFill>
        <p:spPr>
          <a:xfrm>
            <a:off x="2484360" y="3213000"/>
            <a:ext cx="457200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стощ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скудение психических ресурсов, снижение эмоционального тон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SilverOnBlue (19)"/>
          <p:cNvPicPr/>
          <p:nvPr/>
        </p:nvPicPr>
        <p:blipFill>
          <a:blip r:embed="rId1"/>
          <a:stretch/>
        </p:blipFill>
        <p:spPr>
          <a:xfrm>
            <a:off x="0" y="2852640"/>
            <a:ext cx="914400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рвное (тревожное) напряжение служит «запускающим» механизмом в формировании эмоционального выгорания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0560" y="2060280"/>
            <a:ext cx="878508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мптом «переживания психотравмирующих обстоятельств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мптом «неудовлетворенности собой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мптом «загнанности в клетку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мптом «тревоги и депресси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резмерная актив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каз от потребностей, не связанных с работ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теснение из сознания переживаний неудач и разочарова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граничение социальных контак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увство устал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ссонниц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гроза несчастных случа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3421"/>
          <p:cNvPicPr/>
          <p:nvPr/>
        </p:nvPicPr>
        <p:blipFill>
          <a:blip r:embed="rId1"/>
          <a:stretch/>
        </p:blipFill>
        <p:spPr>
          <a:xfrm>
            <a:off x="5796000" y="4653000"/>
            <a:ext cx="31748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ормирование фазы резистенции происходит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фоне следующих явлений: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Симптом «неадекватного избирательного реагировани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Симптом «эмоционально-нравственной дезориентации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».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Симптом «расширения сферы экономии эмоций»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 Симптом «редукции профессиональных обязанностей».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) По отношению к коллегам, пострадавши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писывание вины за собственные неудачи другим людя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минирование стереотипов в поведении по отношению к сотрудник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отношению к остальным окружающи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  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утствие эмпат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  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иничные оцен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отношению к профессиональной деятель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  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желание выполнять свои обязан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  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удовлетворенность работ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увство переживания того, что другие люди используют теб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118-1"/>
          <p:cNvPicPr/>
          <p:nvPr/>
        </p:nvPicPr>
        <p:blipFill>
          <a:blip r:embed="rId1"/>
          <a:stretch/>
        </p:blipFill>
        <p:spPr>
          <a:xfrm>
            <a:off x="6696000" y="3716280"/>
            <a:ext cx="244800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аза истощения </a:t>
            </a:r>
            <a:br>
              <a:rPr sz="24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моциональная защита в форме «выгорания» становится неотъемлемым атрибутом личности.</a:t>
            </a:r>
            <a:br>
              <a:rPr sz="2000"/>
            </a:b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мптом «эмоционального дефицита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мптом «эмоциональной отстраненности».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мптом «личностной отстраненности или деперсонализации».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мптом «психосоматических и психовегетативных нарушений».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 снижение концентрации внимания, отсутствие способности выполнить сложные зад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гидность мышления, отсутствие воображ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способность к релакс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теря интереса к професс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висимость от психоактивных вещест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сихосоматические расстройства и заболе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a_511294832_pic_s"/>
          <p:cNvPicPr/>
          <p:nvPr/>
        </p:nvPicPr>
        <p:blipFill>
          <a:blip r:embed="rId1"/>
          <a:stretch/>
        </p:blipFill>
        <p:spPr>
          <a:xfrm>
            <a:off x="7596360" y="400536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20080819114029"/>
          <p:cNvPicPr/>
          <p:nvPr/>
        </p:nvPicPr>
        <p:blipFill>
          <a:blip r:embed="rId2"/>
          <a:stretch/>
        </p:blipFill>
        <p:spPr>
          <a:xfrm>
            <a:off x="6588000" y="5300640"/>
            <a:ext cx="157176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2124000" y="3068640"/>
            <a:ext cx="468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моциональное выгорание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фессионал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трагивае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ледующие сфе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Oval 5"/>
          <p:cNvSpPr/>
          <p:nvPr/>
        </p:nvSpPr>
        <p:spPr>
          <a:xfrm>
            <a:off x="539640" y="4653000"/>
            <a:ext cx="2376720" cy="1871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фессиональную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фер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Oval 7"/>
          <p:cNvSpPr/>
          <p:nvPr/>
        </p:nvSpPr>
        <p:spPr>
          <a:xfrm>
            <a:off x="3276720" y="692280"/>
            <a:ext cx="2232000" cy="1871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ичностную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фер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Oval 8"/>
          <p:cNvSpPr/>
          <p:nvPr/>
        </p:nvSpPr>
        <p:spPr>
          <a:xfrm>
            <a:off x="6372360" y="4581360"/>
            <a:ext cx="2232000" cy="18720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феру семейны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ноше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9"/>
          <p:cNvSpPr/>
          <p:nvPr/>
        </p:nvSpPr>
        <p:spPr>
          <a:xfrm>
            <a:off x="6300720" y="1197000"/>
            <a:ext cx="2232000" cy="1871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феру развит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ллекти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Oval 10"/>
          <p:cNvSpPr/>
          <p:nvPr/>
        </p:nvSpPr>
        <p:spPr>
          <a:xfrm>
            <a:off x="395280" y="981000"/>
            <a:ext cx="2376360" cy="1871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мидж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фесс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2"/>
          <p:cNvSpPr/>
          <p:nvPr/>
        </p:nvSpPr>
        <p:spPr>
          <a:xfrm>
            <a:off x="2411280" y="3141720"/>
            <a:ext cx="4032360" cy="1439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3"/>
          <p:cNvSpPr/>
          <p:nvPr/>
        </p:nvSpPr>
        <p:spPr>
          <a:xfrm flipH="1" flipV="1">
            <a:off x="1186920" y="2924280"/>
            <a:ext cx="1008360" cy="72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4"/>
          <p:cNvSpPr/>
          <p:nvPr/>
        </p:nvSpPr>
        <p:spPr>
          <a:xfrm flipV="1">
            <a:off x="4356000" y="2636640"/>
            <a:ext cx="0" cy="43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5"/>
          <p:cNvSpPr/>
          <p:nvPr/>
        </p:nvSpPr>
        <p:spPr>
          <a:xfrm flipV="1">
            <a:off x="6588000" y="3213000"/>
            <a:ext cx="576360" cy="43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16"/>
          <p:cNvSpPr/>
          <p:nvPr/>
        </p:nvSpPr>
        <p:spPr>
          <a:xfrm flipH="1">
            <a:off x="3059280" y="4724280"/>
            <a:ext cx="1225440" cy="576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7"/>
          <p:cNvSpPr/>
          <p:nvPr/>
        </p:nvSpPr>
        <p:spPr>
          <a:xfrm>
            <a:off x="4788000" y="4724280"/>
            <a:ext cx="1439640" cy="649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бъективные факторы, способствующие развитию синдрома выгорания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4000" y="4723920"/>
            <a:ext cx="8229600" cy="14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4932360" y="4149720"/>
            <a:ext cx="2952720" cy="165744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словия тру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1116000" y="4149720"/>
            <a:ext cx="2808360" cy="165564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тветствен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за жизнь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здоровье люд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5219640" y="2060640"/>
            <a:ext cx="3456000" cy="172872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эмоциональн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асыщенн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ежличностн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онтак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179280" y="2060640"/>
            <a:ext cx="3384720" cy="172872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хроническ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апряженн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сихоэмоциональн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еятель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9"/>
          <p:cNvSpPr/>
          <p:nvPr/>
        </p:nvSpPr>
        <p:spPr>
          <a:xfrm flipH="1">
            <a:off x="3780000" y="1484280"/>
            <a:ext cx="504720" cy="2449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0"/>
          <p:cNvSpPr/>
          <p:nvPr/>
        </p:nvSpPr>
        <p:spPr>
          <a:xfrm>
            <a:off x="4572000" y="1484280"/>
            <a:ext cx="431640" cy="2449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1"/>
          <p:cNvSpPr/>
          <p:nvPr/>
        </p:nvSpPr>
        <p:spPr>
          <a:xfrm flipH="1">
            <a:off x="2484000" y="1413000"/>
            <a:ext cx="1582920" cy="43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2"/>
          <p:cNvSpPr/>
          <p:nvPr/>
        </p:nvSpPr>
        <p:spPr>
          <a:xfrm>
            <a:off x="4932360" y="1413000"/>
            <a:ext cx="1584360" cy="43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Социально-психологические факторы, способствующие развитию синдрома выгор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539640" y="4292640"/>
            <a:ext cx="3672000" cy="18716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оциально-экономическ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итуац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 регио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4788000" y="4292640"/>
            <a:ext cx="3671640" cy="18716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еблагополуч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сихологическ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тмосфер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офессиональн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еятель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250920" y="2060640"/>
            <a:ext cx="3673440" cy="18730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имидж профессии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оциальн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значимост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офесс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5148360" y="2060640"/>
            <a:ext cx="3743280" cy="18716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естабилизирующ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рганизац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еятель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9"/>
          <p:cNvSpPr/>
          <p:nvPr/>
        </p:nvSpPr>
        <p:spPr>
          <a:xfrm flipH="1">
            <a:off x="2700000" y="1268280"/>
            <a:ext cx="1366920" cy="648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0"/>
          <p:cNvSpPr/>
          <p:nvPr/>
        </p:nvSpPr>
        <p:spPr>
          <a:xfrm>
            <a:off x="4716360" y="1268280"/>
            <a:ext cx="1295640" cy="648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12"/>
          <p:cNvSpPr/>
          <p:nvPr/>
        </p:nvSpPr>
        <p:spPr>
          <a:xfrm flipH="1">
            <a:off x="4066920" y="1341360"/>
            <a:ext cx="360360" cy="2808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13"/>
          <p:cNvSpPr/>
          <p:nvPr/>
        </p:nvSpPr>
        <p:spPr>
          <a:xfrm>
            <a:off x="4572000" y="1341360"/>
            <a:ext cx="431640" cy="2735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785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офессиональное здоров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1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Здоровый профессионал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сокая надежность профессиональн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фессиональное долголет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ксимальная продолжительность жизн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2781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Субъективные факторы, способствующие развитию синдрома выгор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0" y="1557360"/>
            <a:ext cx="360036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ррациональны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бежд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5148360" y="1484280"/>
            <a:ext cx="3995640" cy="1368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лабая мотиваци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эмоциональной отдачи 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рофессионально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деятель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4932360" y="0"/>
            <a:ext cx="381636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интенсивно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ереживание обстоятельст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рофессионально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деятель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250920" y="0"/>
            <a:ext cx="381636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клонность 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эмоциональн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держан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5148360" y="3789360"/>
            <a:ext cx="381636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трудоголиз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4788000" y="5300640"/>
            <a:ext cx="381636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оличество изменений 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жизни за текущий пери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611280" y="5300640"/>
            <a:ext cx="381636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личность типа 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250920" y="3789360"/>
            <a:ext cx="381636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равственные дефекты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езориентация лич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11"/>
          <p:cNvSpPr/>
          <p:nvPr/>
        </p:nvSpPr>
        <p:spPr>
          <a:xfrm flipV="1">
            <a:off x="4859280" y="2204640"/>
            <a:ext cx="2174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2"/>
          <p:cNvSpPr/>
          <p:nvPr/>
        </p:nvSpPr>
        <p:spPr>
          <a:xfrm flipH="1" flipV="1">
            <a:off x="3708000" y="2204640"/>
            <a:ext cx="3589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13"/>
          <p:cNvSpPr/>
          <p:nvPr/>
        </p:nvSpPr>
        <p:spPr>
          <a:xfrm flipV="1">
            <a:off x="4572000" y="764640"/>
            <a:ext cx="21600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4"/>
          <p:cNvSpPr/>
          <p:nvPr/>
        </p:nvSpPr>
        <p:spPr>
          <a:xfrm flipH="1" flipV="1">
            <a:off x="4211280" y="764640"/>
            <a:ext cx="14436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15"/>
          <p:cNvSpPr/>
          <p:nvPr/>
        </p:nvSpPr>
        <p:spPr>
          <a:xfrm flipH="1">
            <a:off x="4284360" y="3789360"/>
            <a:ext cx="14292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6"/>
          <p:cNvSpPr/>
          <p:nvPr/>
        </p:nvSpPr>
        <p:spPr>
          <a:xfrm>
            <a:off x="4788000" y="3789360"/>
            <a:ext cx="14436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7"/>
          <p:cNvSpPr/>
          <p:nvPr/>
        </p:nvSpPr>
        <p:spPr>
          <a:xfrm flipH="1">
            <a:off x="2124000" y="3429000"/>
            <a:ext cx="503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8"/>
          <p:cNvSpPr/>
          <p:nvPr/>
        </p:nvSpPr>
        <p:spPr>
          <a:xfrm>
            <a:off x="6804000" y="3357720"/>
            <a:ext cx="43200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3"/>
          <p:cNvSpPr/>
          <p:nvPr/>
        </p:nvSpPr>
        <p:spPr>
          <a:xfrm>
            <a:off x="228600" y="1523880"/>
            <a:ext cx="83059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395280" y="476280"/>
            <a:ext cx="8077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она стабильности профессионального здоровь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Сильный тип ВН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Отсутствие заболевани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Отсутствие трав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Семейные тради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руппа социально-психологических факторов риска развития синдрома выгор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руппа объективных факторов риска развития синдрома выгорани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руппа субъективных факторов риска развития синдрома выгор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228600" y="1523880"/>
            <a:ext cx="83059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395280" y="105264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50920" y="692280"/>
          <a:ext cx="8353440" cy="5607000"/>
        </p:xfrm>
        <a:graphic>
          <a:graphicData uri="http://schemas.openxmlformats.org/drawingml/2006/table">
            <a:tbl>
              <a:tblPr/>
              <a:tblGrid>
                <a:gridCol w="3854520"/>
                <a:gridCol w="2893680"/>
                <a:gridCol w="1605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ор риска развития синдрома выгор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ак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ществля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а объективных факторов рис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04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 труда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ственность за жизнь и здоровье людей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оянное включение в профессиональную деятельность волевых процессов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моционально насыщенные межличностные контакты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роническая напряженная психоэмоциональная деятель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ессиональная подготов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е заведения МЧС Росс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ическая подготов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ическая саморегуляци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брифин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228600" y="1523880"/>
            <a:ext cx="83059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395280" y="105264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79280" y="692280"/>
          <a:ext cx="8353440" cy="5892840"/>
        </p:xfrm>
        <a:graphic>
          <a:graphicData uri="http://schemas.openxmlformats.org/drawingml/2006/table">
            <a:tbl>
              <a:tblPr/>
              <a:tblGrid>
                <a:gridCol w="3854520"/>
                <a:gridCol w="2894040"/>
                <a:gridCol w="1604880"/>
              </a:tblGrid>
              <a:tr h="4809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а социально-психологических факто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04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о-экономическая ситуация в регион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ая защищенность специалис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азделения МЧ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поративная куль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4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идж профессии и социальная значимость професс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позитивного образа специалиста у насел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азделения МЧ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поративная куль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стабилизирующая организация деятельности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ткая организация и планирование тру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благополучная психологическая атмосфера профессиональ­ной деятельности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онное консультир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228600" y="1523880"/>
            <a:ext cx="83059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395280" y="105264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24000" y="476280"/>
          <a:ext cx="8353440" cy="6080040"/>
        </p:xfrm>
        <a:graphic>
          <a:graphicData uri="http://schemas.openxmlformats.org/drawingml/2006/table">
            <a:tbl>
              <a:tblPr/>
              <a:tblGrid>
                <a:gridCol w="3854160"/>
                <a:gridCol w="2698920"/>
                <a:gridCol w="195120"/>
                <a:gridCol w="16052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ор риска развития синдрома выгор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ак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о осуществля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9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а субъективных факторов рис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2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ояние здоровья специали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пансериз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. учрежд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доровый образ жиз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лонность к эмоциональной сдержан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брифин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равственные дефекты и дезориентация лич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ессиональный психологический отб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8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ррациональные убеждения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ая мотивация эмоциональной отдачи в профессиональ­ной деятельности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доголизм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чность типа А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ическое консультир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4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ическая подгото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изменений в жизни за текущий пери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ическая саморегуляц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инципы заботы о себ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533520" y="1371600"/>
            <a:ext cx="78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250920" y="1774440"/>
            <a:ext cx="8496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инцип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тветственнос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инцип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актической оснащенност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.принцип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баланс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4. критерии оцен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7"/>
          <p:cNvSpPr/>
          <p:nvPr/>
        </p:nvSpPr>
        <p:spPr>
          <a:xfrm>
            <a:off x="5003640" y="3500280"/>
            <a:ext cx="3745080" cy="1152720"/>
          </a:xfrm>
          <a:prstGeom prst="ellipse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процедуры испытания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Oval 8"/>
          <p:cNvSpPr/>
          <p:nvPr/>
        </p:nvSpPr>
        <p:spPr>
          <a:xfrm>
            <a:off x="179280" y="3500280"/>
            <a:ext cx="3969000" cy="1150920"/>
          </a:xfrm>
          <a:prstGeom prst="ellipse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амонаблюд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10"/>
          <p:cNvSpPr/>
          <p:nvPr/>
        </p:nvSpPr>
        <p:spPr>
          <a:xfrm flipH="1">
            <a:off x="2555640" y="2852640"/>
            <a:ext cx="1368360" cy="576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1"/>
          <p:cNvSpPr/>
          <p:nvPr/>
        </p:nvSpPr>
        <p:spPr>
          <a:xfrm>
            <a:off x="4788000" y="2852640"/>
            <a:ext cx="1439640" cy="576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инципы заботы о себ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22860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533520" y="1371600"/>
            <a:ext cx="78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250920" y="1049760"/>
            <a:ext cx="8496360" cy="56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. принцип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актической оснащенност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-«процедуры испытания»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амонаблюде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роцедуры испытания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Если не хочешь, чтобы воин дрогнул в бою, закаляй его перед боем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кие испытания уча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обходиться малы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определить границу автономност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амонаблюдение и анализ  или «рассуждения о делах»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готовка к предстоящим дела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ализ прошедших дел, учет достижений и ошибо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инципы заботы о себ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22860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533520" y="1371600"/>
            <a:ext cx="78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324000" y="1166760"/>
            <a:ext cx="864072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инцип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тветственнос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бота о себе – профессиональная обязанность каждого специалис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нужно оставлять все прочие занятия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иком и полностью посвятив себя забот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 себ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ужно в текущих делах постоянно заботи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 своем профессиональном здоровь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6" descr="28563_849"/>
          <p:cNvPicPr/>
          <p:nvPr/>
        </p:nvPicPr>
        <p:blipFill>
          <a:blip r:embed="rId1"/>
          <a:stretch/>
        </p:blipFill>
        <p:spPr>
          <a:xfrm>
            <a:off x="6732720" y="4437000"/>
            <a:ext cx="219060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инципы заботы о себ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22860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533520" y="1371600"/>
            <a:ext cx="78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250920" y="1774440"/>
            <a:ext cx="8496360" cy="41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.принцип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баланс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знательная регуляция интенсивности и видов деятель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армоничное сочетание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теллектуальной и физической нагрузки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иодов интенсивной деятельности и отдых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6" descr="253737_82"/>
          <p:cNvPicPr/>
          <p:nvPr/>
        </p:nvPicPr>
        <p:blipFill>
          <a:blip r:embed="rId1"/>
          <a:stretch/>
        </p:blipFill>
        <p:spPr>
          <a:xfrm>
            <a:off x="5292720" y="907920"/>
            <a:ext cx="3487680" cy="19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инципы заботы о себ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22860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533520" y="1371600"/>
            <a:ext cx="78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179280" y="1367640"/>
            <a:ext cx="849636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4. критерии оцен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ритериями успеха «заботы о себе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ступают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вершенствование владения собой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аморазвитие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щущение радости 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армонии жизни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6" descr="yoga_forrest"/>
          <p:cNvPicPr/>
          <p:nvPr/>
        </p:nvPicPr>
        <p:blipFill>
          <a:blip r:embed="rId1"/>
          <a:stretch/>
        </p:blipFill>
        <p:spPr>
          <a:xfrm>
            <a:off x="4140360" y="4365720"/>
            <a:ext cx="4667040" cy="23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785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офессиональное здоров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51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фессионалами не рождаютс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фессионалами становя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новление и развитие профессионалов подчинено общей закономер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785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офессиональное здоров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 этап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ормирования профессиональных намер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684360" y="3500280"/>
            <a:ext cx="78483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рофессиональное здоровь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этап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фессионального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m_10982"/>
          <p:cNvPicPr/>
          <p:nvPr/>
        </p:nvPicPr>
        <p:blipFill>
          <a:blip r:embed="rId1"/>
          <a:stretch/>
        </p:blipFill>
        <p:spPr>
          <a:xfrm>
            <a:off x="1547640" y="2637000"/>
            <a:ext cx="6409080" cy="3528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big_karera_samorazvitie_1"/>
          <p:cNvPicPr/>
          <p:nvPr/>
        </p:nvPicPr>
        <p:blipFill>
          <a:blip r:embed="rId2"/>
          <a:stretch/>
        </p:blipFill>
        <p:spPr>
          <a:xfrm>
            <a:off x="3564000" y="3716280"/>
            <a:ext cx="2016000" cy="15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 эт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фессиональной адаптац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755640" y="2205000"/>
            <a:ext cx="7632720" cy="792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адия адаптации молодого специалис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1116000" y="3716280"/>
            <a:ext cx="7272360" cy="792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адия «вхождение в профессию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6"/>
          <p:cNvSpPr/>
          <p:nvPr/>
        </p:nvSpPr>
        <p:spPr>
          <a:xfrm>
            <a:off x="4716360" y="2997360"/>
            <a:ext cx="0" cy="718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7" descr="interlocution_1"/>
          <p:cNvPicPr/>
          <p:nvPr/>
        </p:nvPicPr>
        <p:blipFill>
          <a:blip r:embed="rId1"/>
          <a:stretch/>
        </p:blipFill>
        <p:spPr>
          <a:xfrm>
            <a:off x="3780000" y="4581360"/>
            <a:ext cx="161892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4 эт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астичной или полной реализации личности в профессиональном труд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826920" y="3789360"/>
            <a:ext cx="6840720" cy="129708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тадия авторите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179280" y="5373720"/>
            <a:ext cx="8785440" cy="12970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тадия мастер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1979640" y="2637000"/>
            <a:ext cx="4321080" cy="86328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тадия наставни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7"/>
          <p:cNvSpPr/>
          <p:nvPr/>
        </p:nvSpPr>
        <p:spPr>
          <a:xfrm>
            <a:off x="4140360" y="3500280"/>
            <a:ext cx="0" cy="576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8"/>
          <p:cNvSpPr/>
          <p:nvPr/>
        </p:nvSpPr>
        <p:spPr>
          <a:xfrm>
            <a:off x="4211640" y="5084640"/>
            <a:ext cx="0" cy="649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main-authors"/>
          <p:cNvPicPr/>
          <p:nvPr/>
        </p:nvPicPr>
        <p:blipFill>
          <a:blip r:embed="rId1"/>
          <a:stretch/>
        </p:blipFill>
        <p:spPr>
          <a:xfrm>
            <a:off x="2916360" y="981000"/>
            <a:ext cx="341784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785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офессиональное здоров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офессиональные деструкци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зрушение сформированных профессиональных качеств, появление  психологических барьеров при освоении новых профессиональных технологи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20:51:18Z</dcterms:created>
  <dc:creator>Kirill</dc:creator>
  <dc:description/>
  <dc:language>en-US</dc:language>
  <cp:lastModifiedBy>Света</cp:lastModifiedBy>
  <dcterms:modified xsi:type="dcterms:W3CDTF">2012-11-27T15:37:52Z</dcterms:modified>
  <cp:revision>149</cp:revision>
  <dc:subject/>
  <dc:title>Slide 1</dc:title>
</cp:coreProperties>
</file>