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D525-8F9B-493B-A16A-3F8BB103F6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5322-D987-4196-8760-6FD728E173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FF5D-0745-4E82-9A72-C220351AA6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CEB7-2E1A-4A91-8B66-262E6F704B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2CEE-BDF6-4E27-A0F3-B70DF718A6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6319-746A-41CD-8B7F-3EF2571AFC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5C6D-BA8B-41A2-93D9-57C42DAB8F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0871-2205-4E04-8F61-B9F942AF58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DE06-FD97-496C-B791-851796C5B7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753B-7BE1-495D-A0EA-DBF97170BE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2942-99AC-44E2-81DB-420F339F1E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CBF7-A2CE-4E5E-A5D2-C305621002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6CB7-E819-4276-83B0-5A2361CACE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4895-5F9F-4D05-BE2A-A2B49F252B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7614-ABF7-4241-9A4D-C27C19348B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04BB-8B24-47CF-8459-6DA3BCEFD9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DBF9-06E9-4698-B96E-247652FBF6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10F4-1B72-4E38-ABEE-C7E572BD08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37C7-83F9-487D-9271-C998EE34F1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19E2-3EEB-4E39-AB5E-E1E78891AC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FAE6-E2B3-4638-BDFF-1D953AB30A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4AF0-D804-4BBA-BD00-819DD3E672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2ED5-3787-4799-A9E4-49585EBDC8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00D5-48C3-4FC0-B52A-CD79B86995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2275-FA00-440C-A4D0-21FAC9F99B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790B-06EE-4F9D-B12D-3C3F76EF7D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EE89-B335-47F7-8F46-5F3CCAEAEE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7A3F-183D-41AD-B423-F592D399D7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AB4D-B1DA-48DA-8693-9C23FC40F7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B9FD-6EF8-42AD-B38F-7815781453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C87-F0ED-45E8-A250-AECACB35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7CA-A978-40EB-BC3C-5403978C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D663-3F9D-4BED-BD0D-6E45D52C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61A-BDC7-47EF-B3F2-665AC817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199-9EB4-4931-A7EE-C9B1A806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1F83-1057-4F64-BC10-067BB1E5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ABD-B4F8-4E49-A754-37F893F7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C91-11A5-4CDE-A51F-DC23D88E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979-457D-44BD-8F61-AD26AF83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67D-457F-4D80-BA7F-1E5D4EF5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D2A9-59B9-4F90-9854-68A4C341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EA0C-0ACC-43B8-9C01-3A039BB8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97fa"/>
            </a:gs>
            <a:gs pos="100000">
              <a:srgbClr val="d4e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F458-93DD-4531-8C56-215ECB375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67640" y="189000"/>
            <a:ext cx="1290600" cy="1800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0" y="1304640"/>
            <a:ext cx="871380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фессиональное здоровье. Профессиональные де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фессиональные деструк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57360"/>
            <a:ext cx="878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Профессиональное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95280" y="6020280"/>
            <a:ext cx="828036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1773360"/>
            <a:ext cx="3743280" cy="1584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личностные контак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о насыще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400720" y="1773360"/>
            <a:ext cx="3743280" cy="158436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янное вклю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левых проце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268360" y="0"/>
            <a:ext cx="4824720" cy="1628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щущение новизн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повторимости ситу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осуществл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4572000" y="4437000"/>
            <a:ext cx="4390920" cy="208908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ость постоя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развит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фессиональной фо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4437000"/>
            <a:ext cx="4390920" cy="20890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ответств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жизнь и здоровье люд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1"/>
          <p:cNvSpPr/>
          <p:nvPr/>
        </p:nvSpPr>
        <p:spPr>
          <a:xfrm flipV="1">
            <a:off x="4572000" y="162828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 flipV="1">
            <a:off x="7020000" y="3429000"/>
            <a:ext cx="79200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3"/>
          <p:cNvSpPr/>
          <p:nvPr/>
        </p:nvSpPr>
        <p:spPr>
          <a:xfrm flipH="1" flipV="1">
            <a:off x="826920" y="3429000"/>
            <a:ext cx="865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4"/>
          <p:cNvSpPr/>
          <p:nvPr/>
        </p:nvSpPr>
        <p:spPr>
          <a:xfrm flipH="1">
            <a:off x="2771280" y="3933720"/>
            <a:ext cx="172908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4643280" y="3933720"/>
            <a:ext cx="172908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785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моциональное выгор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намический процесс и возникает поэтапно, в полном соответствии с механизмом развития стресс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фазы накопленного стресс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979640" y="2276640"/>
            <a:ext cx="5616720" cy="865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рвное (тревожное) напряж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411280" y="3789360"/>
            <a:ext cx="4753080" cy="93492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истен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132000" y="5300640"/>
            <a:ext cx="3240360" cy="1224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тощ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716360" y="2997360"/>
            <a:ext cx="0" cy="93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716360" y="4581360"/>
            <a:ext cx="0" cy="100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зист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фессионал  пытается более или менее успешно оградить себя от неприятных впечат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ilverOnBlue (32)"/>
          <p:cNvPicPr/>
          <p:nvPr/>
        </p:nvPicPr>
        <p:blipFill>
          <a:blip r:embed="rId1"/>
          <a:stretch/>
        </p:blipFill>
        <p:spPr>
          <a:xfrm>
            <a:off x="2484360" y="3213000"/>
            <a:ext cx="45720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то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скудение психических ресурсов, снижение эмоционального тон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ilverOnBlue (19)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вное (тревожное) напряжение служит «запускающим» механизмом в формировании эмоционального выгорани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785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птом «переживания психотравмирующих обстоятельст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птом «неудовлетворенности собо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птом «загнанности в клетк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птом «тревоги и депресси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резмерная актив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аз от потребностей, не связанных с работ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теснение из сознания переживаний неудач и разочаров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ие социальных конта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ство устал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сонниц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роза несчастных случ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3421"/>
          <p:cNvPicPr/>
          <p:nvPr/>
        </p:nvPicPr>
        <p:blipFill>
          <a:blip r:embed="rId1"/>
          <a:stretch/>
        </p:blipFill>
        <p:spPr>
          <a:xfrm>
            <a:off x="5796000" y="4653000"/>
            <a:ext cx="31748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фазы резистенции происходит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фоне следующих явлений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Симптом «неадекватного избирательного реагирова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Симптом «эмоционально-нравственной дезориентаци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»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Симптом «расширения сферы экономии эмоций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Симптом «редукции профессиональных обязанностей»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По отношению к коллегам, пострадавш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писывание вины за собственные неудачи другим люд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инирование стереотипов в поведении по отношению к сотрудник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отношению к остальным окружающ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эмпат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ничные оце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отношению к профессиональн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елание выполнять свои обяза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удовлетворенность работ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ство переживания того, что другие люди используют т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18-1"/>
          <p:cNvPicPr/>
          <p:nvPr/>
        </p:nvPicPr>
        <p:blipFill>
          <a:blip r:embed="rId1"/>
          <a:stretch/>
        </p:blipFill>
        <p:spPr>
          <a:xfrm>
            <a:off x="6696000" y="3716280"/>
            <a:ext cx="2448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за истощения 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моциональная защита в форме «выгорания» становится неотъемлемым атрибутом личности.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 «эмоционального дефицит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 «эмоциональной отстраненности»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 «личностной отстраненности или деперсонализации»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 «психосоматических и психовегетативных нарушений»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снижение концентрации внимания, отсутствие способности выполнить сложные зад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гидность мышления, отсутствие вооб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способность к релакс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еря интереса к профе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висимость от психоактивных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соматические расстройства и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_511294832_pic_s"/>
          <p:cNvPicPr/>
          <p:nvPr/>
        </p:nvPicPr>
        <p:blipFill>
          <a:blip r:embed="rId1"/>
          <a:stretch/>
        </p:blipFill>
        <p:spPr>
          <a:xfrm>
            <a:off x="7596360" y="4005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20080819114029"/>
          <p:cNvPicPr/>
          <p:nvPr/>
        </p:nvPicPr>
        <p:blipFill>
          <a:blip r:embed="rId2"/>
          <a:stretch/>
        </p:blipFill>
        <p:spPr>
          <a:xfrm>
            <a:off x="6588000" y="5300640"/>
            <a:ext cx="15717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124000" y="3068640"/>
            <a:ext cx="46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моциональное выгорани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фессионал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трагива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едующие сфе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539640" y="4653000"/>
            <a:ext cx="2376720" cy="1871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ессиональну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фер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3276720" y="692280"/>
            <a:ext cx="2232000" cy="1871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остну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фер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6372360" y="4581360"/>
            <a:ext cx="2232000" cy="1872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феру семей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9"/>
          <p:cNvSpPr/>
          <p:nvPr/>
        </p:nvSpPr>
        <p:spPr>
          <a:xfrm>
            <a:off x="6300720" y="1197000"/>
            <a:ext cx="2232000" cy="1871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феру разви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лекти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395280" y="981000"/>
            <a:ext cx="2376360" cy="1871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идж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е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2411280" y="3141720"/>
            <a:ext cx="4032360" cy="143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3"/>
          <p:cNvSpPr/>
          <p:nvPr/>
        </p:nvSpPr>
        <p:spPr>
          <a:xfrm flipH="1" flipV="1">
            <a:off x="1186920" y="2924280"/>
            <a:ext cx="100836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4"/>
          <p:cNvSpPr/>
          <p:nvPr/>
        </p:nvSpPr>
        <p:spPr>
          <a:xfrm flipV="1">
            <a:off x="4356000" y="263664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5"/>
          <p:cNvSpPr/>
          <p:nvPr/>
        </p:nvSpPr>
        <p:spPr>
          <a:xfrm flipV="1">
            <a:off x="6588000" y="3213000"/>
            <a:ext cx="57636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6"/>
          <p:cNvSpPr/>
          <p:nvPr/>
        </p:nvSpPr>
        <p:spPr>
          <a:xfrm flipH="1">
            <a:off x="3059280" y="4724280"/>
            <a:ext cx="122544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7"/>
          <p:cNvSpPr/>
          <p:nvPr/>
        </p:nvSpPr>
        <p:spPr>
          <a:xfrm>
            <a:off x="4788000" y="4724280"/>
            <a:ext cx="1439640" cy="6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ъективные факторы, способствующие развитию синдрома выгора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4723920"/>
            <a:ext cx="8229600" cy="14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932360" y="4149720"/>
            <a:ext cx="2952720" cy="165744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словия тру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116000" y="4149720"/>
            <a:ext cx="2808360" cy="165564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 жизнь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доровье 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5219640" y="2060640"/>
            <a:ext cx="3456000" cy="172872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моциональ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сыще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жличност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та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79280" y="2060640"/>
            <a:ext cx="3384720" cy="172872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рон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пряже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сихоэмоциональ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3780000" y="1484280"/>
            <a:ext cx="504720" cy="24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4572000" y="1484280"/>
            <a:ext cx="431640" cy="24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1"/>
          <p:cNvSpPr/>
          <p:nvPr/>
        </p:nvSpPr>
        <p:spPr>
          <a:xfrm flipH="1">
            <a:off x="2484000" y="1413000"/>
            <a:ext cx="1582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4932360" y="1413000"/>
            <a:ext cx="158436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циально-психологические факторы, способствующие развитию синдрома выгор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39640" y="4292640"/>
            <a:ext cx="3672000" cy="18716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циально-эконом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иту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реги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788000" y="4292640"/>
            <a:ext cx="3671640" cy="18716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благополуч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тмосф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фессиона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0920" y="2060640"/>
            <a:ext cx="3673440" cy="18730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мидж профессии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циаль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начим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фе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5148360" y="2060640"/>
            <a:ext cx="3743280" cy="18716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стабилизирующ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H="1">
            <a:off x="2700000" y="1268280"/>
            <a:ext cx="1366920" cy="64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4716360" y="1268280"/>
            <a:ext cx="1295640" cy="64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4066920" y="1341360"/>
            <a:ext cx="360360" cy="280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4572000" y="1341360"/>
            <a:ext cx="431640" cy="273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фессиональное здоров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доровый профессионал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ая надежность профессиональ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ональное долголет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альная продолжительность жиз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убъективные факторы, способствующие развитию синдрома выгор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1557360"/>
            <a:ext cx="3600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ррациональ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беж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5148360" y="1484280"/>
            <a:ext cx="399564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лабая мотивац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моциональной отдачи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932360" y="0"/>
            <a:ext cx="3816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тенсивн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ереживание обстоятельст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50920" y="0"/>
            <a:ext cx="3816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клонность 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моциона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держа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5148360" y="3789360"/>
            <a:ext cx="3816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рудоголиз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4788000" y="5300640"/>
            <a:ext cx="3816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личество изменений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жизни за текущий пери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611280" y="5300640"/>
            <a:ext cx="3816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ичность типа 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50920" y="3789360"/>
            <a:ext cx="3816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равственные дефекты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зориентация ли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1"/>
          <p:cNvSpPr/>
          <p:nvPr/>
        </p:nvSpPr>
        <p:spPr>
          <a:xfrm flipV="1">
            <a:off x="4859280" y="2204640"/>
            <a:ext cx="217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 flipH="1" flipV="1">
            <a:off x="3708000" y="2204640"/>
            <a:ext cx="358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3"/>
          <p:cNvSpPr/>
          <p:nvPr/>
        </p:nvSpPr>
        <p:spPr>
          <a:xfrm flipV="1">
            <a:off x="4572000" y="764640"/>
            <a:ext cx="21600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H="1" flipV="1">
            <a:off x="4211280" y="764640"/>
            <a:ext cx="144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5"/>
          <p:cNvSpPr/>
          <p:nvPr/>
        </p:nvSpPr>
        <p:spPr>
          <a:xfrm flipH="1">
            <a:off x="4284360" y="3789360"/>
            <a:ext cx="1429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4788000" y="3789360"/>
            <a:ext cx="144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7"/>
          <p:cNvSpPr/>
          <p:nvPr/>
        </p:nvSpPr>
        <p:spPr>
          <a:xfrm flipH="1">
            <a:off x="2124000" y="342900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>
            <a:off x="6804000" y="3357720"/>
            <a:ext cx="432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28600" y="1523880"/>
            <a:ext cx="83059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395280" y="47628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стабильности профессионального здоровь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Сильный тип В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Отсутствие заболева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Отсутствие тра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Семейные тради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а социально-психологических факторов риска развития синдрома выгор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а объективных факторов риска развития синдрома выгор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а субъективных факторов риска развития синдрома выгор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28600" y="1523880"/>
            <a:ext cx="83059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95280" y="10526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692280"/>
          <a:ext cx="8353440" cy="5607000"/>
        </p:xfrm>
        <a:graphic>
          <a:graphicData uri="http://schemas.openxmlformats.org/drawingml/2006/table">
            <a:tbl>
              <a:tblPr/>
              <a:tblGrid>
                <a:gridCol w="3854520"/>
                <a:gridCol w="2893680"/>
                <a:gridCol w="160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 риска развития синдрома выгор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объективных факторов рис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0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труд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ость за жизнь и здоровье люде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ое включение в профессиональную деятельность волевых процесс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 насыщенные межличностные контакт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ая напряженная психоэмоциональн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ая подгот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заведения МЧС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гот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саморегуляц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брифин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28600" y="1523880"/>
            <a:ext cx="83059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95280" y="10526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692280"/>
          <a:ext cx="8353440" cy="5892840"/>
        </p:xfrm>
        <a:graphic>
          <a:graphicData uri="http://schemas.openxmlformats.org/drawingml/2006/table">
            <a:tbl>
              <a:tblPr/>
              <a:tblGrid>
                <a:gridCol w="3854520"/>
                <a:gridCol w="2894040"/>
                <a:gridCol w="1604880"/>
              </a:tblGrid>
              <a:tr h="480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социально-психологических фак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экономическая ситуация в регио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защищенность специалис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я МЧ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поративн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идж профессии и социальная значимость профе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озитивного образа специалиста у на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я МЧ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поративн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табилизирующая организация деятельност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кая организация и планирование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лагополучная психологическая атмосфера профессиональ­ной деятельност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е консульт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228600" y="1523880"/>
            <a:ext cx="83059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395280" y="10526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24000" y="476280"/>
          <a:ext cx="8353440" cy="6080040"/>
        </p:xfrm>
        <a:graphic>
          <a:graphicData uri="http://schemas.openxmlformats.org/drawingml/2006/table">
            <a:tbl>
              <a:tblPr/>
              <a:tblGrid>
                <a:gridCol w="3854160"/>
                <a:gridCol w="2698920"/>
                <a:gridCol w="195120"/>
                <a:gridCol w="1605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 риска развития синдрома выгор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осуществля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субъективных факторов ри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здоровья специали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. учре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ый образ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лонность к эмоциональной сдержа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брифин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равственные дефекты и дезориентация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ый психологический от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8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рациональные убежде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я мотивация эмоциональной отдачи в профессиональ­ной деятель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голиз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ь типа 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ое консульт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гот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изменений в жизни за текущий 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саморегуля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нципы заботы о с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33520" y="137160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50920" y="1774440"/>
            <a:ext cx="84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ветств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ктической оснащенност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принцип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алан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критерии оцен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5003640" y="3500280"/>
            <a:ext cx="3745080" cy="115272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процедуры испытани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179280" y="3500280"/>
            <a:ext cx="3969000" cy="115092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наблюд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2555640" y="2852640"/>
            <a:ext cx="136836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4788000" y="2852640"/>
            <a:ext cx="143964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нципы заботы о с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2860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533520" y="137160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50920" y="1049760"/>
            <a:ext cx="84963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принцип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ктической оснащенност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«процедуры испытания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амонаблю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цедуры испыт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Если не хочешь, чтобы воин дрогнул в бою, закаляй его перед боем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е испытания уч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бходиться мал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пределить границу автоном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амонаблюдение и анализ  или «рассуждения о делах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ка к предстоящим дел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прошедших дел, учет достижений и ошиб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нципы заботы о с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22860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33520" y="137160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24000" y="1166760"/>
            <a:ext cx="8640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ветств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бота о себе – профессиональная обязанность каждого специалис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нужно оставлять все прочие занят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иком и полностью посвятив себя забо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себ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жно в текущих делах постоянно заботи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своем профессиональном здоровь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6" descr="28563_849"/>
          <p:cNvPicPr/>
          <p:nvPr/>
        </p:nvPicPr>
        <p:blipFill>
          <a:blip r:embed="rId1"/>
          <a:stretch/>
        </p:blipFill>
        <p:spPr>
          <a:xfrm>
            <a:off x="6732720" y="4437000"/>
            <a:ext cx="21906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нципы заботы о с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2860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533520" y="137160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50920" y="1774440"/>
            <a:ext cx="84963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принцип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алан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нательная регуляция интенсивности и видов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рмоничное сочета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ллектуальной и физической нагруз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иодов интенсивной деятельности и отдых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6" descr="253737_82"/>
          <p:cNvPicPr/>
          <p:nvPr/>
        </p:nvPicPr>
        <p:blipFill>
          <a:blip r:embed="rId1"/>
          <a:stretch/>
        </p:blipFill>
        <p:spPr>
          <a:xfrm>
            <a:off x="5292720" y="907920"/>
            <a:ext cx="34876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нципы заботы о с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533520" y="137160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79280" y="1367640"/>
            <a:ext cx="84963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критерии оцен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териями успеха «заботы о себе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упаю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ршенствование владения собо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развити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щущение радости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рмонии жизни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6" descr="yoga_forrest"/>
          <p:cNvPicPr/>
          <p:nvPr/>
        </p:nvPicPr>
        <p:blipFill>
          <a:blip r:embed="rId1"/>
          <a:stretch/>
        </p:blipFill>
        <p:spPr>
          <a:xfrm>
            <a:off x="4140360" y="4365720"/>
            <a:ext cx="466704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фессиональное здоров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оналами не рождают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оналами становя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овление и развитие профессионалов подчинено общей закономер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фессиональное здоров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эта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я профессиональных намер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84360" y="3500280"/>
            <a:ext cx="7848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фессиональное здоровь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этап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ессиональн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_10982"/>
          <p:cNvPicPr/>
          <p:nvPr/>
        </p:nvPicPr>
        <p:blipFill>
          <a:blip r:embed="rId1"/>
          <a:stretch/>
        </p:blipFill>
        <p:spPr>
          <a:xfrm>
            <a:off x="1547640" y="2637000"/>
            <a:ext cx="6409080" cy="3528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big_karera_samorazvitie_1"/>
          <p:cNvPicPr/>
          <p:nvPr/>
        </p:nvPicPr>
        <p:blipFill>
          <a:blip r:embed="rId2"/>
          <a:stretch/>
        </p:blipFill>
        <p:spPr>
          <a:xfrm>
            <a:off x="3564000" y="3716280"/>
            <a:ext cx="201600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ессиональной адапт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755640" y="2205000"/>
            <a:ext cx="763272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дия адаптации молодого специалис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116000" y="3716280"/>
            <a:ext cx="727236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дия «вхождение в профессию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6"/>
          <p:cNvSpPr/>
          <p:nvPr/>
        </p:nvSpPr>
        <p:spPr>
          <a:xfrm>
            <a:off x="4716360" y="2997360"/>
            <a:ext cx="0" cy="71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interlocution_1"/>
          <p:cNvPicPr/>
          <p:nvPr/>
        </p:nvPicPr>
        <p:blipFill>
          <a:blip r:embed="rId1"/>
          <a:stretch/>
        </p:blipFill>
        <p:spPr>
          <a:xfrm>
            <a:off x="3780000" y="4581360"/>
            <a:ext cx="16189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ичной или полной реализации личности в профессиональном труд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826920" y="3789360"/>
            <a:ext cx="6840720" cy="12970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адия авторит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79280" y="5373720"/>
            <a:ext cx="8785440" cy="129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адия масте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979640" y="2637000"/>
            <a:ext cx="4321080" cy="86328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адия наставн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>
            <a:off x="4140360" y="350028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211640" y="5084640"/>
            <a:ext cx="0" cy="6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main-authors"/>
          <p:cNvPicPr/>
          <p:nvPr/>
        </p:nvPicPr>
        <p:blipFill>
          <a:blip r:embed="rId1"/>
          <a:stretch/>
        </p:blipFill>
        <p:spPr>
          <a:xfrm>
            <a:off x="2916360" y="981000"/>
            <a:ext cx="34178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фессиональное здоров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фессиональные деструк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рушение сформированных профессиональных качеств, появление  психологических барьеров при освоении новых профессиональных технолог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20:51:18Z</dcterms:created>
  <dc:creator>Kirill</dc:creator>
  <dc:description/>
  <dc:language>en-US</dc:language>
  <cp:lastModifiedBy>Света</cp:lastModifiedBy>
  <dcterms:modified xsi:type="dcterms:W3CDTF">2012-11-27T15:37:52Z</dcterms:modified>
  <cp:revision>149</cp:revision>
  <dc:subject/>
  <dc:title>Slide 1</dc:title>
</cp:coreProperties>
</file>