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47E0-3093-4A43-8690-5A06C74A04E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5B55-C78D-4689-9FA6-53325FAB2B86}"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792EF-9A9A-4EDA-842E-613454208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33AAE-C798-4811-9EAD-CD6B86607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31435-9963-4D67-952B-00F2932BE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E8AEF-658C-470E-A961-22C6A6686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08843-5C0B-4FC3-AC9F-0E1A5A8B6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0601D-4301-4192-B0B2-BEEFF6AA0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DC9A9-AA3B-4E31-9439-82349E3B6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80B7A-F939-40BC-8B38-A59640967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ABBA4-6FF1-45B3-ACB1-AA097CD5E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099A3-6DB6-444B-977F-54983E440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2AB52-7558-401C-9C57-7E1F88A51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C0D41-25C6-45A5-B3D8-C909D1FA9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F4086-1D14-44C8-9FCC-93CF72B25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51A3A-21BF-4FA5-8F74-A10741D3C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0E448-52D7-4415-9B8E-992B09FCB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7087E-34D5-4341-A220-24D907C08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4462E-9492-4BE4-93D2-9E0BDEB32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60770-4215-4D34-BF42-597570562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2753E-A31D-46EF-931D-9C289237F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A5DE9-F2AB-48FF-8AD5-2B44EFD15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B0187-E8A3-4952-8725-DF29B279F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523FA-8306-4E1A-8F76-41122A1F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6DC4D-F3B3-4921-8F54-38D2CDE30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0B8A-E647-436E-BC4E-D07F3C876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808E-2AC2-4B43-B9EA-21A6C6D153D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FBBD-8249-4E33-97F4-66FFCA7F720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4920" y="907560"/>
            <a:ext cx="762012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aeaea"/>
                </a:solidFill>
                <a:latin typeface="Tahoma"/>
              </a:rPr>
              <a:t>Работа с горем</a:t>
            </a:r>
            <a:endParaRPr b="1" lang="en-US" sz="4400" spc="-1" strike="noStrike">
              <a:solidFill>
                <a:srgbClr val="eaeaea"/>
              </a:solidFill>
              <a:latin typeface="Tahoma"/>
            </a:endParaRPr>
          </a:p>
        </p:txBody>
      </p:sp>
      <p:sp>
        <p:nvSpPr>
          <p:cNvPr id="117" name="PlaceHolder 2"/>
          <p:cNvSpPr>
            <a:spLocks noGrp="1"/>
          </p:cNvSpPr>
          <p:nvPr>
            <p:ph type="subTitle"/>
          </p:nvPr>
        </p:nvSpPr>
        <p:spPr>
          <a:xfrm>
            <a:off x="1042560" y="3212640"/>
            <a:ext cx="7720200" cy="15843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РИТИЧЕСКИЕ ПЕРИОДЫ ВРЕМЕНИ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ИМПТОМЫ ГОРЯ</a:t>
            </a:r>
            <a:endParaRPr b="0" lang="en-US" sz="20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СИХОЛОГИЧЕСКАЯ ПОМОЩ</a:t>
            </a:r>
            <a:r>
              <a:rPr b="1" lang="ru-RU" sz="2800" spc="-1" strike="noStrike">
                <a:solidFill>
                  <a:srgbClr val="ffffff"/>
                </a:solidFill>
                <a:latin typeface="Tahoma"/>
              </a:rPr>
              <a:t>ь</a:t>
            </a:r>
            <a:r>
              <a:rPr b="1" lang="ru-RU" sz="2000" spc="-1" strike="noStrike">
                <a:solidFill>
                  <a:srgbClr val="ffffff"/>
                </a:solidFill>
                <a:latin typeface="Tahoma"/>
              </a:rPr>
              <a:t> ПРИ ПЕРЕЖИВАНИИ ГОРЯ, ПОТЕРИ, УТРАТЫ</a:t>
            </a:r>
            <a:r>
              <a:rPr b="1" lang="ru-RU" sz="2800" spc="-1" strike="noStrike">
                <a:solidFill>
                  <a:srgbClr val="ffffff"/>
                </a:solidFill>
                <a:latin typeface="Tahoma"/>
              </a:rPr>
              <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8" name="Picture 7" descr=""/>
          <p:cNvPicPr/>
          <p:nvPr/>
        </p:nvPicPr>
        <p:blipFill>
          <a:blip r:embed="rId1">
            <a:lum bright="6000"/>
          </a:blip>
          <a:stretch/>
        </p:blipFill>
        <p:spPr>
          <a:xfrm>
            <a:off x="7667640" y="260280"/>
            <a:ext cx="1290600" cy="1800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repl">
                                        <p:cTn id="7" dur="1000" fill="hold"/>
                                        <p:tgtEl>
                                          <p:spTgt spid="116"/>
                                        </p:tgtEl>
                                        <p:attrNameLst>
                                          <p:attrName>ppt_x</p:attrName>
                                        </p:attrNameLst>
                                      </p:cBhvr>
                                      <p:tavLst>
                                        <p:tav tm="0">
                                          <p:val>
                                            <p:strVal val="#ppt_x-.2"/>
                                          </p:val>
                                        </p:tav>
                                        <p:tav tm="100000">
                                          <p:val>
                                            <p:strVal val="#ppt_x"/>
                                          </p:val>
                                        </p:tav>
                                      </p:tavLst>
                                    </p:anim>
                                    <p:anim calcmode="lin" valueType="num">
                                      <p:cBhvr additive="repl">
                                        <p:cTn id="8"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9" dur="1000"/>
                                        <p:tgtEl>
                                          <p:spTgt spid="11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4" dur="500"/>
                                        <p:tgtEl>
                                          <p:spTgt spid="117">
                                            <p:txEl>
                                              <p:pRg st="0" end="0"/>
                                            </p:txEl>
                                          </p:spTgt>
                                        </p:tgtEl>
                                      </p:cBhvr>
                                    </p:animEffect>
                                    <p:anim calcmode="lin" valueType="num">
                                      <p:cBhvr additive="repl">
                                        <p:cTn id="1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1" dur="500"/>
                                        <p:tgtEl>
                                          <p:spTgt spid="117">
                                            <p:txEl>
                                              <p:pRg st="1" end="1"/>
                                            </p:txEl>
                                          </p:spTgt>
                                        </p:tgtEl>
                                      </p:cBhvr>
                                    </p:animEffect>
                                    <p:anim calcmode="lin" valueType="num">
                                      <p:cBhvr additive="repl">
                                        <p:cTn id="22"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1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8" dur="500"/>
                                        <p:tgtEl>
                                          <p:spTgt spid="117">
                                            <p:txEl>
                                              <p:pRg st="2" end="2"/>
                                            </p:txEl>
                                          </p:spTgt>
                                        </p:tgtEl>
                                      </p:cBhvr>
                                    </p:animEffect>
                                    <p:anim calcmode="lin" valueType="num">
                                      <p:cBhvr additive="repl">
                                        <p:cTn id="2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1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64119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Нетипичные патологические симптомы горя включают в себя следующее (признаки искаженного горя):</a:t>
            </a:r>
            <a:endParaRPr b="1" lang="en-US" sz="1800" spc="-1" strike="noStrike">
              <a:solidFill>
                <a:srgbClr val="eaeaea"/>
              </a:solidFill>
              <a:latin typeface="Tahoma"/>
            </a:endParaRPr>
          </a:p>
        </p:txBody>
      </p:sp>
      <p:sp>
        <p:nvSpPr>
          <p:cNvPr id="164" name="PlaceHolder 2"/>
          <p:cNvSpPr>
            <a:spLocks noGrp="1"/>
          </p:cNvSpPr>
          <p:nvPr>
            <p:ph/>
          </p:nvPr>
        </p:nvSpPr>
        <p:spPr>
          <a:xfrm>
            <a:off x="395280" y="1700280"/>
            <a:ext cx="8569440" cy="496872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истовая враждебность, направленная против конкретных людей, часто сопровождаемая угрозами, однако только на словах.</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 согласующееся с нормальным социальным и экономическим существованием поведение, может быть полное изменение стиля жизни.</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ход от социальной активности, устойчивая нехватка инициативы или побуждений, прогрессирующая уединенность, неподвижность.</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абовыраженные эмоции, неспособность эмоционально чувствовать.</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езкие переходы от страданий к самодовольству за короткие промежутки времени, </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менение отношения к друзьям, родственникам, раздражительность, нежелание надоедать. </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зговор о суициде, воссоединение с умершим, желание со всем покончить. Возможное вынашивание суицидальных планов.</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особенно сильных переживаниях горе может быть даже причиной болезни и смерти скорбящего человека.</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ядом с горем часто идет депрессия.</a:t>
            </a:r>
            <a:endParaRPr b="0" lang="en-US" sz="1800" spc="-1" strike="noStrike">
              <a:solidFill>
                <a:srgbClr val="ffffff"/>
              </a:solidFill>
              <a:latin typeface="Tahoma"/>
            </a:endParaRPr>
          </a:p>
        </p:txBody>
      </p:sp>
      <p:grpSp>
        <p:nvGrpSpPr>
          <p:cNvPr id="165" name="Group 4"/>
          <p:cNvGrpSpPr/>
          <p:nvPr/>
        </p:nvGrpSpPr>
        <p:grpSpPr>
          <a:xfrm>
            <a:off x="7667640" y="189000"/>
            <a:ext cx="1230120" cy="1197000"/>
            <a:chOff x="7667640" y="189000"/>
            <a:chExt cx="1230120" cy="1197000"/>
          </a:xfrm>
        </p:grpSpPr>
        <p:sp>
          <p:nvSpPr>
            <p:cNvPr id="166"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7"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6745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Психологическая помощь и поддержка взрослых в горе.</a:t>
            </a:r>
            <a:endParaRPr b="1" lang="en-US" sz="2000" spc="-1" strike="noStrike">
              <a:solidFill>
                <a:srgbClr val="eaeaea"/>
              </a:solidFill>
              <a:latin typeface="Tahoma"/>
            </a:endParaRPr>
          </a:p>
        </p:txBody>
      </p:sp>
      <p:sp>
        <p:nvSpPr>
          <p:cNvPr id="16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PlaceHolder 3"/>
          <p:cNvSpPr>
            <a:spLocks noGrp="1"/>
          </p:cNvSpPr>
          <p:nvPr>
            <p:ph/>
          </p:nvPr>
        </p:nvSpPr>
        <p:spPr>
          <a:xfrm>
            <a:off x="1258560" y="2060640"/>
            <a:ext cx="7489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рубежные психологические службы выделили некоторые клише, которых рекомендуется избегать в работе с людьми, переживающих горе:</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 все воля божья»</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е настолько всеведущ человек, чтобы определить божью волю»</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Мне знакомы Ваши чувства»</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Уже прошло три недели с его смерти, а Вы еще не успокоились»</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Благодарите Бога, что у Вас есть еще дети»</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Бог выбирает лучших»</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Он прожил долгую и счастливую жизнь, поэтому пробил его час»</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Мне очень жаль»</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звоните мне, если что-то понадобится»</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ы должны быть сильными ради своих детей»</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71" name="Group 4"/>
          <p:cNvGrpSpPr/>
          <p:nvPr/>
        </p:nvGrpSpPr>
        <p:grpSpPr>
          <a:xfrm>
            <a:off x="7913520" y="333360"/>
            <a:ext cx="1230480" cy="1079640"/>
            <a:chOff x="7913520" y="333360"/>
            <a:chExt cx="1230480" cy="1079640"/>
          </a:xfrm>
        </p:grpSpPr>
        <p:sp>
          <p:nvSpPr>
            <p:cNvPr id="172" name="Rectangle 5"/>
            <p:cNvSpPr/>
            <p:nvPr/>
          </p:nvSpPr>
          <p:spPr>
            <a:xfrm>
              <a:off x="8145000" y="624240"/>
              <a:ext cx="739440" cy="5004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3" name="Picture 6" descr="эмблема 2 "/>
            <p:cNvPicPr/>
            <p:nvPr/>
          </p:nvPicPr>
          <p:blipFill>
            <a:blip r:embed="rId1"/>
            <a:stretch/>
          </p:blipFill>
          <p:spPr>
            <a:xfrm>
              <a:off x="7913520" y="333360"/>
              <a:ext cx="1230480" cy="107964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6745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ahoma"/>
              </a:rPr>
              <a:t>Различными консультативными службами также отмечено, что желания пострадавших  и переживающих горе, и, соответствующая помощь им, как правило, касается следующих тем:</a:t>
            </a:r>
            <a:endParaRPr b="1" lang="en-US" sz="1600" spc="-1" strike="noStrike">
              <a:solidFill>
                <a:srgbClr val="eaeaea"/>
              </a:solidFill>
              <a:latin typeface="Tahoma"/>
            </a:endParaRPr>
          </a:p>
        </p:txBody>
      </p:sp>
      <p:sp>
        <p:nvSpPr>
          <p:cNvPr id="175"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3"/>
          <p:cNvSpPr>
            <a:spLocks noGrp="1"/>
          </p:cNvSpPr>
          <p:nvPr>
            <p:ph/>
          </p:nvPr>
        </p:nvSpPr>
        <p:spPr>
          <a:xfrm>
            <a:off x="1258560" y="1916280"/>
            <a:ext cx="7561080" cy="4114800"/>
          </a:xfrm>
          <a:prstGeom prst="rect">
            <a:avLst/>
          </a:prstGeom>
          <a:noFill/>
          <a:ln w="0">
            <a:noFill/>
          </a:ln>
        </p:spPr>
        <p:txBody>
          <a:bodyPr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звольте мне просто поговорить»</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Спросите меня о нем, о н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Эти люди хотят говорить об умершем, причине смерти и о своих чувствах в связи с произошедшим. Им хочется долгие часы проводить в воспоминаниям, смеясь и плача. Они хотят рассказать о своей жизни все равно кому, лишь бы их слушали.</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Tahoma"/>
              </a:rPr>
              <a:t> </a:t>
            </a:r>
            <a:r>
              <a:rPr b="1" lang="ru-RU" sz="1800" spc="-1" strike="noStrike">
                <a:solidFill>
                  <a:srgbClr val="ffffff"/>
                </a:solidFill>
                <a:latin typeface="Tahoma"/>
              </a:rPr>
              <a:t>«Поддержите меня и позвольте мне выплакатьс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Прикосновение – это чудо терапии. Так мы выражаем чувства заботы и внимани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е пугайтесь моего молчани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Бывают случаи, когда нет нужды заполнять тишину словами. </a:t>
            </a:r>
            <a:endParaRPr b="0" lang="en-US" sz="1800" spc="-1" strike="noStrike">
              <a:solidFill>
                <a:srgbClr val="ffffff"/>
              </a:solidFill>
              <a:latin typeface="Tahoma"/>
            </a:endParaRPr>
          </a:p>
        </p:txBody>
      </p:sp>
      <p:grpSp>
        <p:nvGrpSpPr>
          <p:cNvPr id="177" name="Group 4"/>
          <p:cNvGrpSpPr/>
          <p:nvPr/>
        </p:nvGrpSpPr>
        <p:grpSpPr>
          <a:xfrm>
            <a:off x="7913520" y="260280"/>
            <a:ext cx="1230480" cy="1197000"/>
            <a:chOff x="7913520" y="260280"/>
            <a:chExt cx="1230480" cy="1197000"/>
          </a:xfrm>
        </p:grpSpPr>
        <p:sp>
          <p:nvSpPr>
            <p:cNvPr id="178" name="Rectangle 5"/>
            <p:cNvSpPr/>
            <p:nvPr/>
          </p:nvSpPr>
          <p:spPr>
            <a:xfrm>
              <a:off x="8145000" y="58284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9" name="Picture 6" descr="эмблема 2 "/>
            <p:cNvPicPr/>
            <p:nvPr/>
          </p:nvPicPr>
          <p:blipFill>
            <a:blip r:embed="rId1"/>
            <a:stretch/>
          </p:blipFill>
          <p:spPr>
            <a:xfrm>
              <a:off x="7913520" y="260280"/>
              <a:ext cx="123048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16000" y="475920"/>
            <a:ext cx="66960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ля «работы»  с горем приемлемы следующие рекомендации:</a:t>
            </a:r>
            <a:endParaRPr b="1" lang="en-US" sz="2000" spc="-1" strike="noStrike">
              <a:solidFill>
                <a:srgbClr val="eaeaea"/>
              </a:solidFill>
              <a:latin typeface="Tahoma"/>
            </a:endParaRPr>
          </a:p>
        </p:txBody>
      </p:sp>
      <p:sp>
        <p:nvSpPr>
          <p:cNvPr id="181"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2" name="PlaceHolder 3"/>
          <p:cNvSpPr>
            <a:spLocks noGrp="1"/>
          </p:cNvSpPr>
          <p:nvPr>
            <p:ph/>
          </p:nvPr>
        </p:nvSpPr>
        <p:spPr>
          <a:xfrm>
            <a:off x="1186920" y="2060280"/>
            <a:ext cx="7440840" cy="4537080"/>
          </a:xfrm>
          <a:prstGeom prst="rect">
            <a:avLst/>
          </a:prstGeom>
          <a:noFill/>
          <a:ln w="0">
            <a:noFill/>
          </a:ln>
        </p:spPr>
        <p:txBody>
          <a:bodyPr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мите свое горе. Примите с готовностью телесные и эмоциональные последствия смерти любимого человека. Скорбь является ценой, которую Вы платите за любовь. На принятие может уйти много времени, но будьте настойчивы в стараниях.</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оявляйте свои чувства, не скрывайте отчаяния, плачьте, смейтесь, не игнорируйте своих эмоциональных потребностей.</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Следите за своим здоровьем, по возможности хорошо питайтесь ибо Ваше тело после истощающего переживания нуждается в подкреплении. Депрессия может уменьшиться при соответствующей подвижности.</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Уравновесьте работу и отдых.</a:t>
            </a:r>
            <a:endParaRPr b="0" lang="en-US" sz="2000" spc="-1" strike="noStrike">
              <a:solidFill>
                <a:srgbClr val="ffffff"/>
              </a:solidFill>
              <a:latin typeface="Tahoma"/>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Пройдите медицинское обследование и расскажите врачу о потере.</a:t>
            </a:r>
            <a:endParaRPr b="0" lang="en-US" sz="2000" spc="-1" strike="noStrike">
              <a:solidFill>
                <a:srgbClr val="ffffff"/>
              </a:solidFill>
              <a:latin typeface="Tahoma"/>
            </a:endParaRPr>
          </a:p>
        </p:txBody>
      </p:sp>
      <p:grpSp>
        <p:nvGrpSpPr>
          <p:cNvPr id="183" name="Group 4"/>
          <p:cNvGrpSpPr/>
          <p:nvPr/>
        </p:nvGrpSpPr>
        <p:grpSpPr>
          <a:xfrm>
            <a:off x="7913520" y="189000"/>
            <a:ext cx="1230480" cy="1197000"/>
            <a:chOff x="7913520" y="189000"/>
            <a:chExt cx="1230480" cy="1197000"/>
          </a:xfrm>
        </p:grpSpPr>
        <p:sp>
          <p:nvSpPr>
            <p:cNvPr id="184" name="Rectangle 5"/>
            <p:cNvSpPr/>
            <p:nvPr/>
          </p:nvSpPr>
          <p:spPr>
            <a:xfrm>
              <a:off x="814500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5" name="Picture 6" descr="эмблема 2 "/>
            <p:cNvPicPr/>
            <p:nvPr/>
          </p:nvPicPr>
          <p:blipFill>
            <a:blip r:embed="rId1"/>
            <a:stretch/>
          </p:blipFill>
          <p:spPr>
            <a:xfrm>
              <a:off x="7913520" y="189000"/>
              <a:ext cx="123048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475920"/>
            <a:ext cx="66960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ля «работы»  с горем приемлемы следующие рекомендации:</a:t>
            </a:r>
            <a:endParaRPr b="1" lang="en-US" sz="2000" spc="-1" strike="noStrike">
              <a:solidFill>
                <a:srgbClr val="eaeaea"/>
              </a:solidFill>
              <a:latin typeface="Tahoma"/>
            </a:endParaRPr>
          </a:p>
        </p:txBody>
      </p:sp>
      <p:sp>
        <p:nvSpPr>
          <p:cNvPr id="18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8" name="PlaceHolder 3"/>
          <p:cNvSpPr>
            <a:spLocks noGrp="1"/>
          </p:cNvSpPr>
          <p:nvPr>
            <p:ph/>
          </p:nvPr>
        </p:nvSpPr>
        <p:spPr>
          <a:xfrm>
            <a:off x="1186920" y="2060280"/>
            <a:ext cx="7440840" cy="4537080"/>
          </a:xfrm>
          <a:prstGeom prst="rect">
            <a:avLst/>
          </a:prstGeom>
          <a:noFill/>
          <a:ln w="0">
            <a:noFill/>
          </a:ln>
        </p:spPr>
        <p:txBody>
          <a:bodyPr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роявите к себе терпение. Вашему уму, телу и душе потребуется време и усилие для восстановления после перенесенной трагедии.</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оделитесь болью утраты с друзьями.</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Став на путь молчания, Вы отказываете друзьям в возможности выслушивать Вас и разделить Ваши чувства и обрекаете себя на еще большую изоляцию и одиночество.</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осетите людей, находящихся в горе.</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Можно искать утешение в религии. Скорбь – духовный поиск.</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омогайте другим.</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Делайте сегодня то, что необходимо, но отложите важные решения. Начните с малого. Это поможет Вам восстановить чувство уверенности. Возздержитесь от продажи дома и смены работы.</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Примите решение Вновь Начать Жизнь.  Держитесь за надежду. Восстановление не наступает в течение одной ноч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89" name="Group 5"/>
          <p:cNvGrpSpPr/>
          <p:nvPr/>
        </p:nvGrpSpPr>
        <p:grpSpPr>
          <a:xfrm>
            <a:off x="7913520" y="189000"/>
            <a:ext cx="1230480" cy="1197000"/>
            <a:chOff x="7913520" y="189000"/>
            <a:chExt cx="1230480" cy="1197000"/>
          </a:xfrm>
        </p:grpSpPr>
        <p:sp>
          <p:nvSpPr>
            <p:cNvPr id="190" name="Rectangle 6"/>
            <p:cNvSpPr/>
            <p:nvPr/>
          </p:nvSpPr>
          <p:spPr>
            <a:xfrm>
              <a:off x="814500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1" name="Picture 7" descr="эмблема 2 "/>
            <p:cNvPicPr/>
            <p:nvPr/>
          </p:nvPicPr>
          <p:blipFill>
            <a:blip r:embed="rId1"/>
            <a:stretch/>
          </p:blipFill>
          <p:spPr>
            <a:xfrm>
              <a:off x="7913520" y="189000"/>
              <a:ext cx="123048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64119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етское понимание горя.</a:t>
            </a:r>
            <a:endParaRPr b="1" lang="en-US" sz="2000" spc="-1" strike="noStrike">
              <a:solidFill>
                <a:srgbClr val="eaeaea"/>
              </a:solidFill>
              <a:latin typeface="Tahoma"/>
            </a:endParaRPr>
          </a:p>
        </p:txBody>
      </p:sp>
      <p:sp>
        <p:nvSpPr>
          <p:cNvPr id="193" name="PlaceHolder 2"/>
          <p:cNvSpPr>
            <a:spLocks noGrp="1"/>
          </p:cNvSpPr>
          <p:nvPr>
            <p:ph/>
          </p:nvPr>
        </p:nvSpPr>
        <p:spPr>
          <a:xfrm>
            <a:off x="1066320" y="1484280"/>
            <a:ext cx="7543800" cy="4611600"/>
          </a:xfrm>
          <a:prstGeom prst="rect">
            <a:avLst/>
          </a:prstGeom>
          <a:noFill/>
          <a:ln w="0">
            <a:noFill/>
          </a:ln>
        </p:spPr>
        <p:txBody>
          <a:bodyPr anchor="t">
            <a:normAutofit fontScale="93000"/>
          </a:bodyPr>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ское понимание горя соответствует умственному развитию ребенка и формируется постепенно.</a:t>
            </a:r>
            <a:endParaRPr b="0" lang="en-US" sz="1800" spc="-1" strike="noStrike">
              <a:solidFill>
                <a:srgbClr val="ffffff"/>
              </a:solidFill>
              <a:latin typeface="Tahoma"/>
            </a:endParaRPr>
          </a:p>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и не понимают, что смерть окончательна, и поэтому думают, что тот, кто умер, может вернуться или можно пойти к нему в гости.</a:t>
            </a:r>
            <a:endParaRPr b="0" lang="en-US" sz="1800" spc="-1" strike="noStrike">
              <a:solidFill>
                <a:srgbClr val="ffffff"/>
              </a:solidFill>
              <a:latin typeface="Tahoma"/>
            </a:endParaRPr>
          </a:p>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достаточное понимание смерти наблюдается у детей до 5 лет. Можно неверно истолковать все реакции детей и воспринять их как отрицание произошедшего, но они являются  свидетельством недостаточного опыта.</a:t>
            </a:r>
            <a:endParaRPr b="0" lang="en-US" sz="1800" spc="-1" strike="noStrike">
              <a:solidFill>
                <a:srgbClr val="ffffff"/>
              </a:solidFill>
              <a:latin typeface="Tahoma"/>
            </a:endParaRPr>
          </a:p>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и, так же как взрослые, принимают действительность постепенно и колеблются между отрицанием и принятие того, что произошло. Детям дошкольного возраста нужно еще и еще раз говорить, что тот, кто умер, ушел и не придет обратно. Дети должны знать, что умерший человек не дышит, что его сердце не бьется, что умерший не может думать,  не чувствует никакой боли, холода, жары, что у него не растут волосы и ногти, что он не может быть голодным, что ему не страшно.</a:t>
            </a:r>
            <a:endParaRPr b="0" lang="en-US" sz="1800" spc="-1" strike="noStrike">
              <a:solidFill>
                <a:srgbClr val="ffffff"/>
              </a:solidFill>
              <a:latin typeface="Tahoma"/>
            </a:endParaRPr>
          </a:p>
          <a:p>
            <a:pPr marL="318960" indent="-31896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 ребенка, ждущего и надеющегося на возвращение умершего, может возникнуть чувство вины (плохо  себя веду), обида (про меня забыли), злость (у других не так) и  другие  негативные  чувства.</a:t>
            </a:r>
            <a:endParaRPr b="0" lang="en-US" sz="1800" spc="-1" strike="noStrike">
              <a:solidFill>
                <a:srgbClr val="ffffff"/>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94" name="Group 4"/>
          <p:cNvGrpSpPr/>
          <p:nvPr/>
        </p:nvGrpSpPr>
        <p:grpSpPr>
          <a:xfrm>
            <a:off x="7667640" y="189000"/>
            <a:ext cx="1230120" cy="1197000"/>
            <a:chOff x="7667640" y="189000"/>
            <a:chExt cx="1230120" cy="1197000"/>
          </a:xfrm>
        </p:grpSpPr>
        <p:sp>
          <p:nvSpPr>
            <p:cNvPr id="195"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6"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04560"/>
            <a:ext cx="64785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етское понимание горя.</a:t>
            </a:r>
            <a:endParaRPr b="1" lang="en-US" sz="2000" spc="-1" strike="noStrike">
              <a:solidFill>
                <a:srgbClr val="eaeaea"/>
              </a:solidFill>
              <a:latin typeface="Tahoma"/>
            </a:endParaRPr>
          </a:p>
        </p:txBody>
      </p:sp>
      <p:sp>
        <p:nvSpPr>
          <p:cNvPr id="198" name="PlaceHolder 2"/>
          <p:cNvSpPr>
            <a:spLocks noGrp="1"/>
          </p:cNvSpPr>
          <p:nvPr>
            <p:ph/>
          </p:nvPr>
        </p:nvSpPr>
        <p:spPr>
          <a:xfrm>
            <a:off x="395280" y="1484280"/>
            <a:ext cx="8215200" cy="5113440"/>
          </a:xfrm>
          <a:prstGeom prst="rect">
            <a:avLst/>
          </a:prstGeom>
          <a:noFill/>
          <a:ln w="0">
            <a:noFill/>
          </a:ln>
        </p:spPr>
        <p:txBody>
          <a:bodyPr anchor="t">
            <a:normAutofit fontScale="98000"/>
          </a:bodyPr>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гда мы говорим с  очень маленькими детьми, надо помнить, что им трудно понимать абстрактные объяснения.</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 детей в возрасте между  5 и 10 годами постепенно развивается понимание, что смерть окончательна и что все земные функции прекращаются, когда человек умирает. Потом они уясняют, что смерть неизбежна, что все – они в том числе, умрут.  Как и совсем маленьким детям им необходимы конкретные вещи: фотоальбом, видеозаписи, могила и т.д.</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10 годам дети лучше понимают, какие последствия несет за собой смерть, и больше думают о том. Что происходит после смерти. Они задумываются над смыслом того, что произошло, и заняты мыслями о несправедливости смерти.</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ям 10 лет и старше, особенно мальчикам, часто бывает трудно показать  свои чувства, вызванные смертным случаем.</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и могут переживать горе по – разному на разных возрастных уровнях, поскольку понимание смерти приходит постепенно. Внезапно у них может возникнуть желание говорить о смерти, даже если в течение долгого времени они казались абсолютно равнодушными. На это нужно смотреть не как на шаг назад, а как на возможность нового и более зрелого переживания и понимания жизни.</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99" name="Group 4"/>
          <p:cNvGrpSpPr/>
          <p:nvPr/>
        </p:nvGrpSpPr>
        <p:grpSpPr>
          <a:xfrm>
            <a:off x="7667640" y="189000"/>
            <a:ext cx="1230120" cy="1197000"/>
            <a:chOff x="7667640" y="189000"/>
            <a:chExt cx="1230120" cy="1197000"/>
          </a:xfrm>
        </p:grpSpPr>
        <p:sp>
          <p:nvSpPr>
            <p:cNvPr id="200"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01"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6346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Детские реакции на горе</a:t>
            </a:r>
            <a:endParaRPr b="1" lang="en-US" sz="20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Когда дети узнают о чье – либо смерти, у них могут возникнуть чувства нереальности и сомнения. И тогда они вообще не показывают никаких сильных чувств. Иногда их реакция выражается протестом, слезами и озабоченностью.</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В первое время  после смерти близкого человека у детей можно наблюдать следующие реакции:</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ильный страх нахождения вдали от взрослых, желание всегда быть со своими родителями; проблема со сном;</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злобленность, раздражительность или другой тип поведения, привлекающий к себе внимание;</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мкнутость, изоляция;</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чаль, тоска, чувство потери;</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учительные воспоминания и фантазии.</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4" name="Group 4"/>
          <p:cNvGrpSpPr/>
          <p:nvPr/>
        </p:nvGrpSpPr>
        <p:grpSpPr>
          <a:xfrm>
            <a:off x="7667640" y="189000"/>
            <a:ext cx="1230120" cy="1197000"/>
            <a:chOff x="7667640" y="189000"/>
            <a:chExt cx="1230120" cy="1197000"/>
          </a:xfrm>
        </p:grpSpPr>
        <p:sp>
          <p:nvSpPr>
            <p:cNvPr id="205"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06"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04560"/>
            <a:ext cx="64785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Дети переживают горе не каким – то определенным образом, а реагируют на него по – разному. Вот несколько самых обычных реакций.</a:t>
            </a:r>
            <a:endParaRPr b="1" lang="en-US" sz="1800" spc="-1" strike="noStrike">
              <a:solidFill>
                <a:srgbClr val="eaeaea"/>
              </a:solidFill>
              <a:latin typeface="Tahoma"/>
            </a:endParaRPr>
          </a:p>
        </p:txBody>
      </p:sp>
      <p:sp>
        <p:nvSpPr>
          <p:cNvPr id="208" name="PlaceHolder 2"/>
          <p:cNvSpPr>
            <a:spLocks noGrp="1"/>
          </p:cNvSpPr>
          <p:nvPr>
            <p:ph/>
          </p:nvPr>
        </p:nvSpPr>
        <p:spPr>
          <a:xfrm>
            <a:off x="1042560" y="1989000"/>
            <a:ext cx="754380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1. </a:t>
            </a:r>
            <a:r>
              <a:rPr b="1" lang="ru-RU" sz="1600" spc="-1" strike="noStrike">
                <a:solidFill>
                  <a:srgbClr val="ffffff"/>
                </a:solidFill>
                <a:latin typeface="Tahoma"/>
              </a:rPr>
              <a:t>Тревожность.</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Смерь легко вызывает страх, что произойдет еще одна катастрофа.</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ети разных возрастов могут испытывать страх за жизнь своих родителей.</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огут возникнуть постоянная бдительность  и напряжение, и как результат –боли в животе, плечах, шее, голове.</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аленькие дети могут прижиматься постоянно к родителям, не отпускать  их ни на минуту.</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Часто хотят спать с зажженной лампой и открытой дверью, чтобы видеть, что взрослые рядом.</a:t>
            </a:r>
            <a:endParaRPr b="0" lang="en-US" sz="1600" spc="-1" strike="noStrike">
              <a:solidFill>
                <a:srgbClr val="ffffff"/>
              </a:solidFill>
              <a:latin typeface="Tahoma"/>
            </a:endParaRPr>
          </a:p>
          <a:p>
            <a:pPr marL="343080" indent="-34308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смерть произошла при ребенке или он первый обнаружил умершего, он может пугаться каждый раз, когда что – то напоминает о случившемся.</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9" name="Group 4"/>
          <p:cNvGrpSpPr/>
          <p:nvPr/>
        </p:nvGrpSpPr>
        <p:grpSpPr>
          <a:xfrm>
            <a:off x="7667640" y="189000"/>
            <a:ext cx="1230120" cy="1197000"/>
            <a:chOff x="7667640" y="189000"/>
            <a:chExt cx="1230120" cy="1197000"/>
          </a:xfrm>
        </p:grpSpPr>
        <p:sp>
          <p:nvSpPr>
            <p:cNvPr id="210"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1"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04560"/>
            <a:ext cx="64785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Дети переживают горе не каким – то определенным образом, а реагируют на него по – разному. Вот несколько самых обычных реакций.</a:t>
            </a:r>
            <a:endParaRPr b="1" lang="en-US" sz="18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400" spc="-1" strike="noStrike">
                <a:solidFill>
                  <a:srgbClr val="ffffff"/>
                </a:solidFill>
                <a:latin typeface="Tahoma"/>
              </a:rPr>
              <a:t>2. </a:t>
            </a:r>
            <a:r>
              <a:rPr b="1" lang="ru-RU" sz="1400" spc="-1" strike="noStrike">
                <a:solidFill>
                  <a:srgbClr val="ffffff"/>
                </a:solidFill>
                <a:latin typeface="Tahoma"/>
              </a:rPr>
              <a:t>Замкнутость, изоляция и проблемы концентрации внимания.</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первое время необходимо проследить, не замыкается ли ребенок в себе. </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Это может быть знаком его борьбы с мыслями и чувствами, с которыми ему нелегко справиться самому.</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Если к тому же ухудшаются  результаты в школе, есть причины, чтобы обратиться за консультацией к специалисту.</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3. </a:t>
            </a:r>
            <a:r>
              <a:rPr b="1" lang="ru-RU" sz="1400" spc="-1" strike="noStrike">
                <a:solidFill>
                  <a:srgbClr val="ffffff"/>
                </a:solidFill>
                <a:latin typeface="Tahoma"/>
              </a:rPr>
              <a:t>Печаль, тоска.</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Горе не измеряется слезами, и дети тоскуют не так долго, как взрослые. Но они могут продолжать думать о мертвом еще долго и чувствовать печаль и тоску.</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ети очень скучают и у них может возникнуть желание вернуться в те места, где они были вместе раньше, или трогать, нюхать его одежду, разглядывать фотографии, смотреть видеофильмы.</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Когда тоска становится невыносимой, подсознание может воссоздать ушедшего. У ребенка может возникнуть ощущение, что умерший находится в комнате и разговаривает; это может как  напугать, так и успокоить  ребенка. Подготовьте его к этому.</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14" name="Group 4"/>
          <p:cNvGrpSpPr/>
          <p:nvPr/>
        </p:nvGrpSpPr>
        <p:grpSpPr>
          <a:xfrm>
            <a:off x="7667640" y="189000"/>
            <a:ext cx="1230120" cy="1197000"/>
            <a:chOff x="7667640" y="189000"/>
            <a:chExt cx="1230120" cy="1197000"/>
          </a:xfrm>
        </p:grpSpPr>
        <p:sp>
          <p:nvSpPr>
            <p:cNvPr id="215"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6"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04560"/>
            <a:ext cx="561348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Горе – это сильные эмоции, переживаемые в результате потери близкого, любимого человека</a:t>
            </a:r>
            <a:r>
              <a:rPr b="0" lang="ru-RU" sz="2000" spc="-1" strike="noStrike">
                <a:solidFill>
                  <a:srgbClr val="eaeaea"/>
                </a:solidFill>
                <a:latin typeface="Tahoma"/>
              </a:rPr>
              <a:t>.</a:t>
            </a:r>
            <a:endParaRPr b="1" lang="en-US" sz="2000" spc="-1" strike="noStrike">
              <a:solidFill>
                <a:srgbClr val="eaeaea"/>
              </a:solidFill>
              <a:latin typeface="Tahoma"/>
            </a:endParaRPr>
          </a:p>
        </p:txBody>
      </p:sp>
      <p:sp>
        <p:nvSpPr>
          <p:cNvPr id="120" name="PlaceHolder 2"/>
          <p:cNvSpPr>
            <a:spLocks noGrp="1"/>
          </p:cNvSpPr>
          <p:nvPr>
            <p:ph/>
          </p:nvPr>
        </p:nvSpPr>
        <p:spPr>
          <a:xfrm>
            <a:off x="1271160" y="1981080"/>
            <a:ext cx="7194600" cy="4114800"/>
          </a:xfrm>
          <a:prstGeom prst="rect">
            <a:avLst/>
          </a:prstGeom>
          <a:noFill/>
          <a:ln w="0">
            <a:noFill/>
          </a:ln>
        </p:spPr>
        <p:txBody>
          <a:bodyPr anchor="t">
            <a:normAutofit fontScale="99000"/>
          </a:bodyPr>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ffffff"/>
                </a:solidFill>
                <a:uFillTx/>
                <a:latin typeface="Tahoma"/>
              </a:rPr>
              <a:t>Горе</a:t>
            </a:r>
            <a:r>
              <a:rPr b="1" lang="ru-RU" sz="1500" spc="-1" strike="noStrike">
                <a:solidFill>
                  <a:srgbClr val="ffffff"/>
                </a:solidFill>
                <a:latin typeface="Tahoma"/>
              </a:rPr>
              <a:t> – это процесс функциональной необходимости, но не слабости. Это способ, посредством которого человек восстанавливается после ощутимой потери. </a:t>
            </a:r>
            <a:endParaRPr b="0" lang="en-US" sz="1500" spc="-1" strike="noStrike">
              <a:solidFill>
                <a:srgbClr val="ffffff"/>
              </a:solidFill>
              <a:latin typeface="Tahoma"/>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Tahoma"/>
              </a:rPr>
              <a:t> </a:t>
            </a:r>
            <a:r>
              <a:rPr b="1" lang="ru-RU" sz="1500" spc="-1" strike="noStrike">
                <a:solidFill>
                  <a:srgbClr val="ffffff"/>
                </a:solidFill>
                <a:latin typeface="Tahoma"/>
              </a:rPr>
              <a:t>Горе способствует укреплению социальных связей и групповой способности, выполняя, тем самым биологическую и социальную функцию как всякая эмоция или комплекс эмоций. </a:t>
            </a:r>
            <a:endParaRPr b="0" lang="en-US" sz="1500" spc="-1" strike="noStrike">
              <a:solidFill>
                <a:srgbClr val="ffffff"/>
              </a:solidFill>
              <a:latin typeface="Tahoma"/>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Tahoma"/>
              </a:rPr>
              <a:t>Горе заразительно. Именно благодаря своей заразительности оно укрепляет связь между людьми, понесшими тяжелую утрату. </a:t>
            </a:r>
            <a:endParaRPr b="0" lang="en-US" sz="1500" spc="-1" strike="noStrike">
              <a:solidFill>
                <a:srgbClr val="ffffff"/>
              </a:solidFill>
              <a:latin typeface="Tahoma"/>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Tahoma"/>
              </a:rPr>
              <a:t>Горе имеет значение чрезвычайной важности для психологической адаптации индивида. Оно позволяет ему сжиться с утратой, адаптироваться к ней. </a:t>
            </a:r>
            <a:endParaRPr b="0" lang="en-US" sz="1500" spc="-1" strike="noStrike">
              <a:solidFill>
                <a:srgbClr val="ffffff"/>
              </a:solidFill>
              <a:latin typeface="Tahoma"/>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339480" algn="just">
              <a:lnSpc>
                <a:spcPct val="80000"/>
              </a:lnSpc>
              <a:spcBef>
                <a:spcPts val="37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Tahoma"/>
              </a:rPr>
              <a:t>Переживания горя – это всегда стресс и оно побуждает человека к восстановлению личностной автономии. И, хотя преобладающей эмоцией в горе является печаль, горе взаимодействует и с эмоциями страха, гнева, вины и стыда.</a:t>
            </a: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grpSp>
        <p:nvGrpSpPr>
          <p:cNvPr id="121" name="Group 4"/>
          <p:cNvGrpSpPr/>
          <p:nvPr/>
        </p:nvGrpSpPr>
        <p:grpSpPr>
          <a:xfrm>
            <a:off x="7667640" y="189000"/>
            <a:ext cx="1230120" cy="1197000"/>
            <a:chOff x="7667640" y="189000"/>
            <a:chExt cx="1230120" cy="1197000"/>
          </a:xfrm>
        </p:grpSpPr>
        <p:sp>
          <p:nvSpPr>
            <p:cNvPr id="122"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3" name="Picture 6" descr="эмблема 2 "/>
            <p:cNvPicPr/>
            <p:nvPr/>
          </p:nvPicPr>
          <p:blipFill>
            <a:blip r:embed="rId1"/>
            <a:stretch/>
          </p:blipFill>
          <p:spPr>
            <a:xfrm>
              <a:off x="7667640" y="189000"/>
              <a:ext cx="1230120" cy="1197000"/>
            </a:xfrm>
            <a:prstGeom prst="rect">
              <a:avLst/>
            </a:prstGeom>
            <a:ln w="0">
              <a:noFill/>
            </a:ln>
          </p:spPr>
        </p:pic>
      </p:gr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9">
                                  <p:stCondLst>
                                    <p:cond delay="0"/>
                                  </p:stCondLst>
                                  <p:childTnLst>
                                    <p:set>
                                      <p:cBhvr>
                                        <p:cTn id="36" dur="1" fill="hold">
                                          <p:stCondLst>
                                            <p:cond delay="0"/>
                                          </p:stCondLst>
                                        </p:cTn>
                                        <p:tgtEl>
                                          <p:spTgt spid="119"/>
                                        </p:tgtEl>
                                        <p:attrNameLst>
                                          <p:attrName>style.visibility</p:attrName>
                                        </p:attrNameLst>
                                      </p:cBhvr>
                                      <p:to>
                                        <p:strVal val="visible"/>
                                      </p:to>
                                    </p:set>
                                    <p:anim calcmode="lin" valueType="num">
                                      <p:cBhvr additive="repl">
                                        <p:cTn id="37" dur="1000" fill="hold"/>
                                        <p:tgtEl>
                                          <p:spTgt spid="119"/>
                                        </p:tgtEl>
                                        <p:attrNameLst>
                                          <p:attrName>ppt_x</p:attrName>
                                        </p:attrNameLst>
                                      </p:cBhvr>
                                      <p:tavLst>
                                        <p:tav tm="0">
                                          <p:val>
                                            <p:strVal val="#ppt_x-.2"/>
                                          </p:val>
                                        </p:tav>
                                        <p:tav tm="100000">
                                          <p:val>
                                            <p:strVal val="#ppt_x"/>
                                          </p:val>
                                        </p:tav>
                                      </p:tavLst>
                                    </p:anim>
                                    <p:anim calcmode="lin" valueType="num">
                                      <p:cBhvr additive="repl">
                                        <p:cTn id="38"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39" dur="1000"/>
                                        <p:tgtEl>
                                          <p:spTgt spid="11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4" dur="500"/>
                                        <p:tgtEl>
                                          <p:spTgt spid="120">
                                            <p:txEl>
                                              <p:pRg st="0" end="0"/>
                                            </p:txEl>
                                          </p:spTgt>
                                        </p:tgtEl>
                                      </p:cBhvr>
                                    </p:animEffect>
                                    <p:anim calcmode="lin" valueType="num">
                                      <p:cBhvr additive="repl">
                                        <p:cTn id="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120">
                                            <p:txEl>
                                              <p:pRg st="2" end="2"/>
                                            </p:txEl>
                                          </p:spTgt>
                                        </p:tgtEl>
                                        <p:attrNameLst>
                                          <p:attrName>style.visibility</p:attrName>
                                        </p:attrNameLst>
                                      </p:cBhvr>
                                      <p:to>
                                        <p:strVal val="visible"/>
                                      </p:to>
                                    </p:set>
                                    <p:animEffect filter="fade" transition="in">
                                      <p:cBhvr additive="repl">
                                        <p:cTn id="51" dur="500"/>
                                        <p:tgtEl>
                                          <p:spTgt spid="120">
                                            <p:txEl>
                                              <p:pRg st="2" end="2"/>
                                            </p:txEl>
                                          </p:spTgt>
                                        </p:tgtEl>
                                      </p:cBhvr>
                                    </p:animEffect>
                                    <p:anim calcmode="lin" valueType="num">
                                      <p:cBhvr additive="repl">
                                        <p:cTn id="52"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20">
                                            <p:txEl>
                                              <p:pRg st="4" end="4"/>
                                            </p:txEl>
                                          </p:spTgt>
                                        </p:tgtEl>
                                        <p:attrNameLst>
                                          <p:attrName>style.visibility</p:attrName>
                                        </p:attrNameLst>
                                      </p:cBhvr>
                                      <p:to>
                                        <p:strVal val="visible"/>
                                      </p:to>
                                    </p:set>
                                    <p:animEffect filter="fade" transition="in">
                                      <p:cBhvr additive="repl">
                                        <p:cTn id="58" dur="500"/>
                                        <p:tgtEl>
                                          <p:spTgt spid="120">
                                            <p:txEl>
                                              <p:pRg st="4" end="4"/>
                                            </p:txEl>
                                          </p:spTgt>
                                        </p:tgtEl>
                                      </p:cBhvr>
                                    </p:animEffect>
                                    <p:anim calcmode="lin" valueType="num">
                                      <p:cBhvr additive="repl">
                                        <p:cTn id="59"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2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20">
                                            <p:txEl>
                                              <p:pRg st="6" end="6"/>
                                            </p:txEl>
                                          </p:spTgt>
                                        </p:tgtEl>
                                        <p:attrNameLst>
                                          <p:attrName>style.visibility</p:attrName>
                                        </p:attrNameLst>
                                      </p:cBhvr>
                                      <p:to>
                                        <p:strVal val="visible"/>
                                      </p:to>
                                    </p:set>
                                    <p:animEffect filter="fade" transition="in">
                                      <p:cBhvr additive="repl">
                                        <p:cTn id="65" dur="500"/>
                                        <p:tgtEl>
                                          <p:spTgt spid="120">
                                            <p:txEl>
                                              <p:pRg st="6" end="6"/>
                                            </p:txEl>
                                          </p:spTgt>
                                        </p:tgtEl>
                                      </p:cBhvr>
                                    </p:animEffect>
                                    <p:anim calcmode="lin" valueType="num">
                                      <p:cBhvr additive="repl">
                                        <p:cTn id="66"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20">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120">
                                            <p:txEl>
                                              <p:pRg st="8" end="8"/>
                                            </p:txEl>
                                          </p:spTgt>
                                        </p:tgtEl>
                                        <p:attrNameLst>
                                          <p:attrName>style.visibility</p:attrName>
                                        </p:attrNameLst>
                                      </p:cBhvr>
                                      <p:to>
                                        <p:strVal val="visible"/>
                                      </p:to>
                                    </p:set>
                                    <p:animEffect filter="fade" transition="in">
                                      <p:cBhvr additive="repl">
                                        <p:cTn id="72" dur="500"/>
                                        <p:tgtEl>
                                          <p:spTgt spid="120">
                                            <p:txEl>
                                              <p:pRg st="8" end="8"/>
                                            </p:txEl>
                                          </p:spTgt>
                                        </p:tgtEl>
                                      </p:cBhvr>
                                    </p:animEffect>
                                    <p:anim calcmode="lin" valueType="num">
                                      <p:cBhvr additive="repl">
                                        <p:cTn id="73"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20">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Дети переживают горе не каким – то определенным образом, а реагируют на него по – разному. Вот несколько самых обычных реакций.</a:t>
            </a:r>
            <a:endParaRPr b="1" lang="en-US" sz="1800" spc="-1" strike="noStrike">
              <a:solidFill>
                <a:srgbClr val="eaeaea"/>
              </a:solidFill>
              <a:latin typeface="Tahoma"/>
            </a:endParaRPr>
          </a:p>
        </p:txBody>
      </p:sp>
      <p:sp>
        <p:nvSpPr>
          <p:cNvPr id="218"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9" name="PlaceHolder 3"/>
          <p:cNvSpPr>
            <a:spLocks noGrp="1"/>
          </p:cNvSpPr>
          <p:nvPr>
            <p:ph/>
          </p:nvPr>
        </p:nvSpPr>
        <p:spPr>
          <a:xfrm>
            <a:off x="1116000" y="1981080"/>
            <a:ext cx="7494480" cy="4687920"/>
          </a:xfrm>
          <a:prstGeom prst="rect">
            <a:avLst/>
          </a:prstGeom>
          <a:noFill/>
          <a:ln w="0">
            <a:noFill/>
          </a:ln>
        </p:spPr>
        <p:txBody>
          <a:bodyPr anchor="t">
            <a:normAutofit fontScale="96000"/>
          </a:bodyPr>
          <a:p>
            <a:pPr marL="329040" indent="-32904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4. </a:t>
            </a:r>
            <a:r>
              <a:rPr b="1" lang="ru-RU" sz="1600" spc="-1" strike="noStrike">
                <a:solidFill>
                  <a:srgbClr val="ffffff"/>
                </a:solidFill>
                <a:latin typeface="Tahoma"/>
              </a:rPr>
              <a:t>Вина.</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Большинство детей много думают, почему пришла сметь, что ее вызвало. Иногда  дети думают, что их собственные мысли или действия вызвали смерть. Они могут также возложить вину на родителей. Часто детям трудно найти слова для выражения своих мыслей, поэтому попытайтесь осторожно поговорить с ними, обратите внимание, не свидетельствуют ли игры и рисунки вашего ребенка о чувстве вины.</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5. </a:t>
            </a:r>
            <a:r>
              <a:rPr b="1" lang="ru-RU" sz="1600" spc="-1" strike="noStrike">
                <a:solidFill>
                  <a:srgbClr val="ffffff"/>
                </a:solidFill>
                <a:latin typeface="Tahoma"/>
              </a:rPr>
              <a:t>Гнев.</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Ребенок может испытывать очень сильное чувство гнева, когда любимый человек умирает. Иногда гнев может быть направлен на что – то конкретное или определенного человека. В других случаях ребенок настолько потерян, что он становится тревожным и раздражительным; его поведение можно охарактеризовать как деструктивное. В этом случае гнев может вылиться на вас. Такие вспышки гнева довольно  обычны. Важно, чтобы взрослые допускали их и объясняли, что чувствовать озлобленность, когда кто – то умирает, естественно, сказать ребенку, как он может выражать в таких случаях свои чувства.</a:t>
            </a:r>
            <a:endParaRPr b="0" lang="en-US" sz="1600" spc="-1" strike="noStrike">
              <a:solidFill>
                <a:srgbClr val="ffffff"/>
              </a:solidFill>
              <a:latin typeface="Tahoma"/>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20" name="Group 4"/>
          <p:cNvGrpSpPr/>
          <p:nvPr/>
        </p:nvGrpSpPr>
        <p:grpSpPr>
          <a:xfrm>
            <a:off x="7380360" y="260280"/>
            <a:ext cx="1230120" cy="1197000"/>
            <a:chOff x="7380360" y="260280"/>
            <a:chExt cx="1230120" cy="1197000"/>
          </a:xfrm>
        </p:grpSpPr>
        <p:sp>
          <p:nvSpPr>
            <p:cNvPr id="221" name="Rectangle 5"/>
            <p:cNvSpPr/>
            <p:nvPr/>
          </p:nvSpPr>
          <p:spPr>
            <a:xfrm>
              <a:off x="7611840" y="58284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22" name="Picture 6" descr="эмблема 2 "/>
            <p:cNvPicPr/>
            <p:nvPr/>
          </p:nvPicPr>
          <p:blipFill>
            <a:blip r:embed="rId1"/>
            <a:stretch/>
          </p:blipFill>
          <p:spPr>
            <a:xfrm>
              <a:off x="7380360" y="26028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920" y="333360"/>
            <a:ext cx="6553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Реакции родителей на горе</a:t>
            </a:r>
            <a:endParaRPr b="1" lang="en-US" sz="1800" spc="-1" strike="noStrike">
              <a:solidFill>
                <a:srgbClr val="eaeaea"/>
              </a:solidFill>
              <a:latin typeface="Tahoma"/>
            </a:endParaRPr>
          </a:p>
        </p:txBody>
      </p:sp>
      <p:sp>
        <p:nvSpPr>
          <p:cNvPr id="2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етские реакции на смерть отражают не только их собственное горе и тоску, но и реакции родителей. Ребенку мучительно видеть, как его родители плачут и не заботятся о нем, как обычно.</a:t>
            </a: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 родителей, переживающих горе, остается меньше сил на своих детей. Они часто становятся нетерпеливыми и сердитыми, когда дети требуют их внимания, и пытаются скрыть свои реакции на горе, чтобы защитить ребенка.  Опыт показывает, что ребенок чувствует себя лучше, если родители пытаются  описать свои чувства. Тогда ребенку легче понять реакции своих родителей и легче показать свои чувства и мысли.</a:t>
            </a:r>
            <a:endParaRPr b="0" lang="en-US" sz="1800" spc="-1" strike="noStrike">
              <a:solidFill>
                <a:srgbClr val="ffffff"/>
              </a:solidFill>
              <a:latin typeface="Tahoma"/>
            </a:endParaRPr>
          </a:p>
        </p:txBody>
      </p:sp>
      <p:grpSp>
        <p:nvGrpSpPr>
          <p:cNvPr id="225" name="Group 4"/>
          <p:cNvGrpSpPr/>
          <p:nvPr/>
        </p:nvGrpSpPr>
        <p:grpSpPr>
          <a:xfrm>
            <a:off x="7740720" y="404640"/>
            <a:ext cx="1230120" cy="1197000"/>
            <a:chOff x="7740720" y="404640"/>
            <a:chExt cx="1230120" cy="1197000"/>
          </a:xfrm>
        </p:grpSpPr>
        <p:sp>
          <p:nvSpPr>
            <p:cNvPr id="226" name="Rectangle 5"/>
            <p:cNvSpPr/>
            <p:nvPr/>
          </p:nvSpPr>
          <p:spPr>
            <a:xfrm>
              <a:off x="7972200" y="72720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27" name="Picture 6" descr="эмблема 2 "/>
            <p:cNvPicPr/>
            <p:nvPr/>
          </p:nvPicPr>
          <p:blipFill>
            <a:blip r:embed="rId1"/>
            <a:stretch/>
          </p:blipFill>
          <p:spPr>
            <a:xfrm>
              <a:off x="7740720" y="40464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920" y="304560"/>
            <a:ext cx="6502320" cy="143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eaeaea"/>
                </a:solidFill>
                <a:uFillTx/>
                <a:latin typeface="Tahoma"/>
              </a:rPr>
              <a:t>Потеря, сопровождающая смерть близкого человека</a:t>
            </a:r>
            <a:r>
              <a:rPr b="1" lang="ru-RU" sz="1600" spc="-1" strike="noStrike">
                <a:solidFill>
                  <a:srgbClr val="eaeaea"/>
                </a:solidFill>
                <a:latin typeface="Tahoma"/>
              </a:rPr>
              <a:t> – довольно сложный и длительный процесс, в котором выделяют следующие критические моменты.</a:t>
            </a:r>
            <a:endParaRPr b="1" lang="en-US" sz="1600" spc="-1" strike="noStrike">
              <a:solidFill>
                <a:srgbClr val="eaeaea"/>
              </a:solidFill>
              <a:latin typeface="Tahoma"/>
            </a:endParaRPr>
          </a:p>
        </p:txBody>
      </p:sp>
      <p:sp>
        <p:nvSpPr>
          <p:cNvPr id="125" name="PlaceHolder 2"/>
          <p:cNvSpPr>
            <a:spLocks noGrp="1"/>
          </p:cNvSpPr>
          <p:nvPr>
            <p:ph/>
          </p:nvPr>
        </p:nvSpPr>
        <p:spPr>
          <a:xfrm>
            <a:off x="1066680" y="1981080"/>
            <a:ext cx="3702240" cy="41148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6" name="PlaceHolder 3"/>
          <p:cNvSpPr>
            <a:spLocks noGrp="1"/>
          </p:cNvSpPr>
          <p:nvPr>
            <p:ph/>
          </p:nvPr>
        </p:nvSpPr>
        <p:spPr>
          <a:xfrm>
            <a:off x="1076400" y="1981080"/>
            <a:ext cx="753408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ервые 48 часов</a:t>
            </a:r>
            <a:r>
              <a:rPr b="0" lang="ru-RU" sz="1600" spc="-1" strike="noStrike">
                <a:solidFill>
                  <a:srgbClr val="ffffff"/>
                </a:solidFill>
                <a:latin typeface="Tahoma"/>
              </a:rPr>
              <a:t> - шок от перенесенной утраты и отказ поверить в потерю могут быть очень сильными в первые часы. Эмоционально это иногда выражается в страхе потерять членов семьи и друзей.</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ервая неделя</a:t>
            </a:r>
            <a:r>
              <a:rPr b="0" lang="ru-RU" sz="1600" spc="-1" strike="noStrike">
                <a:solidFill>
                  <a:srgbClr val="ffffff"/>
                </a:solidFill>
                <a:latin typeface="Tahoma"/>
              </a:rPr>
              <a:t> – необходимость проведения похорон и другие хлопоты занимают все мысли, и чувство утраты может быть переносимым чисто автоматически. Оно может сопровождаться ощущением упадка и эмоционального или физического истощения.</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2 – 5 недель</a:t>
            </a:r>
            <a:r>
              <a:rPr b="0" lang="ru-RU" sz="1600" spc="-1" strike="noStrike">
                <a:solidFill>
                  <a:srgbClr val="ffffff"/>
                </a:solidFill>
                <a:latin typeface="Tahoma"/>
              </a:rPr>
              <a:t> – здесь преобладает чувство покинутости, как семьей, так и друзьями. Что касается работы, то начальство ожидает в этот период, что человек, перенесший утрату, вполне справился со своими переживаниями и может, как и прежде, выполнять свою работу. </a:t>
            </a:r>
            <a:endParaRPr b="0" lang="en-US" sz="16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Последствия шока все еще сильны, но могут появляться ощущения, что все не так плохо и жизнь возвращается</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7" name="Text Box 6"/>
          <p:cNvSpPr/>
          <p:nvPr/>
        </p:nvSpPr>
        <p:spPr>
          <a:xfrm>
            <a:off x="755640" y="184464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8" name="Group 8"/>
          <p:cNvGrpSpPr/>
          <p:nvPr/>
        </p:nvGrpSpPr>
        <p:grpSpPr>
          <a:xfrm>
            <a:off x="7667640" y="189000"/>
            <a:ext cx="1230120" cy="1197000"/>
            <a:chOff x="7667640" y="189000"/>
            <a:chExt cx="1230120" cy="1197000"/>
          </a:xfrm>
        </p:grpSpPr>
        <p:sp>
          <p:nvSpPr>
            <p:cNvPr id="129" name="Rectangle 9"/>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0" name="Picture 10" descr="эмблема 2 "/>
            <p:cNvPicPr/>
            <p:nvPr/>
          </p:nvPicPr>
          <p:blipFill>
            <a:blip r:embed="rId1"/>
            <a:stretch/>
          </p:blipFill>
          <p:spPr>
            <a:xfrm>
              <a:off x="7667640" y="189000"/>
              <a:ext cx="1230120" cy="119700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066680" y="1981080"/>
            <a:ext cx="3702240" cy="4114800"/>
          </a:xfrm>
          <a:prstGeom prst="rect">
            <a:avLst/>
          </a:prstGeom>
          <a:noFill/>
          <a:ln w="0">
            <a:noFill/>
          </a:ln>
        </p:spPr>
        <p:txBody>
          <a:bodyPr anchor="t">
            <a:normAutofit/>
          </a:bodyPr>
          <a:p>
            <a:pPr marL="343080" indent="0" algn="ctr">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PlaceHolder 2"/>
          <p:cNvSpPr>
            <a:spLocks noGrp="1"/>
          </p:cNvSpPr>
          <p:nvPr>
            <p:ph/>
          </p:nvPr>
        </p:nvSpPr>
        <p:spPr>
          <a:xfrm>
            <a:off x="1115640" y="1341360"/>
            <a:ext cx="7467480" cy="4687920"/>
          </a:xfrm>
          <a:prstGeom prst="rect">
            <a:avLst/>
          </a:prstGeom>
          <a:noFill/>
          <a:ln w="0">
            <a:noFill/>
          </a:ln>
        </p:spPr>
        <p:txBody>
          <a:bodyPr anchor="t">
            <a:normAutofit fontScale="95000"/>
          </a:bodyPr>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6 – 12 недель</a:t>
            </a:r>
            <a:r>
              <a:rPr b="0" lang="ru-RU" sz="1400" spc="-1" strike="noStrike">
                <a:solidFill>
                  <a:srgbClr val="ffffff"/>
                </a:solidFill>
                <a:latin typeface="Tahoma"/>
              </a:rPr>
              <a:t> – на этой стадии снимаются все последствия шока и осознается реальность потери. Спектр переживаемых эмоций достаточно широк. Человек чувствует утрату и плохо контролирует себя. Сильные изменения сна, панический страх (часто паранойя). Изменения аппетита, сопровождающиеся значительной потерей или приобретением веса. Приступы необъяснимого плача, усталость и общая слабость, мышечный тремор, резкие смены настроения, неспособность сосредоточиться и вспомнить что-либо. Изменения сексуальной потребности, недостаточная мотивация, физические симптомы страдания, необходимость все время говорить об умершем, сильное желание уединиться.</a:t>
            </a:r>
            <a:endParaRPr b="0" lang="en-US" sz="14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3 – 4 месяца</a:t>
            </a:r>
            <a:r>
              <a:rPr b="0" lang="ru-RU" sz="1400" spc="-1" strike="noStrike">
                <a:solidFill>
                  <a:srgbClr val="ffffff"/>
                </a:solidFill>
                <a:latin typeface="Tahoma"/>
              </a:rPr>
              <a:t> – начинается цикл хороших и плохих дней. Повышается раздражительность, снижается терпимость, не исключаются вербальное и физическое выражение гнева, ощущение эмоциональной регрессии, рост соматических жалоб, особенно инфекционного и простудного характера из-за подавленной иммунной системы.</a:t>
            </a:r>
            <a:endParaRPr b="0" lang="en-US" sz="14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6 месяцев</a:t>
            </a:r>
            <a:r>
              <a:rPr b="0" lang="ru-RU" sz="1400" spc="-1" strike="noStrike">
                <a:solidFill>
                  <a:srgbClr val="ffffff"/>
                </a:solidFill>
                <a:latin typeface="Tahoma"/>
              </a:rPr>
              <a:t> – с наступлением 6-месячного срока начинается депрессия, ослабевает тяжесть пережитого, но не эмоции. Годовщины, юбилеи, праздники – особенно тяжкие, они вновь несут с собой депрессию.</a:t>
            </a:r>
            <a:endParaRPr b="0" lang="en-US" sz="14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2 месяцев</a:t>
            </a:r>
            <a:r>
              <a:rPr b="0" lang="ru-RU" sz="1400" spc="-1" strike="noStrike">
                <a:solidFill>
                  <a:srgbClr val="ffffff"/>
                </a:solidFill>
                <a:latin typeface="Tahoma"/>
              </a:rPr>
              <a:t> – первая годовщина смерти может быть либо травмирующей, либо переломной в зависимости от последствий, пережитых за год страданий.</a:t>
            </a:r>
            <a:endParaRPr b="0" lang="en-US" sz="1400" spc="-1" strike="noStrike">
              <a:solidFill>
                <a:srgbClr val="ffffff"/>
              </a:solidFill>
              <a:latin typeface="Tahoma"/>
            </a:endParaRPr>
          </a:p>
          <a:p>
            <a:pPr marL="325800" indent="-3258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8 - 24 месяца</a:t>
            </a:r>
            <a:r>
              <a:rPr b="0" lang="ru-RU" sz="1400" spc="-1" strike="noStrike">
                <a:solidFill>
                  <a:srgbClr val="ffffff"/>
                </a:solidFill>
                <a:latin typeface="Tahoma"/>
              </a:rPr>
              <a:t> – это время «рассасывания». Боль потери становится терпимой, и человек, переживший утрату близкого, вновь возвращается к прежней жизни. Здесь происходит эмоциональное прощение с умершим. Осознание того, что поскольку этого человека забыть невозможно, то больше нет необходимости наполнять болью утраты все свою жизнь. Именно в этот период жизни из словарного запаса уходят такие слова, как потеря, боль утраты и т. д.</a:t>
            </a:r>
            <a:endParaRPr b="0" lang="en-US" sz="1400" spc="-1" strike="noStrike">
              <a:solidFill>
                <a:srgbClr val="ffffff"/>
              </a:solidFill>
              <a:latin typeface="Tahoma"/>
            </a:endParaRPr>
          </a:p>
        </p:txBody>
      </p:sp>
      <p:grpSp>
        <p:nvGrpSpPr>
          <p:cNvPr id="133" name="Group 4"/>
          <p:cNvGrpSpPr/>
          <p:nvPr/>
        </p:nvGrpSpPr>
        <p:grpSpPr>
          <a:xfrm>
            <a:off x="7667640" y="189000"/>
            <a:ext cx="1230120" cy="1197000"/>
            <a:chOff x="7667640" y="189000"/>
            <a:chExt cx="1230120" cy="1197000"/>
          </a:xfrm>
        </p:grpSpPr>
        <p:sp>
          <p:nvSpPr>
            <p:cNvPr id="134"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5" name="Picture 6" descr="эмблема 2 "/>
            <p:cNvPicPr/>
            <p:nvPr/>
          </p:nvPicPr>
          <p:blipFill>
            <a:blip r:embed="rId1"/>
            <a:stretch/>
          </p:blipFill>
          <p:spPr>
            <a:xfrm>
              <a:off x="7667640" y="189000"/>
              <a:ext cx="1230120" cy="119700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64119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ahoma"/>
              </a:rPr>
              <a:t>К типичным симптомам горя обычно относятся следующие проявления (признаки здорового горя):</a:t>
            </a:r>
            <a:endParaRPr b="1" lang="en-US" sz="1600" spc="-1" strike="noStrike">
              <a:solidFill>
                <a:srgbClr val="eaeaea"/>
              </a:solidFill>
              <a:latin typeface="Tahoma"/>
            </a:endParaRPr>
          </a:p>
        </p:txBody>
      </p:sp>
      <p:sp>
        <p:nvSpPr>
          <p:cNvPr id="137" name="PlaceHolder 2"/>
          <p:cNvSpPr>
            <a:spLocks noGrp="1"/>
          </p:cNvSpPr>
          <p:nvPr>
            <p:ph/>
          </p:nvPr>
        </p:nvSpPr>
        <p:spPr>
          <a:xfrm>
            <a:off x="1066680" y="1981080"/>
            <a:ext cx="3702240" cy="4114800"/>
          </a:xfrm>
          <a:prstGeom prst="rect">
            <a:avLst/>
          </a:prstGeom>
          <a:noFill/>
          <a:ln w="0">
            <a:noFill/>
          </a:ln>
        </p:spPr>
        <p:txBody>
          <a:bodyPr anchor="t">
            <a:normAutofit/>
          </a:bodyPr>
          <a:p>
            <a:pPr lvl="1" marL="99072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ffffff"/>
              </a:solidFill>
              <a:latin typeface="Tahoma"/>
            </a:endParaRPr>
          </a:p>
          <a:p>
            <a:pPr lvl="1" marL="99072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PlaceHolder 3"/>
          <p:cNvSpPr>
            <a:spLocks noGrp="1"/>
          </p:cNvSpPr>
          <p:nvPr>
            <p:ph/>
          </p:nvPr>
        </p:nvSpPr>
        <p:spPr>
          <a:xfrm>
            <a:off x="1142640" y="1981080"/>
            <a:ext cx="7326360" cy="4114800"/>
          </a:xfrm>
          <a:prstGeom prst="rect">
            <a:avLst/>
          </a:prstGeom>
          <a:noFill/>
          <a:ln w="0">
            <a:noFill/>
          </a:ln>
        </p:spPr>
        <p:txBody>
          <a:bodyPr anchor="t">
            <a:normAutofit/>
          </a:bodyPr>
          <a:p>
            <a:pPr marL="533520" indent="-53352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Физические  симптомы:</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специфические нарушения дыхания: становится прерывистым на вдохе;</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симптомы физического переутомления;</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норексия (потеря и прибавка весе);</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янущие ощущения в животе;</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пазмы в горле;</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ухость во рту,</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зменения восприятия: гиперчувствительность: непереносимость шума, яркого цвета, или же наоборот, может иметь место пониженная чувственность;</a:t>
            </a:r>
            <a:endParaRPr b="0" lang="en-US" sz="1600" spc="-1" strike="noStrike">
              <a:solidFill>
                <a:srgbClr val="ffffff"/>
              </a:solidFill>
              <a:latin typeface="Tahoma"/>
            </a:endParaRPr>
          </a:p>
          <a:p>
            <a:pPr marL="533520" indent="-533520">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арушение концентрации внимания и др.</a:t>
            </a:r>
            <a:endParaRPr b="0" lang="en-US" sz="1600" spc="-1" strike="noStrike">
              <a:solidFill>
                <a:srgbClr val="ffffff"/>
              </a:solidFill>
              <a:latin typeface="Tahom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39" name="Group 4"/>
          <p:cNvGrpSpPr/>
          <p:nvPr/>
        </p:nvGrpSpPr>
        <p:grpSpPr>
          <a:xfrm>
            <a:off x="7667640" y="189000"/>
            <a:ext cx="1230120" cy="1197000"/>
            <a:chOff x="7667640" y="189000"/>
            <a:chExt cx="1230120" cy="1197000"/>
          </a:xfrm>
        </p:grpSpPr>
        <p:sp>
          <p:nvSpPr>
            <p:cNvPr id="140"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1" name="Picture 6" descr="эмблема 2 "/>
            <p:cNvPicPr/>
            <p:nvPr/>
          </p:nvPicPr>
          <p:blipFill>
            <a:blip r:embed="rId1"/>
            <a:stretch/>
          </p:blipFill>
          <p:spPr>
            <a:xfrm>
              <a:off x="7667640" y="189000"/>
              <a:ext cx="1230120" cy="119700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К типичным симптомам горя обычно относятся следующие проявления (признаки здорового горя):</a:t>
            </a:r>
            <a:endParaRPr b="1" lang="en-US" sz="1800" spc="-1" strike="noStrike">
              <a:solidFill>
                <a:srgbClr val="eaeaea"/>
              </a:solidFill>
              <a:latin typeface="Tahoma"/>
            </a:endParaRPr>
          </a:p>
        </p:txBody>
      </p:sp>
      <p:sp>
        <p:nvSpPr>
          <p:cNvPr id="143" name="PlaceHolder 2"/>
          <p:cNvSpPr>
            <a:spLocks noGrp="1"/>
          </p:cNvSpPr>
          <p:nvPr>
            <p:ph/>
          </p:nvPr>
        </p:nvSpPr>
        <p:spPr>
          <a:xfrm>
            <a:off x="1066680" y="1981080"/>
            <a:ext cx="7826400" cy="4114800"/>
          </a:xfrm>
          <a:prstGeom prst="rect">
            <a:avLst/>
          </a:prstGeom>
          <a:noFill/>
          <a:ln w="0">
            <a:noFill/>
          </a:ln>
        </p:spPr>
        <p:txBody>
          <a:bodyPr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1800" spc="-1" strike="noStrike">
                <a:solidFill>
                  <a:srgbClr val="ffffff"/>
                </a:solidFill>
                <a:latin typeface="Tahoma"/>
              </a:rPr>
              <a:t>Психологические симптомы:</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щущение увеличения эмоциональной дистанции с другими. Утрата теплоты в отношениях с другими.</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ход от всех контактов с близкими и друзьями.</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х поведение может казаться странным – как они могут улыбаться,   разговаривать, и др.</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глощенность образом умершего.</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Чувство вины (я не все сделал для умершего, что мог, я был невнимателен к нему при жизни).</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енденция разговаривать с раздражением и злостью.</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трата моделей поведения.</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еспособность начинать и поддерживать  организационную деятельность. Нежелание чем – либо заниматься</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тсутствие интереса к любимым занятия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4" name="PlaceHolder 3"/>
          <p:cNvSpPr>
            <a:spLocks noGrp="1"/>
          </p:cNvSpPr>
          <p:nvPr>
            <p:ph/>
          </p:nvPr>
        </p:nvSpPr>
        <p:spPr>
          <a:xfrm>
            <a:off x="1214280" y="2000160"/>
            <a:ext cx="742320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45" name="Group 16"/>
          <p:cNvGrpSpPr/>
          <p:nvPr/>
        </p:nvGrpSpPr>
        <p:grpSpPr>
          <a:xfrm>
            <a:off x="7667640" y="189000"/>
            <a:ext cx="1230120" cy="1197000"/>
            <a:chOff x="7667640" y="189000"/>
            <a:chExt cx="1230120" cy="1197000"/>
          </a:xfrm>
        </p:grpSpPr>
        <p:sp>
          <p:nvSpPr>
            <p:cNvPr id="146" name="Rectangle 17"/>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7" name="Picture 18" descr="эмблема 2 "/>
            <p:cNvPicPr/>
            <p:nvPr/>
          </p:nvPicPr>
          <p:blipFill>
            <a:blip r:embed="rId1"/>
            <a:stretch/>
          </p:blipFill>
          <p:spPr>
            <a:xfrm>
              <a:off x="7667640" y="189000"/>
              <a:ext cx="1230120" cy="11970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60264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Tahoma"/>
              </a:rPr>
              <a:t>Патологическое горе</a:t>
            </a:r>
            <a:endParaRPr b="1" lang="en-US" sz="20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ормальная «работа горя» может стать патологическим процессом, если человек «застревает» на одной из фаз, как правило - на второй. Это приводит к тяжелейшим последствиям, когда человек обречен бесконечно долго переживать острую фазу горя - самую тяжелую, самую болезненную. Все симптомы второй фазы усиливаются и подчеркиваются. У человека развивается тяжелейший синдром посттравматических стрессовых  реакций.</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50" name="Group 4"/>
          <p:cNvGrpSpPr/>
          <p:nvPr/>
        </p:nvGrpSpPr>
        <p:grpSpPr>
          <a:xfrm>
            <a:off x="7308720" y="476280"/>
            <a:ext cx="1230480" cy="1197000"/>
            <a:chOff x="7308720" y="476280"/>
            <a:chExt cx="1230480" cy="1197000"/>
          </a:xfrm>
        </p:grpSpPr>
        <p:sp>
          <p:nvSpPr>
            <p:cNvPr id="151" name="Rectangle 5"/>
            <p:cNvSpPr/>
            <p:nvPr/>
          </p:nvSpPr>
          <p:spPr>
            <a:xfrm>
              <a:off x="7540200" y="79884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2" name="Picture 6" descr="эмблема 2 "/>
            <p:cNvPicPr/>
            <p:nvPr/>
          </p:nvPicPr>
          <p:blipFill>
            <a:blip r:embed="rId1"/>
            <a:stretch/>
          </p:blipFill>
          <p:spPr>
            <a:xfrm>
              <a:off x="7308720" y="476280"/>
              <a:ext cx="1230480" cy="11970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260280"/>
            <a:ext cx="647856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Причинами возникновения патологического горя может быть следующее:</a:t>
            </a:r>
            <a:endParaRPr b="1" lang="en-US" sz="18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конфликты или ссоры с близким человеком перед смертью;</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невыполненные обещания;</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определенные обстоятельства смерти близкого; </a:t>
            </a:r>
            <a:endParaRPr b="0" lang="en-US" sz="20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ситуация, в максимальной мере вызывающая патологическое горе – так называемые «не похороненные» - без вести пропавшие, те, чьи тела не были найдены, те, о чьей смерти не сообщили близким.</a:t>
            </a:r>
            <a:endParaRPr b="0" lang="en-US" sz="2000" spc="-1" strike="noStrike">
              <a:solidFill>
                <a:srgbClr val="ffffff"/>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55" name="Group 4"/>
          <p:cNvGrpSpPr/>
          <p:nvPr/>
        </p:nvGrpSpPr>
        <p:grpSpPr>
          <a:xfrm>
            <a:off x="7667640" y="189000"/>
            <a:ext cx="1230120" cy="1197000"/>
            <a:chOff x="7667640" y="189000"/>
            <a:chExt cx="1230120" cy="1197000"/>
          </a:xfrm>
        </p:grpSpPr>
        <p:sp>
          <p:nvSpPr>
            <p:cNvPr id="156"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7"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641196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ahoma"/>
              </a:rPr>
              <a:t>Нетипичные патологические симптомы горя включают в себя следующее (признаки искаженного горя):</a:t>
            </a:r>
            <a:endParaRPr b="1" lang="en-US" sz="1800" spc="-1" strike="noStrike">
              <a:solidFill>
                <a:srgbClr val="eaeaea"/>
              </a:solidFill>
              <a:latin typeface="Tahoma"/>
            </a:endParaRPr>
          </a:p>
        </p:txBody>
      </p:sp>
      <p:sp>
        <p:nvSpPr>
          <p:cNvPr id="159" name="PlaceHolder 2"/>
          <p:cNvSpPr>
            <a:spLocks noGrp="1"/>
          </p:cNvSpPr>
          <p:nvPr>
            <p:ph/>
          </p:nvPr>
        </p:nvSpPr>
        <p:spPr>
          <a:xfrm>
            <a:off x="395280" y="1981080"/>
            <a:ext cx="8569440" cy="4616640"/>
          </a:xfrm>
          <a:prstGeom prst="rect">
            <a:avLst/>
          </a:prstGeom>
          <a:noFill/>
          <a:ln w="0">
            <a:noFill/>
          </a:ln>
        </p:spPr>
        <p:txBody>
          <a:bodyPr anchor="t">
            <a:normAutofit fontScale="95000"/>
          </a:bodyPr>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тянувшиеся переживания горя (несколько лет)</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держка реакции на смерть близкого (в течение двух или нескольких недель)</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збегание друзей и семьи, отстранение от своих других детей (при потере ребенка).</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 в состоянии обеспечить себя самым необходимым</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ильная депрессия, сопровождающаяся бессонницей, чувство самоуничижения, напряжения, горьких упреков в свой адрес и необходимость самобичевания</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явление болезней психосоматического характера (язвенный колит, ревматический артрит, астма, нередко бывает ослабление чувствительности)</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витие симптомов, от которых страдал умерший.</a:t>
            </a: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ерхактивность – перенесший утрату человек начинает развивать бурную деятельность, не думая об утрате (трудоголики).</a:t>
            </a:r>
            <a:endParaRPr b="0" lang="en-US" sz="2000" spc="-1" strike="noStrike">
              <a:solidFill>
                <a:srgbClr val="ffffff"/>
              </a:solidFill>
              <a:latin typeface="Tahoma"/>
            </a:endParaRPr>
          </a:p>
        </p:txBody>
      </p:sp>
      <p:grpSp>
        <p:nvGrpSpPr>
          <p:cNvPr id="160" name="Group 4"/>
          <p:cNvGrpSpPr/>
          <p:nvPr/>
        </p:nvGrpSpPr>
        <p:grpSpPr>
          <a:xfrm>
            <a:off x="7667640" y="189000"/>
            <a:ext cx="1230120" cy="1197000"/>
            <a:chOff x="7667640" y="189000"/>
            <a:chExt cx="1230120" cy="1197000"/>
          </a:xfrm>
        </p:grpSpPr>
        <p:sp>
          <p:nvSpPr>
            <p:cNvPr id="161" name="Rectangle 5"/>
            <p:cNvSpPr/>
            <p:nvPr/>
          </p:nvSpPr>
          <p:spPr>
            <a:xfrm>
              <a:off x="7899120" y="511560"/>
              <a:ext cx="739440" cy="5547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2" name="Picture 6" descr="эмблема 2 "/>
            <p:cNvPicPr/>
            <p:nvPr/>
          </p:nvPicPr>
          <p:blipFill>
            <a:blip r:embed="rId1"/>
            <a:stretch/>
          </p:blipFill>
          <p:spPr>
            <a:xfrm>
              <a:off x="7667640" y="189000"/>
              <a:ext cx="1230120" cy="11970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20:51:18Z</dcterms:created>
  <dc:creator>Kirill</dc:creator>
  <dc:description/>
  <dc:language>en-US</dc:language>
  <cp:lastModifiedBy>www.PHILka.RU</cp:lastModifiedBy>
  <dcterms:modified xsi:type="dcterms:W3CDTF">2008-12-06T11:20:14Z</dcterms:modified>
  <cp:revision>102</cp:revision>
  <dc:subject/>
  <dc:title>Slide 1</dc:title>
</cp:coreProperties>
</file>