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0B5-F509-46ED-98F8-A73CE8D8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95A-4162-4717-AD15-FC65EDD1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000-F7D3-4998-A7EF-91761EAF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0E1-0EC2-4D02-8BB2-BA515757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6B95-D34A-4FF3-85D4-F6A5C204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196-99E3-4EFF-8728-190FB18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83D2-135C-4527-A57A-68C5A82D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22B-0A16-4E83-8056-3A003490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F2C6-F988-44C1-ACB6-8FAD09E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BD8D-4245-44EC-AD17-AEF23004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BFA4-6BB6-490B-AED9-3F4D562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B66-C05E-4832-A535-E3B3E78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FACE-BB92-4EF7-BD87-AB65B2BA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332-1B0E-4F59-8E88-F425807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E7F-0F4B-468C-A468-2AF1F06F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E582-ECBC-4ED1-BC24-FF559244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9E2-C367-4B6C-8432-455BD38C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944-9F25-48CA-9931-F5261209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39E-F447-4D37-BEF3-404767E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2E1-3652-4EAE-8CD3-DB69217D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06B-9790-4B90-814D-F9E86D40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0CC-FEFC-4950-ACC2-970CED0D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CBF-4A88-4580-936C-37665ED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B40-83BC-4524-9E14-B23CA21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75C-4CDF-4132-ACCE-529897B14B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8F02-2A1F-4B49-960E-59397F40E60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0 Российский центр подготовки специалистов  МЧ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Picture 7" descr="1826P8014597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7" descr="LR_IMG_0138"/>
          <p:cNvPicPr/>
          <p:nvPr/>
        </p:nvPicPr>
        <p:blipFill>
          <a:blip r:embed="rId1"/>
          <a:stretch/>
        </p:blipFill>
        <p:spPr>
          <a:xfrm>
            <a:off x="971640" y="1989000"/>
            <a:ext cx="720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7" descr="DSC_0438"/>
          <p:cNvPicPr/>
          <p:nvPr/>
        </p:nvPicPr>
        <p:blipFill>
          <a:blip r:embed="rId1"/>
          <a:stretch/>
        </p:blipFill>
        <p:spPr>
          <a:xfrm>
            <a:off x="971640" y="1989000"/>
            <a:ext cx="7200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7" descr="26BR8501"/>
          <p:cNvPicPr/>
          <p:nvPr/>
        </p:nvPicPr>
        <p:blipFill>
          <a:blip r:embed="rId1"/>
          <a:stretch/>
        </p:blipFill>
        <p:spPr>
          <a:xfrm>
            <a:off x="971640" y="1989000"/>
            <a:ext cx="7129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7" descr="LR_DSC02606_"/>
          <p:cNvPicPr/>
          <p:nvPr/>
        </p:nvPicPr>
        <p:blipFill>
          <a:blip r:embed="rId1"/>
          <a:stretch/>
        </p:blipFill>
        <p:spPr>
          <a:xfrm>
            <a:off x="971640" y="1916280"/>
            <a:ext cx="720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Picture 9" descr="DSC_0173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7" descr="DSC_1046"/>
          <p:cNvPicPr/>
          <p:nvPr/>
        </p:nvPicPr>
        <p:blipFill>
          <a:blip r:embed="rId1"/>
          <a:stretch/>
        </p:blipFill>
        <p:spPr>
          <a:xfrm>
            <a:off x="971640" y="1989000"/>
            <a:ext cx="7129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7" descr="DSC_1099"/>
          <p:cNvPicPr/>
          <p:nvPr/>
        </p:nvPicPr>
        <p:blipFill>
          <a:blip r:embed="rId1"/>
          <a:stretch/>
        </p:blipFill>
        <p:spPr>
          <a:xfrm>
            <a:off x="971640" y="1989000"/>
            <a:ext cx="720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6" descr="LR_PA265808"/>
          <p:cNvPicPr/>
          <p:nvPr/>
        </p:nvPicPr>
        <p:blipFill>
          <a:blip r:embed="rId1"/>
          <a:stretch/>
        </p:blipFill>
        <p:spPr>
          <a:xfrm>
            <a:off x="900000" y="1960560"/>
            <a:ext cx="7201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6" descr="ЛенскDsc_0027"/>
          <p:cNvPicPr/>
          <p:nvPr/>
        </p:nvPicPr>
        <p:blipFill>
          <a:blip r:embed="rId1"/>
          <a:stretch/>
        </p:blipFill>
        <p:spPr>
          <a:xfrm>
            <a:off x="971640" y="1916280"/>
            <a:ext cx="727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последствий ЧС одно из ведущих мест заним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сихогенные расстройст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чем этим изменениям подвержены не только те люди, которые пострадали физически, но и те, кто не получил травм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-181080" y="260280"/>
            <a:ext cx="9110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аким образо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психологическое состояние и поведение пострадавших в ЧС может мешать ведению АСДНР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адекватное взаимодействие с пострадавшими позволяет снизить вероятность негативных последствий для психического здоровь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взаимодействие с пострадавшими, которое часто является необходимым при оказании им помощи, может оказать влияние на состояние тех, кто оказывает помощ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акторы риска для пострадавших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а факторов, характеризующих Ч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а факторов характеризует личностные особенности пострадавших и особенности групп пострадавш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ппа факторов, характеризующих особенности организации помощ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Стрелка вниз 11"/>
          <p:cNvSpPr/>
          <p:nvPr/>
        </p:nvSpPr>
        <p:spPr>
          <a:xfrm>
            <a:off x="4356000" y="1989000"/>
            <a:ext cx="35892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Стрелка вниз 11"/>
          <p:cNvSpPr/>
          <p:nvPr/>
        </p:nvSpPr>
        <p:spPr>
          <a:xfrm>
            <a:off x="4356000" y="2924280"/>
            <a:ext cx="358920" cy="576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Стрелка вниз 11"/>
          <p:cNvSpPr/>
          <p:nvPr/>
        </p:nvSpPr>
        <p:spPr>
          <a:xfrm>
            <a:off x="4356000" y="4653000"/>
            <a:ext cx="35892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Группа факторов, характеризующих ЧС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интенсивнос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масштабнос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внезапность возникнов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длительност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ап развития и т.д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уппа факторов характеризует личностные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особенности пострадавших и особенности групп        пострадавши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оматическое здоровье, возраст, пол пострадавших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одготовленность к ЧС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индивидуально-психологические особен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личностный смысл трагического событ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«коллективное поведение»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ческие, этнические, социально-экономические особенности регион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уппа факторов, характеризующ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особенности организации помощ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23270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обенности организации аварийно-спасательных рабо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обенности информационного обеспече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характер освещения в СМИ хода аварийно-спасательных и восстановительных работ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тношение различных социальных институтов  к пострадавши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ликвидации последствий крупных ЧС за рубежом необходимо учитывать следующие фактор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ультурное и этническое своеобразие стра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история отношений с Росси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циально-экономическая ситуация в стран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уровень психического здоровья населения и социально-психологические особен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личие межэтнического  конфликта и информационного противостоя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специалистов психогенные расстройства выражаютс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 снижении эффективности и надежности профессиональной деятель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увеличении количества ошибок, в том числе приводящих к авария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рушениям профессионального здоровь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нижению профессионального долголет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акторы риска для спасателе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ивн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психологи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Стрелка вниз 11"/>
          <p:cNvSpPr/>
          <p:nvPr/>
        </p:nvSpPr>
        <p:spPr>
          <a:xfrm>
            <a:off x="4356000" y="2492280"/>
            <a:ext cx="35892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Стрелка вниз 11"/>
          <p:cNvSpPr/>
          <p:nvPr/>
        </p:nvSpPr>
        <p:spPr>
          <a:xfrm>
            <a:off x="4356000" y="3429000"/>
            <a:ext cx="358920" cy="576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Стрелка вниз 11"/>
          <p:cNvSpPr/>
          <p:nvPr/>
        </p:nvSpPr>
        <p:spPr>
          <a:xfrm>
            <a:off x="4356000" y="4508640"/>
            <a:ext cx="358920" cy="576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eff9f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Объективные факторы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арактеризуют средовые особенности работы спасателей в Ч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лимато-географические фактор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физическая нагрузка, режим труда и отдых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обые условия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ьно-психологические факто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азывают влияние на состояние и работоспособность спасател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рганизационно-управленческие недостатки в ходе работы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оциально-политические аспекты ситуации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освещение работ С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группы психических реакций пострадавших в ЧС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0" name="Organization Chart 8"/>
          <p:cNvGrpSpPr/>
          <p:nvPr/>
        </p:nvGrpSpPr>
        <p:grpSpPr>
          <a:xfrm>
            <a:off x="431640" y="1589040"/>
            <a:ext cx="8386920" cy="4934880"/>
            <a:chOff x="431640" y="1589040"/>
            <a:chExt cx="8386920" cy="4934880"/>
          </a:xfrm>
        </p:grpSpPr>
        <p:cxnSp>
          <p:nvCxnSpPr>
            <p:cNvPr id="161" name="_s1028"/>
            <p:cNvCxnSpPr>
              <a:stCxn id="162" idx="1"/>
              <a:endCxn id="163" idx="2"/>
            </p:cNvCxnSpPr>
            <p:nvPr/>
          </p:nvCxnSpPr>
          <p:spPr>
            <a:xfrm rot="10800000">
              <a:off x="2946960" y="2485440"/>
              <a:ext cx="839160" cy="358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1029"/>
            <p:cNvCxnSpPr>
              <a:stCxn id="165" idx="1"/>
              <a:endCxn id="163" idx="2"/>
            </p:cNvCxnSpPr>
            <p:nvPr/>
          </p:nvCxnSpPr>
          <p:spPr>
            <a:xfrm rot="10800000">
              <a:off x="2946960" y="2485440"/>
              <a:ext cx="839160" cy="2243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1030"/>
            <p:cNvCxnSpPr>
              <a:stCxn id="167" idx="1"/>
              <a:endCxn id="163" idx="2"/>
            </p:cNvCxnSpPr>
            <p:nvPr/>
          </p:nvCxnSpPr>
          <p:spPr>
            <a:xfrm rot="10800000">
              <a:off x="2946960" y="2485440"/>
              <a:ext cx="839160" cy="89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3" name="_s1031"/>
            <p:cNvSpPr/>
            <p:nvPr/>
          </p:nvSpPr>
          <p:spPr>
            <a:xfrm>
              <a:off x="431640" y="1589040"/>
              <a:ext cx="5032080" cy="8971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Психические реакц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_s1032"/>
            <p:cNvSpPr/>
            <p:nvPr/>
          </p:nvSpPr>
          <p:spPr>
            <a:xfrm>
              <a:off x="3786480" y="2934720"/>
              <a:ext cx="5032080" cy="8971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нормальные адаптивные  реакции</a:t>
              </a:r>
              <a:endParaRPr b="0" lang="en-US" sz="2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3786480" y="4280760"/>
              <a:ext cx="5032080" cy="8971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невротические реакции и расстройства</a:t>
              </a:r>
              <a:endParaRPr b="0" lang="en-US" sz="2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_s1034"/>
            <p:cNvSpPr/>
            <p:nvPr/>
          </p:nvSpPr>
          <p:spPr>
            <a:xfrm>
              <a:off x="3786480" y="5626800"/>
              <a:ext cx="5032080" cy="8971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еакции и расстройства психотического уровня,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провождающиеся помрачением сознания,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редом или галлюцинациями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уппа факторов, характеризующ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индивидуальные особенности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формированность профессионально важных качеств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мотивация профессиональной деятель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функциональное состояние специалистов в период, предшествующий работе в ЧС и непосредственно в ход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нагрузка специалиста: количество, спектр и продолжительность аварийно-спасательных работ, в которых принимал участие специалист в последнее врем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ая переадаптация и дезадаптация в экстремальных условиях, и реадаптация к обычным условиям жизни подчиняются чередованию следующих этапов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й – подготовитель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-й – стартового психического напря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-й – острых психических реакций вх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й – переадапт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-й – завершающего психического напря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-й – острых психических реакций вых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-й – реадапт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 4 и 5 этапами имеется промежуточный – этап неустойчивой психи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Этапы психической адаптации и дезадаптации 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в экстремальных условиях деятельност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1" name="Группа 13"/>
          <p:cNvGrpSpPr/>
          <p:nvPr/>
        </p:nvGrpSpPr>
        <p:grpSpPr>
          <a:xfrm>
            <a:off x="214200" y="1571760"/>
            <a:ext cx="8358480" cy="5000400"/>
            <a:chOff x="214200" y="1571760"/>
            <a:chExt cx="8358480" cy="5000400"/>
          </a:xfrm>
        </p:grpSpPr>
        <p:sp>
          <p:nvSpPr>
            <p:cNvPr id="232" name="Скругленный прямоугольник 14"/>
            <p:cNvSpPr/>
            <p:nvPr/>
          </p:nvSpPr>
          <p:spPr>
            <a:xfrm>
              <a:off x="214200" y="157176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1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Подготовительный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Скругленный прямоугольник 15"/>
            <p:cNvSpPr/>
            <p:nvPr/>
          </p:nvSpPr>
          <p:spPr>
            <a:xfrm>
              <a:off x="214200" y="269064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2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стартового психического напряж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Скругленный прямоугольник 16"/>
            <p:cNvSpPr/>
            <p:nvPr/>
          </p:nvSpPr>
          <p:spPr>
            <a:xfrm>
              <a:off x="214200" y="3809880"/>
              <a:ext cx="2062080" cy="67284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3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острых психических реакций вхо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Скругленный прямоугольник 17"/>
            <p:cNvSpPr/>
            <p:nvPr/>
          </p:nvSpPr>
          <p:spPr>
            <a:xfrm>
              <a:off x="3362400" y="3884760"/>
              <a:ext cx="2062080" cy="67284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4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психической переадаптации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Скругленный прямоугольник 18"/>
            <p:cNvSpPr/>
            <p:nvPr/>
          </p:nvSpPr>
          <p:spPr>
            <a:xfrm>
              <a:off x="3362400" y="493092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4 А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 неустойчивой психической деятельности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Скругленный прямоугольник 19"/>
            <p:cNvSpPr/>
            <p:nvPr/>
          </p:nvSpPr>
          <p:spPr>
            <a:xfrm>
              <a:off x="3362400" y="590076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4 Б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 психической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дезадаптации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Скругленный прямоугольник 20"/>
            <p:cNvSpPr/>
            <p:nvPr/>
          </p:nvSpPr>
          <p:spPr>
            <a:xfrm>
              <a:off x="6510600" y="269064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6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острых психических реакций выхода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Скругленный прямоугольник 21"/>
            <p:cNvSpPr/>
            <p:nvPr/>
          </p:nvSpPr>
          <p:spPr>
            <a:xfrm>
              <a:off x="6510600" y="3660840"/>
              <a:ext cx="2062080" cy="8856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5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 завершающего психического напряжения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Скругленный прямоугольник 22"/>
            <p:cNvSpPr/>
            <p:nvPr/>
          </p:nvSpPr>
          <p:spPr>
            <a:xfrm>
              <a:off x="6510600" y="1571760"/>
              <a:ext cx="2062080" cy="67140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7.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Verdana"/>
                </a:rPr>
                <a:t>Этап реадаптации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Стрелка вниз 23"/>
            <p:cNvSpPr/>
            <p:nvPr/>
          </p:nvSpPr>
          <p:spPr>
            <a:xfrm>
              <a:off x="1082520" y="2243160"/>
              <a:ext cx="217440" cy="447480"/>
            </a:xfrm>
            <a:prstGeom prst="downArrow">
              <a:avLst>
                <a:gd name="adj1" fmla="val 50000"/>
                <a:gd name="adj2" fmla="val 34375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Стрелка вниз 24"/>
            <p:cNvSpPr/>
            <p:nvPr/>
          </p:nvSpPr>
          <p:spPr>
            <a:xfrm>
              <a:off x="1082520" y="3362400"/>
              <a:ext cx="217440" cy="447480"/>
            </a:xfrm>
            <a:prstGeom prst="downArrow">
              <a:avLst>
                <a:gd name="adj1" fmla="val 50000"/>
                <a:gd name="adj2" fmla="val 34375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Стрелка вправо 25"/>
            <p:cNvSpPr/>
            <p:nvPr/>
          </p:nvSpPr>
          <p:spPr>
            <a:xfrm>
              <a:off x="2276280" y="4110120"/>
              <a:ext cx="1085760" cy="149040"/>
            </a:xfrm>
            <a:prstGeom prst="rightArrow">
              <a:avLst>
                <a:gd name="adj1" fmla="val 50000"/>
                <a:gd name="adj2" fmla="val 72816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Стрелка вправо 26"/>
            <p:cNvSpPr/>
            <p:nvPr/>
          </p:nvSpPr>
          <p:spPr>
            <a:xfrm>
              <a:off x="5424480" y="4110120"/>
              <a:ext cx="1085760" cy="149040"/>
            </a:xfrm>
            <a:prstGeom prst="rightArrow">
              <a:avLst>
                <a:gd name="adj1" fmla="val 50000"/>
                <a:gd name="adj2" fmla="val 72816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Стрелка вверх 27"/>
            <p:cNvSpPr/>
            <p:nvPr/>
          </p:nvSpPr>
          <p:spPr>
            <a:xfrm>
              <a:off x="7486920" y="3362400"/>
              <a:ext cx="217440" cy="298440"/>
            </a:xfrm>
            <a:prstGeom prst="upArrow">
              <a:avLst>
                <a:gd name="adj1" fmla="val 50000"/>
                <a:gd name="adj2" fmla="val 34383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Стрелка вверх 28"/>
            <p:cNvSpPr/>
            <p:nvPr/>
          </p:nvSpPr>
          <p:spPr>
            <a:xfrm>
              <a:off x="7486920" y="2243160"/>
              <a:ext cx="217440" cy="447480"/>
            </a:xfrm>
            <a:prstGeom prst="upArrow">
              <a:avLst>
                <a:gd name="adj1" fmla="val 50000"/>
                <a:gd name="adj2" fmla="val 34375"/>
              </a:avLst>
            </a:prstGeom>
            <a:solidFill>
              <a:srgbClr val="0066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247" name="Shape 36"/>
            <p:cNvCxnSpPr>
              <a:stCxn id="234" idx="2"/>
              <a:endCxn id="236" idx="1"/>
            </p:cNvCxnSpPr>
            <p:nvPr/>
          </p:nvCxnSpPr>
          <p:spPr>
            <a:xfrm flipH="1" rot="16200000">
              <a:off x="1912680" y="3816000"/>
              <a:ext cx="783360" cy="2116800"/>
            </a:xfrm>
            <a:prstGeom prst="curvedConnector2">
              <a:avLst/>
            </a:prstGeom>
            <a:ln w="38160">
              <a:solidFill>
                <a:srgbClr val="ccecff"/>
              </a:solidFill>
              <a:miter/>
              <a:tailEnd len="med" type="arrow" w="med"/>
            </a:ln>
          </p:spPr>
        </p:cxnSp>
        <p:cxnSp>
          <p:nvCxnSpPr>
            <p:cNvPr id="248" name="Shape 37"/>
            <p:cNvCxnSpPr>
              <a:endCxn id="239" idx="2"/>
            </p:cNvCxnSpPr>
            <p:nvPr/>
          </p:nvCxnSpPr>
          <p:spPr>
            <a:xfrm flipV="1">
              <a:off x="5424480" y="4546080"/>
              <a:ext cx="2116800" cy="757800"/>
            </a:xfrm>
            <a:prstGeom prst="curvedConnector2">
              <a:avLst/>
            </a:prstGeom>
            <a:ln w="38160">
              <a:solidFill>
                <a:srgbClr val="ccecff"/>
              </a:solidFill>
              <a:miter/>
              <a:tailEnd len="med" type="arrow" w="med"/>
            </a:ln>
          </p:spPr>
        </p:cxnSp>
        <p:cxnSp>
          <p:nvCxnSpPr>
            <p:cNvPr id="249" name="Shape 41"/>
            <p:cNvCxnSpPr>
              <a:stCxn id="236" idx="2"/>
              <a:endCxn id="237" idx="0"/>
            </p:cNvCxnSpPr>
            <p:nvPr/>
          </p:nvCxnSpPr>
          <p:spPr>
            <a:xfrm rot="5400000">
              <a:off x="4243680" y="5750640"/>
              <a:ext cx="29916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38160">
              <a:solidFill>
                <a:srgbClr val="ccecff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истема психологического сопровождения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       профессиональной деятельност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офессиональный психологический отбо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ервичная подготовка и курс психологической подготовк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 процессе работы со спасателем должны регулярно проводиться и мероприятия по психологической подготовке и психологический мониторин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бо за внима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зависимо от степени тяжести реакций и расстройств, у подавляющего числа пострадавших наблюдается частичная или полная утрата способност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целенаправленной деятель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ритической оценки окружающего и своего повед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ступать в контакт с окружающими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81440" y="285480"/>
            <a:ext cx="9325080" cy="111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и пострадавшего населен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еобладает снижение или утрата способности самостоятельно удовлетворить потребности в тепле, пище, безопасно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блюдаются нарушение способности к планированию собственных действи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начительно сужается временная перспекти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ысока вероятность эмоционального заражения паническими, агрессивными, истерическими реакциями групп пострадавш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14" descr="IMG_1230"/>
          <p:cNvPicPr/>
          <p:nvPr/>
        </p:nvPicPr>
        <p:blipFill>
          <a:blip r:embed="rId1"/>
          <a:stretch/>
        </p:blipFill>
        <p:spPr>
          <a:xfrm>
            <a:off x="1042920" y="1914480"/>
            <a:ext cx="70581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7" descr="Untitled03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7" descr="Untitled06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сихологическая составляющая профессиональ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спасател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7" descr="23_04_koryakia_foto_14"/>
          <p:cNvPicPr/>
          <p:nvPr/>
        </p:nvPicPr>
        <p:blipFill>
          <a:blip r:embed="rId1"/>
          <a:stretch/>
        </p:blipFill>
        <p:spPr>
          <a:xfrm>
            <a:off x="971640" y="1916280"/>
            <a:ext cx="720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2:41:12Z</dcterms:created>
  <dc:creator>User</dc:creator>
  <dc:description/>
  <dc:language>en-US</dc:language>
  <cp:lastModifiedBy>Света</cp:lastModifiedBy>
  <dcterms:modified xsi:type="dcterms:W3CDTF">2012-04-10T14:26:14Z</dcterms:modified>
  <cp:revision>99</cp:revision>
  <dc:subject/>
  <dc:title>Слайд 1</dc:title>
</cp:coreProperties>
</file>