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0F1-B247-4A43-8EEC-8D2F88E1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9E2-30D2-41C9-86FD-32409346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B08-5BCE-4F6E-8214-EE6F9420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F25-6716-4BF0-B1DE-4419158A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0031-318D-4099-A356-CD1DD6D2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257B-DB39-4796-BA38-6EB42D84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9D35-83CF-49E1-B054-1A880FDC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22EF-E7A8-455C-93B1-CB77AF60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BFD5-B638-4507-8067-F82DBF4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CA57-3B77-4251-B790-0063DAFD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CBE3-DC36-4A4F-935E-439CB0E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12D-F39C-45E3-A3AC-3A14D99D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CAD9-2383-4430-8978-D9514BF7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128D-A370-49AB-9EC5-B81C9DC9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8255-966E-4064-AF63-52954D1F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9811-1856-4E62-9255-C5AF31BB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A2BE-0BF1-420C-9BFF-7DBBC6CF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3A4-AD8B-43A5-9F96-97766EB0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DAF-700D-4453-B163-199CA962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D35-F764-42AB-97A7-29600FC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9D2-8133-448A-86A2-8E5FFE96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720-5B1B-4840-B546-98EDA61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A39-B510-4FFA-97A2-11FB2246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E31-1B99-4CA3-AD81-AB175F33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0C69-EBD6-4BAB-96B3-E328B5FA87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774A-9C3A-4568-B337-55BE97A44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2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2"/>
          <p:cNvGrpSpPr/>
          <p:nvPr/>
        </p:nvGrpSpPr>
        <p:grpSpPr>
          <a:xfrm>
            <a:off x="76320" y="76320"/>
            <a:ext cx="8710200" cy="1218960"/>
            <a:chOff x="76320" y="76320"/>
            <a:chExt cx="8710200" cy="1218960"/>
          </a:xfrm>
        </p:grpSpPr>
        <p:sp>
          <p:nvSpPr>
            <p:cNvPr id="83" name="AutoShape 6"/>
            <p:cNvSpPr/>
            <p:nvPr/>
          </p:nvSpPr>
          <p:spPr>
            <a:xfrm>
              <a:off x="76320" y="76320"/>
              <a:ext cx="8710200" cy="121896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c2c274"/>
                </a:gs>
                <a:gs pos="50000">
                  <a:srgbClr val="ffff99"/>
                </a:gs>
                <a:gs pos="100000">
                  <a:srgbClr val="c2c27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WordArt 2"/>
            <p:cNvSpPr txBox="1"/>
            <p:nvPr/>
          </p:nvSpPr>
          <p:spPr>
            <a:xfrm>
              <a:off x="511560" y="304920"/>
              <a:ext cx="7839000" cy="71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онятие религии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85" name="Group 11"/>
          <p:cNvGrpSpPr/>
          <p:nvPr/>
        </p:nvGrpSpPr>
        <p:grpSpPr>
          <a:xfrm>
            <a:off x="1428840" y="1523880"/>
            <a:ext cx="6286320" cy="1524240"/>
            <a:chOff x="1428840" y="1523880"/>
            <a:chExt cx="6286320" cy="1524240"/>
          </a:xfrm>
        </p:grpSpPr>
        <p:sp>
          <p:nvSpPr>
            <p:cNvPr id="86" name="WordArt 7"/>
            <p:cNvSpPr txBox="1"/>
            <p:nvPr/>
          </p:nvSpPr>
          <p:spPr>
            <a:xfrm>
              <a:off x="3124080" y="1523880"/>
              <a:ext cx="29480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7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Религия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87" name="WordArt 8"/>
            <p:cNvSpPr txBox="1"/>
            <p:nvPr/>
          </p:nvSpPr>
          <p:spPr>
            <a:xfrm>
              <a:off x="1428840" y="2514600"/>
              <a:ext cx="62863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7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лат. - благочестие, святыня)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88" name="Text Box 9"/>
          <p:cNvSpPr/>
          <p:nvPr/>
        </p:nvSpPr>
        <p:spPr>
          <a:xfrm>
            <a:off x="714240" y="3352680"/>
            <a:ext cx="785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Times New Roman"/>
              </a:rPr>
              <a:t>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а из форм культуры, мировоззр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анное на поклонении высшим сила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вящении норм мора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2825640" y="1219320"/>
            <a:ext cx="2508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ду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1520" y="2057400"/>
            <a:ext cx="808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озник на территории Индии в 1 тысячелетии до н.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750 млн. веру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Официальная религия Инд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вященные книги: Веды; Боги - Брахма, Вишну, Ш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2 направления: вишнуизм, шиваиз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Кастовая сис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Учение о сансаре (переселении душ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76320" y="76320"/>
            <a:ext cx="4114800" cy="1218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2c274"/>
              </a:gs>
              <a:gs pos="50000">
                <a:srgbClr val="ffff99"/>
              </a:gs>
              <a:gs pos="100000">
                <a:srgbClr val="c2c2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04920" y="380880"/>
            <a:ext cx="3695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циональные религии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7" descr="C:\Мои документы\География 10\islam.jpg"/>
          <p:cNvPicPr/>
          <p:nvPr/>
        </p:nvPicPr>
        <p:blipFill>
          <a:blip r:embed="rId3"/>
          <a:stretch/>
        </p:blipFill>
        <p:spPr>
          <a:xfrm>
            <a:off x="14400" y="5900760"/>
            <a:ext cx="823680" cy="91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0" name="Picture 8" descr="C:\Мои документы\География 10\pict_chr.jpg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229600" y="31680"/>
            <a:ext cx="879480" cy="88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1" name="Picture 9" descr="C:\Мои документы\География 10\dharma.jpg"/>
          <p:cNvPicPr/>
          <p:nvPr/>
        </p:nvPicPr>
        <p:blipFill>
          <a:blip r:embed="rId5"/>
          <a:stretch/>
        </p:blipFill>
        <p:spPr>
          <a:xfrm>
            <a:off x="8265960" y="5985000"/>
            <a:ext cx="838440" cy="838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2" name="Picture 10" descr="D:\rel\индзнак.files\hindu.jpeg"/>
          <p:cNvPicPr/>
          <p:nvPr/>
        </p:nvPicPr>
        <p:blipFill>
          <a:blip r:embed="rId6"/>
          <a:stretch/>
        </p:blipFill>
        <p:spPr>
          <a:xfrm>
            <a:off x="5943600" y="1219320"/>
            <a:ext cx="838080" cy="714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3" name="Picture 11" descr="D:\rel\Яndex бог Шива (15).files\shiva06.jpeg"/>
          <p:cNvPicPr/>
          <p:nvPr/>
        </p:nvPicPr>
        <p:blipFill>
          <a:blip r:embed="rId7"/>
          <a:stretch/>
        </p:blipFill>
        <p:spPr>
          <a:xfrm>
            <a:off x="1447920" y="4724280"/>
            <a:ext cx="1344600" cy="1733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D:\rel\Яndex бог Вишну (7).files\garud.gif"/>
          <p:cNvPicPr/>
          <p:nvPr/>
        </p:nvPicPr>
        <p:blipFill>
          <a:blip r:embed="rId8"/>
          <a:stretch/>
        </p:blipFill>
        <p:spPr>
          <a:xfrm>
            <a:off x="2819520" y="4724280"/>
            <a:ext cx="1388880" cy="1676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5" name="Picture 13" descr="D:\rel\ганеша.files\rus-slon_Ganesha_.jpeg"/>
          <p:cNvPicPr/>
          <p:nvPr/>
        </p:nvPicPr>
        <p:blipFill>
          <a:blip r:embed="rId9"/>
          <a:srcRect l="10998" t="5996" r="10998" b="8295"/>
          <a:stretch/>
        </p:blipFill>
        <p:spPr>
          <a:xfrm>
            <a:off x="4308480" y="4724280"/>
            <a:ext cx="1406520" cy="1676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6" name="Picture 14" descr="D:\rel\Яndex индуизм (104).files\M_ind.jpeg"/>
          <p:cNvPicPr/>
          <p:nvPr/>
        </p:nvPicPr>
        <p:blipFill>
          <a:blip r:embed="rId10"/>
          <a:srcRect l="22477" t="11795" r="22427" b="48658"/>
          <a:stretch/>
        </p:blipFill>
        <p:spPr>
          <a:xfrm>
            <a:off x="5791320" y="4667400"/>
            <a:ext cx="1981080" cy="1733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7" name="Text Box 15"/>
          <p:cNvSpPr/>
          <p:nvPr/>
        </p:nvSpPr>
        <p:spPr>
          <a:xfrm>
            <a:off x="917640" y="640080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Шива     Вишну       Ганеша            Хр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2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41_802"/>
          <p:cNvPicPr/>
          <p:nvPr/>
        </p:nvPicPr>
        <p:blipFill>
          <a:blip r:embed="rId1"/>
          <a:stretch/>
        </p:blipFill>
        <p:spPr>
          <a:xfrm>
            <a:off x="5580000" y="857160"/>
            <a:ext cx="3564000" cy="6000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5500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ая по времени возникновения мировая рели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ая крупная по числу последователей мировая религия – около 2 млрд. ч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ла в Палестине в результате деятельности Иисуса Христа, а также его ближайших последовате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ит в Боговоплощение, жертву Иисуса Христа, своей смертью искупившего грехи людей, воскресение Иисуса Христа и вознесение Его на небо, будущее воскрешение мёртвых и вечную жизнь после воскреш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иблия – текст Божественного откров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г един в трех лицах – Отец, Сын, Дух – образ Тро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дея греховности человека как причины его несчас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. 1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7"/>
          <p:cNvSpPr txBox="1"/>
          <p:nvPr/>
        </p:nvSpPr>
        <p:spPr>
          <a:xfrm>
            <a:off x="2428920" y="642960"/>
            <a:ext cx="4000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Impact"/>
              </a:rPr>
              <a:t>Религ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Impact"/>
              <a:ea typeface="Impact"/>
            </a:endParaRPr>
          </a:p>
        </p:txBody>
      </p:sp>
      <p:sp>
        <p:nvSpPr>
          <p:cNvPr id="90" name="AutoShape 10"/>
          <p:cNvSpPr/>
          <p:nvPr/>
        </p:nvSpPr>
        <p:spPr>
          <a:xfrm rot="19059600">
            <a:off x="2881440" y="2252160"/>
            <a:ext cx="1066680" cy="270000"/>
          </a:xfrm>
          <a:prstGeom prst="leftArrow">
            <a:avLst>
              <a:gd name="adj1" fmla="val 45093"/>
              <a:gd name="adj2" fmla="val 125964"/>
            </a:avLst>
          </a:prstGeom>
          <a:gradFill rotWithShape="0">
            <a:gsLst>
              <a:gs pos="0">
                <a:srgbClr val="cc6600"/>
              </a:gs>
              <a:gs pos="50000">
                <a:srgbClr val="de9d5c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1"/>
          <p:cNvSpPr/>
          <p:nvPr/>
        </p:nvSpPr>
        <p:spPr>
          <a:xfrm rot="13699200">
            <a:off x="4779720" y="2209680"/>
            <a:ext cx="1067040" cy="269640"/>
          </a:xfrm>
          <a:prstGeom prst="leftArrow">
            <a:avLst>
              <a:gd name="adj1" fmla="val 45093"/>
              <a:gd name="adj2" fmla="val 126175"/>
            </a:avLst>
          </a:prstGeom>
          <a:gradFill rotWithShape="0">
            <a:gsLst>
              <a:gs pos="0">
                <a:srgbClr val="cc6600"/>
              </a:gs>
              <a:gs pos="50000">
                <a:srgbClr val="de9d5c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12"/>
          <p:cNvSpPr txBox="1"/>
          <p:nvPr/>
        </p:nvSpPr>
        <p:spPr>
          <a:xfrm>
            <a:off x="571680" y="2857680"/>
            <a:ext cx="350964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+mj-lt"/>
              </a:rPr>
              <a:t>Мир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+mj-lt"/>
              <a:ea typeface="+mj-lt"/>
            </a:endParaRPr>
          </a:p>
        </p:txBody>
      </p:sp>
      <p:sp>
        <p:nvSpPr>
          <p:cNvPr id="93" name="WordArt 13"/>
          <p:cNvSpPr txBox="1"/>
          <p:nvPr/>
        </p:nvSpPr>
        <p:spPr>
          <a:xfrm>
            <a:off x="4572000" y="2857680"/>
            <a:ext cx="41432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Impact"/>
              </a:rPr>
              <a:t>националь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Impact"/>
              <a:ea typeface="Impact"/>
            </a:endParaRPr>
          </a:p>
        </p:txBody>
      </p:sp>
      <p:sp>
        <p:nvSpPr>
          <p:cNvPr id="94" name="AutoShape 10"/>
          <p:cNvSpPr/>
          <p:nvPr/>
        </p:nvSpPr>
        <p:spPr>
          <a:xfrm rot="16409400">
            <a:off x="3705120" y="4263480"/>
            <a:ext cx="1066680" cy="270000"/>
          </a:xfrm>
          <a:prstGeom prst="leftArrow">
            <a:avLst>
              <a:gd name="adj1" fmla="val 45093"/>
              <a:gd name="adj2" fmla="val 125964"/>
            </a:avLst>
          </a:prstGeom>
          <a:gradFill rotWithShape="0">
            <a:gsLst>
              <a:gs pos="0">
                <a:srgbClr val="cc6600"/>
              </a:gs>
              <a:gs pos="50000">
                <a:srgbClr val="de9d5c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1714680" y="5429160"/>
            <a:ext cx="507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Impact"/>
              </a:rPr>
              <a:t>местные вер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Мировые рели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203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уддиз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40000" y="1341360"/>
            <a:ext cx="320364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л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 rot="10800000">
            <a:off x="3203280" y="1196640"/>
            <a:ext cx="2870280" cy="2016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673200" y="4365720"/>
            <a:ext cx="4330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673200" y="1816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914400" y="20606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84360" y="4292640"/>
            <a:ext cx="59245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1619280" y="3284640"/>
            <a:ext cx="590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2" descr="Gold_Buddha_st"/>
          <p:cNvPicPr/>
          <p:nvPr/>
        </p:nvPicPr>
        <p:blipFill>
          <a:blip r:embed="rId1"/>
          <a:stretch/>
        </p:blipFill>
        <p:spPr>
          <a:xfrm>
            <a:off x="179280" y="2060640"/>
            <a:ext cx="2086200" cy="278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3" descr="71"/>
          <p:cNvPicPr/>
          <p:nvPr/>
        </p:nvPicPr>
        <p:blipFill>
          <a:blip r:embed="rId2"/>
          <a:stretch/>
        </p:blipFill>
        <p:spPr>
          <a:xfrm>
            <a:off x="6443640" y="2060640"/>
            <a:ext cx="2381400" cy="1562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4" descr="835"/>
          <p:cNvPicPr/>
          <p:nvPr/>
        </p:nvPicPr>
        <p:blipFill>
          <a:blip r:embed="rId3"/>
          <a:stretch/>
        </p:blipFill>
        <p:spPr>
          <a:xfrm>
            <a:off x="3492360" y="4149720"/>
            <a:ext cx="2232000" cy="24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Samsung\Desktop\799px-Eglise_Notre-Dame-du-Perpetuel-Secours_Petrozavodsk_2010.jpg"/>
          <p:cNvPicPr/>
          <p:nvPr/>
        </p:nvPicPr>
        <p:blipFill>
          <a:blip r:embed="rId1"/>
          <a:stretch/>
        </p:blipFill>
        <p:spPr>
          <a:xfrm>
            <a:off x="5572080" y="142884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071880" y="3143160"/>
            <a:ext cx="3429000" cy="3714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Христиан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51280" y="907560"/>
            <a:ext cx="3492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атоличе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0" y="1071720"/>
            <a:ext cx="35640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91966"/>
                </a:solidFill>
                <a:uFillTx/>
                <a:latin typeface="Times New Roman"/>
              </a:rPr>
              <a:t>Протестант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 rot="10800000">
            <a:off x="3571920" y="1268280"/>
            <a:ext cx="2000160" cy="187488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714760" y="3214800"/>
            <a:ext cx="3929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слав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C:\Users\Samsung\Desktop\0_27174_d2bb713_L.jpg"/>
          <p:cNvPicPr/>
          <p:nvPr/>
        </p:nvPicPr>
        <p:blipFill>
          <a:blip r:embed="rId3"/>
          <a:stretch/>
        </p:blipFill>
        <p:spPr>
          <a:xfrm>
            <a:off x="0" y="1643040"/>
            <a:ext cx="31431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857840" y="1000080"/>
            <a:ext cx="428616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0" y="2571840"/>
            <a:ext cx="4500720" cy="4286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Национальные религии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7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Иудаизм (Израиль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интоизм (Япония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онфуцианство (Кита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4786200" y="328608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>
            <a:off x="76320" y="76320"/>
            <a:ext cx="8067600" cy="1218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2c274"/>
              </a:gs>
              <a:gs pos="50000">
                <a:srgbClr val="ffff99"/>
              </a:gs>
              <a:gs pos="100000">
                <a:srgbClr val="c2c2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04920" y="380880"/>
            <a:ext cx="7624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cc"/>
                </a:solidFill>
                <a:latin typeface="Impact"/>
              </a:rPr>
              <a:t>местные верования</a:t>
            </a:r>
            <a:endParaRPr b="0" lang="en-US" sz="2400" spc="1" strike="noStrike">
              <a:ln w="0">
                <a:noFill/>
              </a:ln>
              <a:solidFill>
                <a:srgbClr val="3333cc"/>
              </a:solidFill>
              <a:latin typeface="Impact"/>
              <a:ea typeface="Impact"/>
            </a:endParaRPr>
          </a:p>
        </p:txBody>
      </p:sp>
      <p:pic>
        <p:nvPicPr>
          <p:cNvPr id="124" name="Picture 5" descr="C:\Мои документы\География 10\islam.jpg"/>
          <p:cNvPicPr/>
          <p:nvPr/>
        </p:nvPicPr>
        <p:blipFill>
          <a:blip r:embed="rId1"/>
          <a:stretch/>
        </p:blipFill>
        <p:spPr>
          <a:xfrm>
            <a:off x="14400" y="5900760"/>
            <a:ext cx="823680" cy="91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5" name="Picture 7" descr="C:\Мои документы\География 10\dharma.jpg"/>
          <p:cNvPicPr/>
          <p:nvPr/>
        </p:nvPicPr>
        <p:blipFill>
          <a:blip r:embed="rId2"/>
          <a:stretch/>
        </p:blipFill>
        <p:spPr>
          <a:xfrm>
            <a:off x="8265960" y="5985000"/>
            <a:ext cx="838440" cy="838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6" name="WordArt 11"/>
          <p:cNvSpPr txBox="1"/>
          <p:nvPr/>
        </p:nvSpPr>
        <p:spPr>
          <a:xfrm>
            <a:off x="1219320" y="16002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Фетиш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2286000" y="2514600"/>
            <a:ext cx="407880" cy="609480"/>
          </a:xfrm>
          <a:prstGeom prst="upDownArrow">
            <a:avLst>
              <a:gd name="adj1" fmla="val 42361"/>
              <a:gd name="adj2" fmla="val 29747"/>
            </a:avLst>
          </a:prstGeom>
          <a:gradFill rotWithShape="0">
            <a:gsLst>
              <a:gs pos="0">
                <a:srgbClr val="cc6600"/>
              </a:gs>
              <a:gs pos="50000">
                <a:srgbClr val="d98e43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1720" y="3048120"/>
            <a:ext cx="50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Религиозное почит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фетишей - предме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наделенных, по мнению верующи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верхъестественными свойст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D:\rel\Яndex фетиш (1649).files\fetish_kypchil.gif"/>
          <p:cNvPicPr/>
          <p:nvPr/>
        </p:nvPicPr>
        <p:blipFill>
          <a:blip r:embed="rId5"/>
          <a:srcRect l="15465" t="34669" r="7248" b="-1323"/>
          <a:stretch/>
        </p:blipFill>
        <p:spPr>
          <a:xfrm>
            <a:off x="1981080" y="4572000"/>
            <a:ext cx="152424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1986120" y="6400800"/>
            <a:ext cx="56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Народы Азии, Африки,Юж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WordArt 25"/>
          <p:cNvSpPr txBox="1"/>
          <p:nvPr/>
        </p:nvSpPr>
        <p:spPr>
          <a:xfrm>
            <a:off x="5715000" y="167652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Аним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2" name="AutoShape 26"/>
          <p:cNvSpPr/>
          <p:nvPr/>
        </p:nvSpPr>
        <p:spPr>
          <a:xfrm>
            <a:off x="6754680" y="2514600"/>
            <a:ext cx="408240" cy="609480"/>
          </a:xfrm>
          <a:prstGeom prst="upDownArrow">
            <a:avLst>
              <a:gd name="adj1" fmla="val 42361"/>
              <a:gd name="adj2" fmla="val 29721"/>
            </a:avLst>
          </a:prstGeom>
          <a:gradFill rotWithShape="0">
            <a:gsLst>
              <a:gs pos="0">
                <a:srgbClr val="cc6600"/>
              </a:gs>
              <a:gs pos="50000">
                <a:srgbClr val="d98e43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5171760" y="3013200"/>
            <a:ext cx="396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ера в существ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душ и духов, управля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предметами и явл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D:\rel\гора.files\totem1x1.jpeg"/>
          <p:cNvPicPr/>
          <p:nvPr/>
        </p:nvPicPr>
        <p:blipFill>
          <a:blip r:embed="rId8"/>
          <a:srcRect l="3997" t="0" r="56005" b="26988"/>
          <a:stretch/>
        </p:blipFill>
        <p:spPr>
          <a:xfrm>
            <a:off x="6400800" y="4543560"/>
            <a:ext cx="15238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76320" y="76320"/>
            <a:ext cx="4114800" cy="1218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2c274"/>
              </a:gs>
              <a:gs pos="50000">
                <a:srgbClr val="ffff99"/>
              </a:gs>
              <a:gs pos="100000">
                <a:srgbClr val="c2c2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3"/>
          <p:cNvSpPr txBox="1"/>
          <p:nvPr/>
        </p:nvSpPr>
        <p:spPr>
          <a:xfrm>
            <a:off x="304920" y="380880"/>
            <a:ext cx="3695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одо-племенные верования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Picture 4" descr="C:\Мои документы\География 10\islam.jpg"/>
          <p:cNvPicPr/>
          <p:nvPr/>
        </p:nvPicPr>
        <p:blipFill>
          <a:blip r:embed="rId3"/>
          <a:stretch/>
        </p:blipFill>
        <p:spPr>
          <a:xfrm>
            <a:off x="14400" y="5900760"/>
            <a:ext cx="823680" cy="91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8" name="Picture 5" descr="C:\Мои документы\География 10\pict_chr.jpg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229600" y="31680"/>
            <a:ext cx="879480" cy="88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9" name="Picture 6" descr="C:\Мои документы\География 10\dharma.jpg"/>
          <p:cNvPicPr/>
          <p:nvPr/>
        </p:nvPicPr>
        <p:blipFill>
          <a:blip r:embed="rId5"/>
          <a:stretch/>
        </p:blipFill>
        <p:spPr>
          <a:xfrm>
            <a:off x="8265960" y="5985000"/>
            <a:ext cx="838440" cy="838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0" name="WordArt 7"/>
          <p:cNvSpPr txBox="1"/>
          <p:nvPr/>
        </p:nvSpPr>
        <p:spPr>
          <a:xfrm>
            <a:off x="1219320" y="16002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Тотем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286000" y="2514600"/>
            <a:ext cx="407880" cy="609480"/>
          </a:xfrm>
          <a:prstGeom prst="upDownArrow">
            <a:avLst>
              <a:gd name="adj1" fmla="val 42361"/>
              <a:gd name="adj2" fmla="val 29747"/>
            </a:avLst>
          </a:prstGeom>
          <a:gradFill rotWithShape="0">
            <a:gsLst>
              <a:gs pos="0">
                <a:srgbClr val="cc6600"/>
              </a:gs>
              <a:gs pos="50000">
                <a:srgbClr val="d98e43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1000" y="3048120"/>
            <a:ext cx="42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ера в фантастическо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верхъестественное р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между людьми и живот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или растени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83720" y="640080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Народы С. Америки, Австрал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12"/>
          <p:cNvSpPr txBox="1"/>
          <p:nvPr/>
        </p:nvSpPr>
        <p:spPr>
          <a:xfrm>
            <a:off x="5715000" y="16002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Шаман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6754680" y="2514600"/>
            <a:ext cx="408240" cy="609480"/>
          </a:xfrm>
          <a:prstGeom prst="upDownArrow">
            <a:avLst>
              <a:gd name="adj1" fmla="val 42361"/>
              <a:gd name="adj2" fmla="val 29721"/>
            </a:avLst>
          </a:prstGeom>
          <a:gradFill rotWithShape="0">
            <a:gsLst>
              <a:gs pos="0">
                <a:srgbClr val="cc6600"/>
              </a:gs>
              <a:gs pos="50000">
                <a:srgbClr val="d98e43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073480" y="3013200"/>
            <a:ext cx="418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ера в способ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колдуна, шамана оказыв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оздействие на те 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иные явления или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7" descr="D:\rel\Яndex тотем (896).files\T4463i.jpeg"/>
          <p:cNvPicPr/>
          <p:nvPr/>
        </p:nvPicPr>
        <p:blipFill>
          <a:blip r:embed="rId10"/>
          <a:stretch/>
        </p:blipFill>
        <p:spPr>
          <a:xfrm>
            <a:off x="1801800" y="4572000"/>
            <a:ext cx="170352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D:\rel\шаман тува.files\shaman.jpeg"/>
          <p:cNvPicPr/>
          <p:nvPr/>
        </p:nvPicPr>
        <p:blipFill>
          <a:blip r:embed="rId11"/>
          <a:stretch/>
        </p:blipFill>
        <p:spPr>
          <a:xfrm>
            <a:off x="5791320" y="4572000"/>
            <a:ext cx="2381040" cy="1733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9"/>
          <p:cNvSpPr/>
          <p:nvPr/>
        </p:nvSpPr>
        <p:spPr>
          <a:xfrm>
            <a:off x="5792400" y="640080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Тувинцы, яку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1024"/>
          <p:cNvGraphicFramePr/>
          <p:nvPr/>
        </p:nvGraphicFramePr>
        <p:xfrm>
          <a:off x="0" y="1638360"/>
          <a:ext cx="914400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8360"/>
                    <a:ext cx="914400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WordArt 1027"/>
          <p:cNvSpPr txBox="1"/>
          <p:nvPr/>
        </p:nvSpPr>
        <p:spPr>
          <a:xfrm>
            <a:off x="1285920" y="428760"/>
            <a:ext cx="6929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графия религ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76320" y="76320"/>
            <a:ext cx="4114800" cy="1218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2c274"/>
              </a:gs>
              <a:gs pos="50000">
                <a:srgbClr val="ffff99"/>
              </a:gs>
              <a:gs pos="100000">
                <a:srgbClr val="c2c2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WordArt 3"/>
          <p:cNvSpPr txBox="1"/>
          <p:nvPr/>
        </p:nvSpPr>
        <p:spPr>
          <a:xfrm>
            <a:off x="304920" y="380880"/>
            <a:ext cx="3695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циональные религии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4" descr="C:\Мои документы\География 10\islam.jpg"/>
          <p:cNvPicPr/>
          <p:nvPr/>
        </p:nvPicPr>
        <p:blipFill>
          <a:blip r:embed="rId3"/>
          <a:stretch/>
        </p:blipFill>
        <p:spPr>
          <a:xfrm>
            <a:off x="14400" y="5900760"/>
            <a:ext cx="823680" cy="91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6" name="Picture 5" descr="C:\Мои документы\География 10\pict_chr.jpg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229600" y="31680"/>
            <a:ext cx="879480" cy="88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7" name="Picture 6" descr="C:\Мои документы\География 10\dharma.jpg"/>
          <p:cNvPicPr/>
          <p:nvPr/>
        </p:nvPicPr>
        <p:blipFill>
          <a:blip r:embed="rId5"/>
          <a:stretch/>
        </p:blipFill>
        <p:spPr>
          <a:xfrm>
            <a:off x="8265960" y="5985000"/>
            <a:ext cx="838440" cy="838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8" name="WordArt 15"/>
          <p:cNvSpPr txBox="1"/>
          <p:nvPr/>
        </p:nvSpPr>
        <p:spPr>
          <a:xfrm>
            <a:off x="2978280" y="1371600"/>
            <a:ext cx="250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удаиз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83520" y="2362320"/>
            <a:ext cx="905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Возник на территории Палестины в 1 тысячелетии до н.э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13 млн. верующ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Официальная религия Израи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вященные книги: Талмуд, Тора; Бог - Ях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инагоги - место молитв, встреч и изучения священных кн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Праздники: Песах,Иом-кипур(Судный день),Шабат(Суббо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7" descr="D:\rel\Яndex синагога Москва (4).files\sinagoga_mos.jpeg"/>
          <p:cNvPicPr/>
          <p:nvPr/>
        </p:nvPicPr>
        <p:blipFill>
          <a:blip r:embed="rId6"/>
          <a:stretch/>
        </p:blipFill>
        <p:spPr>
          <a:xfrm>
            <a:off x="3733920" y="4724280"/>
            <a:ext cx="1904760" cy="17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1" name="Picture 18" descr="D:\rel\Яndex иудаизм (113).files\iudaizm.jpeg"/>
          <p:cNvPicPr/>
          <p:nvPr/>
        </p:nvPicPr>
        <p:blipFill>
          <a:blip r:embed="rId7"/>
          <a:stretch/>
        </p:blipFill>
        <p:spPr>
          <a:xfrm>
            <a:off x="6400800" y="1219320"/>
            <a:ext cx="838080" cy="904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62" name="Picture 19" descr="D:\rel\Яndex евреи (658).files\134.jpeg"/>
          <p:cNvPicPr/>
          <p:nvPr/>
        </p:nvPicPr>
        <p:blipFill>
          <a:blip r:embed="rId8"/>
          <a:stretch/>
        </p:blipFill>
        <p:spPr>
          <a:xfrm>
            <a:off x="1295280" y="4952880"/>
            <a:ext cx="2133720" cy="1470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3" name="Picture 21" descr="C:\Мои документы\География 10\менора.jpg"/>
          <p:cNvPicPr/>
          <p:nvPr/>
        </p:nvPicPr>
        <p:blipFill>
          <a:blip r:embed="rId9"/>
          <a:stretch/>
        </p:blipFill>
        <p:spPr>
          <a:xfrm>
            <a:off x="6172200" y="4724280"/>
            <a:ext cx="1262160" cy="1676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4" name="Text Box 22"/>
          <p:cNvSpPr/>
          <p:nvPr/>
        </p:nvSpPr>
        <p:spPr>
          <a:xfrm>
            <a:off x="1231920" y="640080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Иудей                 Синагога              Мен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36:30Z</dcterms:created>
  <dc:creator>user</dc:creator>
  <dc:description/>
  <dc:language>en-US</dc:language>
  <cp:lastModifiedBy>samsung</cp:lastModifiedBy>
  <dcterms:modified xsi:type="dcterms:W3CDTF">2011-12-14T15:25:51Z</dcterms:modified>
  <cp:revision>154</cp:revision>
  <dc:subject/>
  <dc:title>Заголовок слайда отсутствует</dc:title>
</cp:coreProperties>
</file>