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9D232-34B4-4475-91E1-FFD844274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6938-22EA-4D15-B2D5-26EC11C3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9BDA1-5598-40CE-9DD0-2CA4C7348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BFFE3-92CD-4542-AEC4-4110BDBB4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76A9D-80D0-433D-89AF-C02B498AF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15FC0-6886-48D4-816E-FC620E98E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8C809-63CF-4C37-9D08-5C51E47F0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BC3CB-AB73-402C-B8F8-AAC6992D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D2AA1-5493-46E0-BC22-9D487A7A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1B5F-8E58-48B8-8EB2-DDBCA5887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9EE2-C1ED-4AFC-A5B8-9F048D21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9AA0-9185-4570-A827-E3A4EC6B2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4D83-43AF-48AA-97A5-E9E286F1E7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Роль старшего воспитателя  в повышение профессиональной компетенции сотрудников ДОУ</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Диагностика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Диагностика является неотъемлемой частью работы старшего воспитателя, особенно при повышении квалификации педагогических работников. Работа с ними в современных условиях должна строиться дифференцированно, с учетом запросов каждого. Именно это позволит развить творчество и инициативу каждого путем включения в исследовательскую деятельность.</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280" y="1197000"/>
            <a:ext cx="8013960" cy="430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Для организации качественной работы по повышению квалификации педагогов обязательным условием является обратная связь с коллегами, т.е. получение информации, связанной с их образовательными потребностями и желаниями.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3640" y="404640"/>
            <a:ext cx="8280360" cy="596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Актуальность проблемы подготовки высококвалифицированного, свободно мыслящего, активно действующего воспитателя на современном этапе в связи с возрождающимся подходом к человеку как самоценности очевидна для всех.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омочь воспитателю овладеть новым педагогическим мышлением, готовностью к решению сложных задач в системе образования, к повышению своего педагогического мастерства призвана специально организованная методическая работа.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истема работы по повышению квалификации педагогов</a:t>
            </a: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егодня необходимы новые подходы к организации методической работы в ДОУ. Прежде всего следует создать условия для повышения активности и инициативы воспитателей, для пробуждения и поощрения их творческих поисков.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вышение квалификации педагогов – комплексный творческий процесс, предполагающий ознакомление воспитателей с технологиями обучения и воспитания детей дошкольного возраста, работы с родителями, а также с нетрадиционными подходами к разработке и оформлению педагогической документации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уществуют различные формы повышения квалификации, каждая из которых имеет свои специфические особенност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дагогические совет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Постоянно действующие коллегиальные органы, рассматривающие различные аспекты деятельности ДОУ. Непременным их компонентом должна быть рефлексивная деятельность педагого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бучающие семинар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Являются наиболее продуктивной формой повышения квалификации педагогов: на них основное внимание уделяется повышению их теоретической подготовки. Необходимым условием организации обучающих семинаров должно быть посильное участие всех педагогов. Им заранее предлагаются задания, которые позволят каждому развить педагогические способности, педагогическое мышление, коммуникативность.</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Консультации (индивидуальные и групповы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ычно планируются заранее и отражаются в годовом плане ДОУ и календарном планировании старшего воспитателя. Нередко необходимость в них возникает спонтанно, и качество проведения в этом случае напрямую зависит от педагогического мастерства и педагогической интуиции старшего воспитател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едварительная подготовка к консультации включает анализ литературы, отражающей современные подходы к обучению и воспитанию детей дошкольного возраста, выстраивание структуры консультации, определение ее содержания, подготовка информационных буклетов, проспектов и пособий.</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ткрытые просмотры заняти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000000"/>
                </a:solidFill>
                <a:latin typeface="Arial"/>
              </a:rPr>
              <a:t>Они позволяют всем увидеть, как работают коллеги, использовать их позитивный опыт, осознать свои недочеты. Кроме того, педагоги учатся анализировать особенности учебно-воспитательного процесса в целом, а также занятий или досуговой деятельности в группе.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зучение лучшего опыт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Изучение лучшего опыта педагогов позволяет решить целый ряд задач, таких как: целенаправленное накопление педагогических материалов, анализ результатов деятельности по определенному направлению образовательной работы, описание взаимосвязанной работы всех специалистов ДОУ, подготовка образовательного учреждения к аттестации, менеджмент и маркетинг образовательного процесса.</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здание</a:t>
            </a:r>
            <a:r>
              <a:rPr b="0" lang="ru-RU" sz="4000" spc="-1" strike="noStrike">
                <a:solidFill>
                  <a:srgbClr val="000000"/>
                </a:solidFill>
                <a:latin typeface="Arial"/>
              </a:rPr>
              <a:t> </a:t>
            </a:r>
            <a:r>
              <a:rPr b="1" lang="ru-RU" sz="4000" spc="-1" strike="noStrike">
                <a:solidFill>
                  <a:srgbClr val="000000"/>
                </a:solidFill>
                <a:latin typeface="Arial"/>
              </a:rPr>
              <a:t>творческих и проблемных групп педагого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В образовательной системе  ДОУ практикуются следующие творческие группы: учителей-логопедов; воспитателей раннего возраста; воспитателей речевых групп; воспитателей массовых групп.</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дагогические тренин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едагогические тренинги преследуют разные цели – от развития отдельных педагогических способностей воспитателей до формирования их устойчивого педагогического мышлени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держание тренингов включает индивидуальную работу по анализу педагогической проблемы; работу с группой коллег по решению поставленной поисковой задачи; проведение деловой игры; создание методических рекомендаций.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6T14:15:44Z</dcterms:created>
  <dc:creator>Computer</dc:creator>
  <dc:description/>
  <dc:language>en-US</dc:language>
  <cp:lastModifiedBy>Computer</cp:lastModifiedBy>
  <dcterms:modified xsi:type="dcterms:W3CDTF">2011-12-26T16:36:19Z</dcterms:modified>
  <cp:revision>2</cp:revision>
  <dc:subject/>
  <dc:title>Роль старшего воспитателя  в повышение профессиональной компетенции сотрудников ДОУ </dc:title>
</cp:coreProperties>
</file>