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25.png" ContentType="image/png"/>
  <Override PartName="/ppt/media/image24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048-443F-4D91-BBD0-0A842259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600-50E6-4216-9EAC-DE0EEE93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B60-F01B-4350-9A56-F1006143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0B6-3FA4-4B33-AE38-3A60F8B1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5939-146D-4B74-8C11-5E4C46D5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149-D68B-4AF2-9C46-F4A265B4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5875-8344-4564-80AE-C7DE41D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7C2-5BF4-455F-AE1D-4EDC1E5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3A00-10AF-4C38-A9AF-042DD8F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1E77-55CB-437C-AC9E-B9D4758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10B-9027-4092-96D4-5ED1C48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8FE-9DC0-43F4-A017-BE8883B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4110-B8C6-41BF-9B8B-660A62CB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01E9-E3EF-4F46-844C-9EECC34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3F33-148E-4D06-B813-DEEE216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24B-6B3F-4755-AA2B-A83497A5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7174-AA09-4C6B-95CC-BEAA0C05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887A8-D8D8-4E20-BFF5-34466BA0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E8A3E-FE21-4E0D-B9ED-E6CE131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895F9-F2CF-45B6-9DAD-6C56DA06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0AFE8-5AC0-4820-B405-7F78F40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0F159-FA9C-4648-8D9B-58B4297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BFC-B8D6-439E-8D0C-8CD654FB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4A9ED-7CEE-49D8-8BC2-15084228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946B1-4245-4B06-BBA4-76C5525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754F-0834-4894-8FF1-336D67D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DC621-E950-4387-953F-38FE3A50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E6935-FFFF-41A0-8845-90482160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091A0-8DE8-480D-9CC7-228726E8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F49B7-9856-4F53-910C-9F786D1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D3388-E52D-446F-8E32-F8E65CA2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2587E-27F0-4901-89F1-A1365AC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5BF33-6200-4D25-BA45-727C0E82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0B8-E69D-4922-A410-6F60E85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707EB-BA6F-4D08-8E22-7C52DE8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C32D4-8DCE-4FBD-8FFB-DC40324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92C29-E192-4865-BC37-BB3293F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D3BD0-0E65-4A59-BF57-B4BE9D2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2D454-5429-4FD2-A87F-9AC66B8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82D40-F8FE-478B-BFD2-0E4AA4E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12E78-C3FE-4A1C-8A86-DA858FAC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7545B-73EE-444E-88DF-FFFDEBF2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9771C-D2ED-49A3-AE11-0DEEF421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D87DA-D349-4B1F-ACBE-A7000CE8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EF2-D3AD-4AAB-B75E-FFF0E28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BA170-0E34-4AFF-A0CD-2BAE1BE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8FEFA-3FE0-4E16-B0EA-AF1A942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42D5C-AC90-4227-9026-17DB5B5B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CA87C-03DC-4413-AF16-24D1F16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5ACEB-C1F6-44EF-9FDA-593D194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DF867-901B-4CD8-9583-97880482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7E33F-0949-4DED-9E74-7BA067C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776F0-F9AD-4B77-AC1C-B5B65A2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23531-AC79-4C43-8CFE-B857FD8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28D4E-01B6-4A24-861C-894196F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C88-267A-4473-A830-FE955F42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174EA-8F35-4C7A-B8EF-533164CA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86F2-71A1-4C34-AACC-E522748A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87FE-7921-4D41-A500-9BEFB291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3C26-399A-411A-9B03-9ACDBE95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E89A-EE3B-4C13-B2FB-0B5D8897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41E0-A330-4DB4-AF57-ECE6FDD4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E05C-A2D9-4551-97ED-37703D8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F639-6781-4CBF-A2CF-167B8E6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E1E6-E68D-43E7-9FC1-DE8F978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C974-C5B8-47A9-9B93-1E5E71E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BBE-6D93-4E59-BFA4-EA1566A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66164-BA29-48D1-8A80-C14575E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2F34-A046-4B5C-AF78-03A0723D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C1CBA-32F7-46EE-AD77-AB31C76C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2BB2E-1CE3-442D-B03A-26A33DA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F402B-5745-4F0B-9E70-3AA8735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8F69B-30E8-4610-92CA-66D8AF1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C95D2-EA6C-41F0-919B-78AB686A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D3442-BB8D-42A2-8BBE-2CCEE66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7FABC-8C2D-4C8B-A37C-B3869BD2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E5760-1E6B-44B4-909C-482921C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0D5-3811-4B06-A44B-A369551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B0C97-072F-4526-844B-D5DA686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0AAA4-BB28-4481-99E2-83AEB824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C35C5-C701-4340-A1BB-A048F673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5C5CE-B118-4BEB-BA8A-A3BE0A96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A62CF-2BD6-45CA-AF4D-EA490773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3C7A-2D07-40A6-B0A9-184C965C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6FE6-81CF-4C61-AD34-48D18CA0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193F-7C29-4E7D-9944-48824295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E8F9-0FC2-49B2-B397-1F32ED8E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DA5F-B296-4729-9812-EFE1D10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DEB-B615-4E69-BF69-C556F45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CE88-846F-4E79-80E0-360A0ACF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41FAA-C611-43E5-A91E-A5D82E51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7DEFA-ADBB-4226-A439-2307A5A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837BE-DA60-47A3-A7AE-3E02A92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EBFF-6B94-44C8-BEA0-F7B1F1D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461A3-E0CF-4762-B707-9C5D5B49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4CD9-3A11-4AA2-BA22-499982FD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25A-5822-4A31-970B-C31465640AB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3FDC-4FB4-48DF-B189-2D1344A99E96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D100-3199-4460-958D-772E007349A7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092-A467-47FA-83B0-BDCA14BB48D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4B4A-5E9E-451B-85E7-DF55DDFD46B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33A-5447-4C92-930D-66975039211C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F55F-C326-4972-B396-8146914CA2D2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7F1A-DA68-4327-BCB1-D75DC28F3B9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СОЗДАНИЕ БАННЕРА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бъединяем слои ФОН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и ПРИВЕТ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360" y="1600200"/>
            <a:ext cx="56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ой кнопкой мыши щелкаем по слою с текст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бираем «Объединить с предыдущим»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572940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 стрелкой 4"/>
          <p:cNvCxnSpPr/>
          <p:nvPr/>
        </p:nvCxnSpPr>
        <p:spPr>
          <a:xfrm flipV="1">
            <a:off x="3492360" y="2491920"/>
            <a:ext cx="3456720" cy="100872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Тоже самое проделать для следующего сло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1433520"/>
            <a:ext cx="921060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Фильтры – Анимация – Выжигание (с параметрами можно поэкспериментировать)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183280" cy="518004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3"/>
          <p:cNvSpPr/>
          <p:nvPr/>
        </p:nvSpPr>
        <p:spPr>
          <a:xfrm>
            <a:off x="1835280" y="1700280"/>
            <a:ext cx="576000" cy="21600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Прямоугольник 4"/>
          <p:cNvSpPr/>
          <p:nvPr/>
        </p:nvSpPr>
        <p:spPr>
          <a:xfrm>
            <a:off x="1908000" y="4724280"/>
            <a:ext cx="1008360" cy="2890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Прямоугольник 5"/>
          <p:cNvSpPr/>
          <p:nvPr/>
        </p:nvSpPr>
        <p:spPr>
          <a:xfrm>
            <a:off x="4932360" y="5084640"/>
            <a:ext cx="1440000" cy="21600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619280" y="378000"/>
            <a:ext cx="6048360" cy="611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Файл – сохранить  (расширение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IF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835280" y="15429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охранить как анимацию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10520" cy="4537080"/>
          </a:xfrm>
          <a:prstGeom prst="rect">
            <a:avLst/>
          </a:prstGeom>
          <a:ln w="0">
            <a:noFill/>
          </a:ln>
        </p:spPr>
      </p:pic>
      <p:cxnSp>
        <p:nvCxnSpPr>
          <p:cNvPr id="406" name="Прямая со стрелкой 2"/>
          <p:cNvCxnSpPr/>
          <p:nvPr/>
        </p:nvCxnSpPr>
        <p:spPr>
          <a:xfrm flipH="1">
            <a:off x="2194920" y="1125000"/>
            <a:ext cx="2089800" cy="223308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ЕЗУЛЬТА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8" name="Объект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5310000" cy="18590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4608360" cy="161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здать статическую кнопку очень просто. Файл – Создать - Кнопк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7328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раметры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4984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отово!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835280" y="2009880"/>
            <a:ext cx="51847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йл – Создать (размер 200х70)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71640" y="1609560"/>
            <a:ext cx="7272360" cy="516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0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905120" cy="6667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433960" cy="865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3"/>
          <a:stretch/>
        </p:blipFill>
        <p:spPr>
          <a:xfrm>
            <a:off x="4525920" y="321300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"/>
          <p:cNvPicPr/>
          <p:nvPr/>
        </p:nvPicPr>
        <p:blipFill>
          <a:blip r:embed="rId4"/>
          <a:stretch/>
        </p:blipFill>
        <p:spPr>
          <a:xfrm>
            <a:off x="11160" y="3716280"/>
            <a:ext cx="428616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Прямоугольное выделение» (выделяем кнопк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5256360" cy="5165640"/>
          </a:xfrm>
          <a:prstGeom prst="rect">
            <a:avLst/>
          </a:prstGeom>
          <a:ln w="0">
            <a:noFill/>
          </a:ln>
        </p:spPr>
      </p:pic>
      <p:cxnSp>
        <p:nvCxnSpPr>
          <p:cNvPr id="358" name="Прямая со стрелкой 4"/>
          <p:cNvCxnSpPr/>
          <p:nvPr/>
        </p:nvCxnSpPr>
        <p:spPr>
          <a:xfrm>
            <a:off x="1979640" y="1197000"/>
            <a:ext cx="1513440" cy="72000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59" name="Прямая со стрелкой 3"/>
          <p:cNvCxnSpPr/>
          <p:nvPr/>
        </p:nvCxnSpPr>
        <p:spPr>
          <a:xfrm>
            <a:off x="5003280" y="1413000"/>
            <a:ext cx="2233080" cy="2583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Градиентная заливка» (цвет по вкус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4360" y="1519200"/>
            <a:ext cx="7213320" cy="5338800"/>
          </a:xfrm>
          <a:prstGeom prst="rect">
            <a:avLst/>
          </a:prstGeom>
          <a:ln w="0">
            <a:noFill/>
          </a:ln>
        </p:spPr>
      </p:pic>
      <p:cxnSp>
        <p:nvCxnSpPr>
          <p:cNvPr id="363" name="Прямая со стрелкой 3"/>
          <p:cNvCxnSpPr/>
          <p:nvPr/>
        </p:nvCxnSpPr>
        <p:spPr>
          <a:xfrm flipH="1">
            <a:off x="1331640" y="765000"/>
            <a:ext cx="3169440" cy="259344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ыделение – Граница (создаем рамку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4321080" cy="53769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3"/>
          <p:cNvSpPr/>
          <p:nvPr/>
        </p:nvSpPr>
        <p:spPr>
          <a:xfrm>
            <a:off x="1835280" y="1557360"/>
            <a:ext cx="936360" cy="35892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1835280" y="4797360"/>
            <a:ext cx="2305080" cy="2872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20908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Заливаем границу контрастным  цвето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55640" y="2251080"/>
            <a:ext cx="804852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оздать копию слоя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651640" y="0"/>
            <a:ext cx="3155760" cy="6492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3"/>
          <p:cNvSpPr/>
          <p:nvPr/>
        </p:nvSpPr>
        <p:spPr>
          <a:xfrm>
            <a:off x="7020000" y="5950080"/>
            <a:ext cx="647640" cy="542880"/>
          </a:xfrm>
          <a:prstGeom prst="rect">
            <a:avLst/>
          </a:prstGeom>
          <a:noFill/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79" name="Прямая со стрелкой 5"/>
          <p:cNvCxnSpPr/>
          <p:nvPr/>
        </p:nvCxnSpPr>
        <p:spPr>
          <a:xfrm>
            <a:off x="3132000" y="980640"/>
            <a:ext cx="3888720" cy="4752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нструмент «Текст» (видимость слоя «копия фон» отключить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999640" cy="460836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3"/>
          <p:cNvCxnSpPr/>
          <p:nvPr/>
        </p:nvCxnSpPr>
        <p:spPr>
          <a:xfrm flipH="1">
            <a:off x="1402560" y="620280"/>
            <a:ext cx="2809080" cy="2088360"/>
          </a:xfrm>
          <a:prstGeom prst="straightConnector1">
            <a:avLst/>
          </a:prstGeom>
          <a:ln w="4752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8:09:55Z</dcterms:created>
  <dc:creator>Надежда Евгеньевна</dc:creator>
  <dc:description/>
  <dc:language>en-US</dc:language>
  <cp:lastModifiedBy>USER</cp:lastModifiedBy>
  <dcterms:modified xsi:type="dcterms:W3CDTF">2012-11-27T07:04:10Z</dcterms:modified>
  <cp:revision>10</cp:revision>
  <dc:subject/>
  <dc:title>Создание баннера</dc:title>
</cp:coreProperties>
</file>