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2.jpeg" ContentType="image/jpeg"/>
  <Override PartName="/ppt/media/image25.png" ContentType="image/png"/>
  <Override PartName="/ppt/media/image24.png" ContentType="image/png"/>
  <Override PartName="/ppt/media/image20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gif" ContentType="image/gif"/>
  <Override PartName="/ppt/media/image22.png" ContentType="image/png"/>
  <Override PartName="/ppt/media/image5.png" ContentType="image/png"/>
  <Override PartName="/ppt/media/image10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ACD-E42C-46C4-A3E5-7C6AE879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79A-0601-48D1-BCC7-31DAF942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A60-2C6B-4A8F-A969-6A29DA79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9B9-FDF2-4BB0-807E-73FD01AC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39F1-4481-4BBB-9C34-BE23738C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D390-0720-4F95-B88F-BDD7E727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9350-258A-4CE8-8BE6-949080AA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CC9E-7D95-4EB2-A301-E2A5E999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8D31-A9D5-4216-991A-D17704B0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71EB-2BD4-4109-9AB7-B91E18F5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6271-E97B-4525-97B8-181157AC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5EB-B5CC-47CE-B797-2A5C3EEA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8BF4-C41B-4F05-BBF1-1C49938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6EA4-34EA-43E8-B91F-434D263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85BD-8B97-4BA8-A6A7-506B116D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F00C-9FB0-4E80-A991-ADBFA9B4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52C4-1B8E-43AD-94E4-70D133BA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E6296-571B-482C-B2B3-64EA3CA0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30E17-19C6-46A1-83EE-9A7D4131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C2239-6610-4670-B474-AC25E298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EF3A1-E31A-41BB-A3F0-8F171A24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ECC93-5B6F-476D-97B9-17B37D6A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7FF-09FB-4983-8596-D6AA0C3E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7E617-388A-48A5-B718-102B0319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7E3F1-4693-4633-B9B0-5ABBD31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3B449-86B6-4E87-9BB5-C075A3C7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EEAE1-B94D-4114-97A9-7F0AED11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767A9-A372-492C-9F57-E4207D47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5432C-FB12-4109-9851-7D881352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4EF51-D492-4CAA-A2F0-60FF6B1B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4E399-11D8-4C39-A978-5A7A9CA6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DF180-6E21-4EE2-88C4-71ECA2A1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87288-B24B-4E09-82BB-3C335CCA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FC5-E693-4F38-B2DC-68794EBD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836E7-5C58-42A2-904A-AA30B746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80BED-AC3F-4E3D-A7B9-B93B2913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53D6FD-126C-43C5-85A8-4A8CED78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21419-A5A6-479A-A4A5-5A2DF688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979AF-D4F8-4D78-9376-B0F0C546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381EA-77BA-4CD9-BE4E-C50D1210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72064-E42C-42DB-8FBA-83AAD5D4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76618-4E71-49D5-9A23-3C4B9B50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B2F68-FD81-489A-BD5B-B47A52DE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35ACD-46B7-4E06-BA0A-07634999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23B-D4B2-4978-B3D8-0ECC8BF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E87F1-A022-45D0-A375-646C9339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A2247-57E8-4302-A976-CC2A529D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F8BC8-0EBA-4A97-8DB5-29A3493E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07FA6-0671-417A-97E6-464C22EF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AD999-461F-4C5F-B5AB-5D2976B7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AF5B1-E2CC-49F8-B4F6-DE5B5AF8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419BD-36F7-4356-9681-1208ADC3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808F8-BFD0-45AA-931B-6BFC5D83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87436-2BC9-446B-9493-18E09022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9DF14-76E0-4FE1-A0AE-062BD07D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B5D-6748-43E4-BFF0-39BCB4E4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C046F-0078-4CD1-8849-9B5DE2EE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8F6DE-05A0-46DE-89FA-8411D34C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C2303-4E4C-4F4C-AAEA-A413D3FD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47CE3-962D-4C06-8EBD-B504D6B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DB29E-68F6-454E-B376-9A11D128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85B3E-6E52-4150-A64E-ADFAF3EA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400B4-0116-48CD-9854-750A89E5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24077-A427-4734-A611-C1D39C4F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07BB9-F1FC-4A8B-B392-96AE21F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BA17B-E877-406F-ABDE-CA45238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A25-E45A-45A9-88DB-943669DD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FABDE-060C-463B-8D46-82FD189B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6814D-EFE2-4186-9EB6-0FD28B12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2C726-E309-4692-9784-C7B41D25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9FB3E-EF22-4BFE-A300-6A7019A1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69D70-D11B-4AD5-8DAF-24016347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45E92-B739-4644-9B12-BDBBE4FA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F8212-9653-4935-8D36-3B40500B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C53D6-3C29-4735-B21A-8B83A4B6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81273A-CA5D-4D28-8417-97F7287A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DCDB8-D8C0-456F-A475-C542E2B9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B90-C753-4D0C-8769-3C96ACF5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C7B4B-32A6-4887-BC9B-5F7675B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623CF-1F2B-46AE-9108-C8CAFA63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369CE-EC0F-4462-9CB0-F42F10F2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C211C-A964-47F8-8C4E-3B657EDB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823BA-1E4F-496E-9690-773AD862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2EF88-2B97-4971-9AE2-616589E9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32D88-7C5F-4625-9358-4B48889D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6CA44-7379-4F37-996E-CC2DC50F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C83E4-8DF9-4CD6-A92F-9D863290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2E7C4-5D55-4A55-9890-D21D7911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0BF-2830-4F7B-B8DF-B9433BA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DC0BA-CE51-42E5-95FD-24CA0BE8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EE6D3-1586-4CAE-B99C-BFDFE45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5D298-2F02-4909-8F97-E896BEAF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BF4F8-1747-4481-9968-129308FC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A2328-7D41-4212-BE52-80B5A004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29B38-3809-4D7E-A1F7-54C87D8A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8DFAC-DD65-41E5-BE8C-DDDB3CD0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2590-0658-411B-9D63-0287FB9385C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E462-4841-4030-ACA3-C17F8E2B1C88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FDA4-0E57-4286-BE4B-86655A2833F0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74F2-5B5C-422A-86CD-432A1CE163F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C3DA-7BBD-493A-A0DA-7BDBCDEC113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C9B6-B681-47EA-A985-5FA83D0B48FF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69B4-06A5-45B4-9386-F90FC2DF975A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5825-6757-4C54-BAE7-95932D84F02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bddc3"/>
                </a:solidFill>
                <a:latin typeface="Calibri"/>
              </a:rPr>
              <a:t>СОЗДАНИЕ БАННЕРА</a:t>
            </a:r>
            <a:endParaRPr b="0" lang="en-US" sz="96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Объединяем слои ФОН</a:t>
            </a: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 и ПРИВЕТ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360" y="1600200"/>
            <a:ext cx="5614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ой кнопкой мыши щелкаем по слою с тексто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бираем «Объединить с предыдущим»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5729400"/>
          </a:xfrm>
          <a:prstGeom prst="rect">
            <a:avLst/>
          </a:prstGeom>
          <a:ln w="0">
            <a:noFill/>
          </a:ln>
        </p:spPr>
      </p:pic>
      <p:cxnSp>
        <p:nvCxnSpPr>
          <p:cNvPr id="387" name="Прямая со стрелкой 4"/>
          <p:cNvCxnSpPr/>
          <p:nvPr/>
        </p:nvCxnSpPr>
        <p:spPr>
          <a:xfrm flipV="1">
            <a:off x="3492360" y="2491920"/>
            <a:ext cx="3456720" cy="100872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Тоже самое проделать для следующего сло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0" y="1433520"/>
            <a:ext cx="921060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Фильтры – Анимация – Выжигание (с параметрами можно поэкспериментировать)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183280" cy="518004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3"/>
          <p:cNvSpPr/>
          <p:nvPr/>
        </p:nvSpPr>
        <p:spPr>
          <a:xfrm>
            <a:off x="1835280" y="1700280"/>
            <a:ext cx="576000" cy="216000"/>
          </a:xfrm>
          <a:prstGeom prst="rect">
            <a:avLst/>
          </a:prstGeom>
          <a:noFill/>
          <a:ln w="284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Прямоугольник 4"/>
          <p:cNvSpPr/>
          <p:nvPr/>
        </p:nvSpPr>
        <p:spPr>
          <a:xfrm>
            <a:off x="1908000" y="4724280"/>
            <a:ext cx="1008360" cy="289080"/>
          </a:xfrm>
          <a:prstGeom prst="rect">
            <a:avLst/>
          </a:prstGeom>
          <a:noFill/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Прямоугольник 5"/>
          <p:cNvSpPr/>
          <p:nvPr/>
        </p:nvSpPr>
        <p:spPr>
          <a:xfrm>
            <a:off x="4932360" y="5084640"/>
            <a:ext cx="1440000" cy="216000"/>
          </a:xfrm>
          <a:prstGeom prst="rect">
            <a:avLst/>
          </a:prstGeom>
          <a:noFill/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in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1619280" y="378000"/>
            <a:ext cx="6048360" cy="6113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Файл – сохранить  (расширение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IF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835280" y="1542960"/>
            <a:ext cx="5761080" cy="516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охранить как анимацию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10520" cy="4537080"/>
          </a:xfrm>
          <a:prstGeom prst="rect">
            <a:avLst/>
          </a:prstGeom>
          <a:ln w="0">
            <a:noFill/>
          </a:ln>
        </p:spPr>
      </p:pic>
      <p:cxnSp>
        <p:nvCxnSpPr>
          <p:cNvPr id="406" name="Прямая со стрелкой 2"/>
          <p:cNvCxnSpPr/>
          <p:nvPr/>
        </p:nvCxnSpPr>
        <p:spPr>
          <a:xfrm flipH="1">
            <a:off x="2194920" y="1125000"/>
            <a:ext cx="2089800" cy="223308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РЕЗУЛЬТАТ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8" name="Объект 2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5310000" cy="185904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4608360" cy="1613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оздать статическую кнопку очень просто. Файл – Создать - Кнопк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73288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араметры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849840" cy="623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Готово!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835280" y="2009880"/>
            <a:ext cx="5184720" cy="3598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Файл – Создать (размер 200х70)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971640" y="1609560"/>
            <a:ext cx="7272360" cy="5164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20" name="Объект 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1905120" cy="6667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2433960" cy="865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5" descr=""/>
          <p:cNvPicPr/>
          <p:nvPr/>
        </p:nvPicPr>
        <p:blipFill>
          <a:blip r:embed="rId3"/>
          <a:stretch/>
        </p:blipFill>
        <p:spPr>
          <a:xfrm>
            <a:off x="4525920" y="3213000"/>
            <a:ext cx="4416480" cy="331164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7" descr=""/>
          <p:cNvPicPr/>
          <p:nvPr/>
        </p:nvPicPr>
        <p:blipFill>
          <a:blip r:embed="rId4"/>
          <a:stretch/>
        </p:blipFill>
        <p:spPr>
          <a:xfrm>
            <a:off x="11160" y="3716280"/>
            <a:ext cx="4286160" cy="2724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Инструмент «Прямоугольное выделение» (выделяем кнопку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492360" y="1413000"/>
            <a:ext cx="5256360" cy="5165640"/>
          </a:xfrm>
          <a:prstGeom prst="rect">
            <a:avLst/>
          </a:prstGeom>
          <a:ln w="0">
            <a:noFill/>
          </a:ln>
        </p:spPr>
      </p:pic>
      <p:cxnSp>
        <p:nvCxnSpPr>
          <p:cNvPr id="358" name="Прямая со стрелкой 4"/>
          <p:cNvCxnSpPr/>
          <p:nvPr/>
        </p:nvCxnSpPr>
        <p:spPr>
          <a:xfrm>
            <a:off x="1979640" y="1197000"/>
            <a:ext cx="1513440" cy="72000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59" name="Прямая со стрелкой 3"/>
          <p:cNvCxnSpPr/>
          <p:nvPr/>
        </p:nvCxnSpPr>
        <p:spPr>
          <a:xfrm>
            <a:off x="5003280" y="1413000"/>
            <a:ext cx="2233080" cy="258336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Инструмент «Градиентная заливка» (цвет по вкусу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84360" y="1519200"/>
            <a:ext cx="7213320" cy="5338800"/>
          </a:xfrm>
          <a:prstGeom prst="rect">
            <a:avLst/>
          </a:prstGeom>
          <a:ln w="0">
            <a:noFill/>
          </a:ln>
        </p:spPr>
      </p:pic>
      <p:cxnSp>
        <p:nvCxnSpPr>
          <p:cNvPr id="363" name="Прямая со стрелкой 3"/>
          <p:cNvCxnSpPr/>
          <p:nvPr/>
        </p:nvCxnSpPr>
        <p:spPr>
          <a:xfrm flipH="1">
            <a:off x="1331640" y="765000"/>
            <a:ext cx="3169440" cy="259344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Выделение – Граница (создаем рамку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4321080" cy="53769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3"/>
          <p:cNvSpPr/>
          <p:nvPr/>
        </p:nvSpPr>
        <p:spPr>
          <a:xfrm>
            <a:off x="1835280" y="1557360"/>
            <a:ext cx="936360" cy="358920"/>
          </a:xfrm>
          <a:prstGeom prst="rect">
            <a:avLst/>
          </a:prstGeom>
          <a:noFill/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Прямоугольник 4"/>
          <p:cNvSpPr/>
          <p:nvPr/>
        </p:nvSpPr>
        <p:spPr>
          <a:xfrm>
            <a:off x="1835280" y="4797360"/>
            <a:ext cx="2305080" cy="287280"/>
          </a:xfrm>
          <a:prstGeom prst="rect">
            <a:avLst/>
          </a:prstGeom>
          <a:noFill/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209080" cy="6567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Заливаем границу контрастным  цветом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755640" y="2251080"/>
            <a:ext cx="8048520" cy="2833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оздать копию слоя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651640" y="0"/>
            <a:ext cx="3155760" cy="64929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3"/>
          <p:cNvSpPr/>
          <p:nvPr/>
        </p:nvSpPr>
        <p:spPr>
          <a:xfrm>
            <a:off x="7020000" y="5950080"/>
            <a:ext cx="647640" cy="542880"/>
          </a:xfrm>
          <a:prstGeom prst="rect">
            <a:avLst/>
          </a:prstGeom>
          <a:noFill/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79" name="Прямая со стрелкой 5"/>
          <p:cNvCxnSpPr/>
          <p:nvPr/>
        </p:nvCxnSpPr>
        <p:spPr>
          <a:xfrm>
            <a:off x="3132000" y="980640"/>
            <a:ext cx="3888720" cy="475236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Инструмент «Текст» (видимость слоя «копия фон» отключить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8999640" cy="4608360"/>
          </a:xfrm>
          <a:prstGeom prst="rect">
            <a:avLst/>
          </a:prstGeom>
          <a:ln w="0">
            <a:noFill/>
          </a:ln>
        </p:spPr>
      </p:pic>
      <p:cxnSp>
        <p:nvCxnSpPr>
          <p:cNvPr id="383" name="Прямая со стрелкой 3"/>
          <p:cNvCxnSpPr/>
          <p:nvPr/>
        </p:nvCxnSpPr>
        <p:spPr>
          <a:xfrm flipH="1">
            <a:off x="1402560" y="620280"/>
            <a:ext cx="2809080" cy="208836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8:09:55Z</dcterms:created>
  <dc:creator>Надежда Евгеньевна</dc:creator>
  <dc:description/>
  <dc:language>en-US</dc:language>
  <cp:lastModifiedBy>USER</cp:lastModifiedBy>
  <dcterms:modified xsi:type="dcterms:W3CDTF">2012-11-27T07:04:10Z</dcterms:modified>
  <cp:revision>10</cp:revision>
  <dc:subject/>
  <dc:title>Создание баннера</dc:title>
</cp:coreProperties>
</file>