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2.png" ContentType="image/png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CHIMES.WAV" ContentType="audio/x-wav"/>
  <Override PartName="/ppt/media/image6.gif" ContentType="image/gif"/>
  <Override PartName="/ppt/media/image17.wmf" ContentType="image/x-wmf"/>
  <Override PartName="/ppt/media/image5.gif" ContentType="image/gif"/>
  <Override PartName="/ppt/media/image8.png" ContentType="image/png"/>
  <Override PartName="/ppt/media/image25.wmf" ContentType="image/x-wmf"/>
  <Override PartName="/ppt/media/image23.gif" ContentType="image/gif"/>
  <Override PartName="/ppt/media/image14.wmf" ContentType="image/x-wmf"/>
  <Override PartName="/ppt/media/image1.gif" ContentType="image/gif"/>
  <Override PartName="/ppt/media/image22.png" ContentType="image/png"/>
  <Override PartName="/ppt/media/image21.jpeg" ContentType="image/jpeg"/>
  <Override PartName="/ppt/media/image4.gif" ContentType="image/gif"/>
  <Override PartName="/ppt/media/image15.wmf" ContentType="image/x-wmf"/>
  <Override PartName="/ppt/media/image20.jpeg" ContentType="image/jpeg"/>
  <Override PartName="/ppt/media/image18.png" ContentType="image/png"/>
  <Override PartName="/ppt/media/image19.gif" ContentType="image/gif"/>
  <Override PartName="/ppt/media/image24.png" ContentType="image/png"/>
  <Override PartName="/ppt/media/image16.gif" ContentType="image/gi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1668-C160-483B-912A-673108521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1481-2552-4937-A207-BAAE039D6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A010-AF97-4C44-9B0F-12AEDEEA3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553B-4EC2-4F1A-A8A2-9B7ED7F8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30FB-1C44-4BBE-A545-35B74E76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B978-EA3D-4741-A8C3-7F9F6468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E73B-12E0-4273-86F1-687D61A2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C913-74C3-4968-8B5B-D64F4E2B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D4A6-6079-4892-A6AE-4320F038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B419-7F48-4298-B17D-AA1157FF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A265-CAC1-44FD-92A2-FBF1D53B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769-F6FE-414A-BF92-5343A02A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8585-20DE-4E99-BAA1-3508BDFE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99EA-5DFD-468F-8D6C-66E69D7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286C-7BD0-4184-A01A-83A31C49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7137-EBD5-4276-83F2-C999232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CB16-39B0-4A42-A531-9393732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5899-6909-4225-B139-488E24DA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2C08-F613-4CAD-8DED-CD2FDAF5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8441-0138-471A-B713-8001E600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4417-3ADD-4141-AB28-7286D774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6991-8366-498E-8B47-5773B6C9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451C-D454-4A23-89FD-3DF8BA7D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EB17-D7EF-4756-96A2-779432F2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EA55-51D2-420E-BE39-6FF01F5F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82CC-2636-42D0-9C66-2872F374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6132-6105-47A5-B177-EBE8F79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9E67-D922-4E94-8B6F-B0933A18BA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937A-0941-4307-9E35-7F903113D7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7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wmf"/><Relationship Id="rId3" Type="http://schemas.openxmlformats.org/officeDocument/2006/relationships/image" Target="../media/image1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gif"/><Relationship Id="rId3" Type="http://schemas.openxmlformats.org/officeDocument/2006/relationships/slide" Target="slide4.xml"/><Relationship Id="rId4" Type="http://schemas.openxmlformats.org/officeDocument/2006/relationships/image" Target="../media/image10.wmf"/><Relationship Id="rId5" Type="http://schemas.openxmlformats.org/officeDocument/2006/relationships/slide" Target="slide6.xml"/><Relationship Id="rId6" Type="http://schemas.openxmlformats.org/officeDocument/2006/relationships/image" Target="../media/image11.png"/><Relationship Id="rId7" Type="http://schemas.openxmlformats.org/officeDocument/2006/relationships/slide" Target="slide16.xml"/><Relationship Id="rId8" Type="http://schemas.openxmlformats.org/officeDocument/2006/relationships/image" Target="../media/image12.gif"/><Relationship Id="rId9" Type="http://schemas.openxmlformats.org/officeDocument/2006/relationships/slide" Target="slide7.xm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336978"/>
          <p:cNvPicPr/>
          <p:nvPr/>
        </p:nvPicPr>
        <p:blipFill>
          <a:blip r:embed="rId1"/>
          <a:stretch/>
        </p:blipFill>
        <p:spPr>
          <a:xfrm>
            <a:off x="7380360" y="26028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15" name="Пора золотая.mp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395280" y="2148840"/>
            <a:ext cx="856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Колокольчик  наш  звени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И урок  начать  велит.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лышишь  звонкий голосок -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Нам пора  начать  урок.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95640" y="456840"/>
            <a:ext cx="4752720" cy="811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Запомни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561440" cy="389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     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о второму же спряжению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 Отнесем мы, без сомненья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Все глаголы, что на –ить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  Исключая брить, стелить.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И еще: смотреть, обидеть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Слышать, видеть, ненавидеть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 Гнать, держать, дышать, вертеть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И зависеть, и терпеть.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Вы запомните, друзья: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Их на –е-  спрягать нельзя.</a:t>
            </a:r>
            <a:br>
              <a:rPr sz="2800"/>
            </a:b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 flipH="1">
            <a:off x="3494880" y="1072800"/>
            <a:ext cx="302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тить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жина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я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ови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грать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ши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ы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и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AutoShape 12">
            <a:hlinkClick r:id="" action="ppaction://hlinkshowjump?jump=nextslide"/>
          </p:cNvPr>
          <p:cNvSpPr/>
          <p:nvPr/>
        </p:nvSpPr>
        <p:spPr>
          <a:xfrm>
            <a:off x="8028000" y="5805360"/>
            <a:ext cx="865080" cy="476280"/>
          </a:xfrm>
          <a:custGeom>
            <a:avLst/>
            <a:gdLst>
              <a:gd name="textAreaLeft" fmla="*/ 30600 w 865080"/>
              <a:gd name="textAreaRight" fmla="*/ 834480 w 86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219" h="21600">
                <a:moveTo>
                  <a:pt x="0" y="0"/>
                </a:moveTo>
                <a:lnTo>
                  <a:pt x="39219" y="0"/>
                </a:lnTo>
                <a:lnTo>
                  <a:pt x="39219" y="21600"/>
                </a:lnTo>
                <a:lnTo>
                  <a:pt x="0" y="21600"/>
                </a:lnTo>
                <a:close/>
              </a:path>
              <a:path fill="lightenLess" w="39219" h="21600">
                <a:moveTo>
                  <a:pt x="0" y="0"/>
                </a:moveTo>
                <a:lnTo>
                  <a:pt x="39219" y="0"/>
                </a:lnTo>
                <a:lnTo>
                  <a:pt x="37819" y="1400"/>
                </a:lnTo>
                <a:lnTo>
                  <a:pt x="1400" y="1400"/>
                </a:lnTo>
                <a:close/>
              </a:path>
              <a:path fill="darken" w="39219" h="21600">
                <a:moveTo>
                  <a:pt x="39219" y="0"/>
                </a:moveTo>
                <a:lnTo>
                  <a:pt x="39219" y="21600"/>
                </a:lnTo>
                <a:lnTo>
                  <a:pt x="37819" y="20200"/>
                </a:lnTo>
                <a:lnTo>
                  <a:pt x="37819" y="1400"/>
                </a:lnTo>
                <a:close/>
              </a:path>
              <a:path fill="darkenLess" w="39219" h="21600">
                <a:moveTo>
                  <a:pt x="39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19" y="20200"/>
                </a:lnTo>
                <a:close/>
              </a:path>
              <a:path fill="lighten" w="39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19" h="21600">
                <a:moveTo>
                  <a:pt x="12603" y="10800"/>
                </a:moveTo>
                <a:lnTo>
                  <a:pt x="26616" y="3794"/>
                </a:lnTo>
                <a:lnTo>
                  <a:pt x="26616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ba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9"/>
          <p:cNvSpPr/>
          <p:nvPr/>
        </p:nvSpPr>
        <p:spPr>
          <a:xfrm>
            <a:off x="5076720" y="1916280"/>
            <a:ext cx="243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Rectangle 40"/>
          <p:cNvSpPr/>
          <p:nvPr/>
        </p:nvSpPr>
        <p:spPr>
          <a:xfrm>
            <a:off x="2124000" y="270828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Сегодня с рассвет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Бесну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ся море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Вороч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 камни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Встаёт на дыбы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пен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ся волны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В широком просторе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С разбега дробясь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О гранитные лбы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Как будто бы выз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Природою брошен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листья шурша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На крутом берег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4859280" y="2708280"/>
            <a:ext cx="33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ветер мохнатое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Небо ерош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гнёт кипарис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На бульваре в дуг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Крикливые чайк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Пугливо притихли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Баркасы укрылись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За каменный мол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По улицам город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Нос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ся вихри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тополь стои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Весь до веточки гол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" name="Picture 44" descr="J0076143"/>
          <p:cNvPicPr/>
          <p:nvPr/>
        </p:nvPicPr>
        <p:blipFill>
          <a:blip r:embed="rId1"/>
          <a:stretch/>
        </p:blipFill>
        <p:spPr>
          <a:xfrm>
            <a:off x="7956720" y="5202360"/>
            <a:ext cx="1042920" cy="985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6" descr="J0079190"/>
          <p:cNvPicPr/>
          <p:nvPr/>
        </p:nvPicPr>
        <p:blipFill>
          <a:blip r:embed="rId2"/>
          <a:stretch/>
        </p:blipFill>
        <p:spPr>
          <a:xfrm flipH="1">
            <a:off x="0" y="1916280"/>
            <a:ext cx="2316240" cy="4581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99"/>
              </a:solidFill>
              <a:latin typeface="Monotype Corsi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6920" y="2492280"/>
            <a:ext cx="1081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Шт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2340000" y="1844640"/>
            <a:ext cx="5400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Вставь пропущенные буквы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7" name="WordArt 55" descr=""/>
          <p:cNvPicPr/>
          <p:nvPr/>
        </p:nvPicPr>
        <p:blipFill>
          <a:blip r:embed="rId3"/>
          <a:stretch/>
        </p:blipFill>
        <p:spPr>
          <a:xfrm>
            <a:off x="963720" y="596880"/>
            <a:ext cx="721656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635280" y="403920"/>
            <a:ext cx="208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DotumChe"/>
              </a:rPr>
              <a:t>Шторм</a:t>
            </a:r>
            <a:r>
              <a:rPr b="1" lang="ru-RU" sz="2400" spc="-1" strike="noStrike">
                <a:solidFill>
                  <a:srgbClr val="000000"/>
                </a:solidFill>
                <a:latin typeface="DotumChe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076720" y="1916280"/>
            <a:ext cx="243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979640" y="907920"/>
            <a:ext cx="583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егодня с рассвет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Бесну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ет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я море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Вороча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ет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 камни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Встаёт на дыбы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пен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ят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я волны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В широком просторе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 разбега дробясь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О гранитные лбы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Как будто бы вызов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Природою брошен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листья шурша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На крутом берегу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292720" y="907920"/>
            <a:ext cx="331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ветер мохнатое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Небо ерош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гнёт кипарис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На бульваре в дугу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Крикливые чайки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Пугливо притихли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Баркасы укрылись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За каменный мол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По улицам город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Нос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ят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я вихри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тополь стои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Весь до веточки гол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2" name="Picture 6" descr="18r2"/>
          <p:cNvPicPr/>
          <p:nvPr/>
        </p:nvPicPr>
        <p:blipFill>
          <a:blip r:embed="rId1"/>
          <a:stretch/>
        </p:blipFill>
        <p:spPr>
          <a:xfrm>
            <a:off x="3419640" y="4724280"/>
            <a:ext cx="2881080" cy="1944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8"/>
          <p:cNvSpPr/>
          <p:nvPr/>
        </p:nvSpPr>
        <p:spPr>
          <a:xfrm>
            <a:off x="3419640" y="4724280"/>
            <a:ext cx="2881080" cy="19447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«Четвёртое лишн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076143"/>
          <p:cNvPicPr/>
          <p:nvPr/>
        </p:nvPicPr>
        <p:blipFill>
          <a:blip r:embed="rId2"/>
          <a:stretch/>
        </p:blipFill>
        <p:spPr>
          <a:xfrm>
            <a:off x="7380360" y="5084640"/>
            <a:ext cx="1547640" cy="14637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179280" y="227556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Смотр..т, дыш..т, тревож..тся, та..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Ла..т, се..т, чита..т, кле..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Вид..т, пиш..т, завис..т, держ..тся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6337440" cy="102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«Четвёртое лишн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79280" y="227556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Смотр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дыш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тревож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ся, 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е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Ла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се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чита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кле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Вид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пиш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е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,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 завис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держ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ся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6"/>
          <p:cNvSpPr txBox="1"/>
          <p:nvPr/>
        </p:nvSpPr>
        <p:spPr>
          <a:xfrm>
            <a:off x="971640" y="457200"/>
            <a:ext cx="7056360" cy="88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 u="sng">
                <a:ln w="38160">
                  <a:solidFill>
                    <a:srgbClr val="fba31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Monotype Corsiva"/>
              </a:rPr>
              <a:t>Творческое задание</a:t>
            </a:r>
            <a:endParaRPr b="1" lang="en-US" sz="1800" spc="1" strike="noStrike" u="sng">
              <a:ln w="38160">
                <a:solidFill>
                  <a:srgbClr val="fba31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Monotype Corsiva"/>
              <a:ea typeface="Monotype Corsiv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68360" y="2204640"/>
            <a:ext cx="662472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Из данных глаголов выбрать: 1 вариант – глаголы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спряжения, 2 вариант – глаголы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спряжения  - и составить с ними предложения на тему «В мор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32000" y="2997000"/>
            <a:ext cx="7632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Грохотать, гнать, крутить, выть,  сверкать, ка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J0079190"/>
          <p:cNvPicPr/>
          <p:nvPr/>
        </p:nvPicPr>
        <p:blipFill>
          <a:blip r:embed="rId1"/>
          <a:stretch/>
        </p:blipFill>
        <p:spPr>
          <a:xfrm flipH="1">
            <a:off x="-181080" y="1844640"/>
            <a:ext cx="2772000" cy="458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4A73-A1A2-4B2B-952E-D65A8BD018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2852280"/>
            <a:ext cx="8351640" cy="3240360"/>
          </a:xfrm>
          <a:prstGeom prst="rect">
            <a:avLst/>
          </a:prstGeom>
          <a:solidFill>
            <a:srgbClr val="ffffbd"/>
          </a:solidFill>
          <a:ln w="7632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Тучи висят низко. Весь день идёт дождь. Свищ</a:t>
            </a:r>
            <a:r>
              <a:rPr b="0" i="1" lang="ru-RU" sz="2800" spc="-1" strike="noStrike">
                <a:solidFill>
                  <a:srgbClr val="33cc33"/>
                </a:solidFill>
                <a:latin typeface="Arial"/>
              </a:rPr>
              <a:t>ет 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 спр.)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ветер. На палубу не выход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им (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 спр.)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, целый день сидим в каюте, скуча</a:t>
            </a:r>
            <a:r>
              <a:rPr b="0" i="1" lang="ru-RU" sz="2800" spc="-1" strike="noStrike">
                <a:solidFill>
                  <a:srgbClr val="33cc33"/>
                </a:solidFill>
                <a:latin typeface="Arial"/>
              </a:rPr>
              <a:t>ем 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 спр.)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Меркн</a:t>
            </a:r>
            <a:r>
              <a:rPr b="0" i="1" lang="ru-RU" sz="2800" spc="-1" strike="noStrike">
                <a:solidFill>
                  <a:srgbClr val="33cc33"/>
                </a:solidFill>
                <a:latin typeface="Arial"/>
              </a:rPr>
              <a:t>ет 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 спр.)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, день, а море злей и злей бурл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Ваш Незна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Scan20001"/>
          <p:cNvPicPr/>
          <p:nvPr/>
        </p:nvPicPr>
        <p:blipFill>
          <a:blip r:embed="rId1"/>
          <a:stretch/>
        </p:blipFill>
        <p:spPr>
          <a:xfrm>
            <a:off x="7350120" y="4869000"/>
            <a:ext cx="1038240" cy="115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fish17"/>
          <p:cNvPicPr/>
          <p:nvPr/>
        </p:nvPicPr>
        <p:blipFill>
          <a:blip r:embed="rId2"/>
          <a:stretch/>
        </p:blipFill>
        <p:spPr>
          <a:xfrm flipH="1">
            <a:off x="5148360" y="476280"/>
            <a:ext cx="37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hel35"/>
          <p:cNvPicPr/>
          <p:nvPr/>
        </p:nvPicPr>
        <p:blipFill>
          <a:blip r:embed="rId3"/>
          <a:stretch/>
        </p:blipFill>
        <p:spPr>
          <a:xfrm>
            <a:off x="179280" y="404640"/>
            <a:ext cx="1692360" cy="22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J0336978"/>
          <p:cNvPicPr/>
          <p:nvPr/>
        </p:nvPicPr>
        <p:blipFill>
          <a:blip r:embed="rId1"/>
          <a:stretch/>
        </p:blipFill>
        <p:spPr>
          <a:xfrm>
            <a:off x="7164360" y="7776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042920" y="83664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звенел звонок,       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кончился урок!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0" name="Picture 6" descr="J0232452"/>
          <p:cNvPicPr/>
          <p:nvPr/>
        </p:nvPicPr>
        <p:blipFill>
          <a:blip r:embed="rId2"/>
          <a:stretch/>
        </p:blipFill>
        <p:spPr>
          <a:xfrm>
            <a:off x="324000" y="2997360"/>
            <a:ext cx="1554120" cy="3573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J0079114"/>
          <p:cNvPicPr/>
          <p:nvPr/>
        </p:nvPicPr>
        <p:blipFill>
          <a:blip r:embed="rId3"/>
          <a:stretch/>
        </p:blipFill>
        <p:spPr>
          <a:xfrm flipH="1">
            <a:off x="7019640" y="2205000"/>
            <a:ext cx="1927080" cy="436572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4"/>
          <p:cNvGrpSpPr/>
          <p:nvPr/>
        </p:nvGrpSpPr>
        <p:grpSpPr>
          <a:xfrm>
            <a:off x="2352960" y="2720880"/>
            <a:ext cx="4499640" cy="1749960"/>
            <a:chOff x="2352960" y="2720880"/>
            <a:chExt cx="4499640" cy="1749960"/>
          </a:xfrm>
        </p:grpSpPr>
        <p:sp>
          <p:nvSpPr>
            <p:cNvPr id="203" name="AutoShape 15"/>
            <p:cNvSpPr/>
            <p:nvPr/>
          </p:nvSpPr>
          <p:spPr>
            <a:xfrm rot="555000">
              <a:off x="2412000" y="3054960"/>
              <a:ext cx="4248360" cy="1081080"/>
            </a:xfrm>
            <a:prstGeom prst="wedgeEllipseCallout">
              <a:avLst>
                <a:gd name="adj1" fmla="val -65805"/>
                <a:gd name="adj2" fmla="val 6042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!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Text Box 16"/>
            <p:cNvSpPr/>
            <p:nvPr/>
          </p:nvSpPr>
          <p:spPr>
            <a:xfrm rot="555000">
              <a:off x="2790000" y="3295800"/>
              <a:ext cx="4032360" cy="703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До свидания!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1913040" y="2387520"/>
            <a:ext cx="5422320" cy="2143440"/>
            <a:chOff x="1913040" y="2387520"/>
            <a:chExt cx="5422320" cy="2143440"/>
          </a:xfrm>
        </p:grpSpPr>
        <p:sp>
          <p:nvSpPr>
            <p:cNvPr id="206" name="AutoShape 12"/>
            <p:cNvSpPr/>
            <p:nvPr/>
          </p:nvSpPr>
          <p:spPr>
            <a:xfrm rot="21270000">
              <a:off x="1979640" y="2637000"/>
              <a:ext cx="5289120" cy="1644120"/>
            </a:xfrm>
            <a:prstGeom prst="wedgeEllipseCallout">
              <a:avLst>
                <a:gd name="adj1" fmla="val 59180"/>
                <a:gd name="adj2" fmla="val -1910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 rot="21270000">
              <a:off x="2718000" y="2716560"/>
              <a:ext cx="4348440" cy="1312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До следующего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путешествия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E6B7-5428-4A95-9172-437C1919DE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2852640"/>
            <a:ext cx="8351640" cy="3456000"/>
          </a:xfrm>
          <a:prstGeom prst="rect">
            <a:avLst/>
          </a:prstGeom>
          <a:solidFill>
            <a:srgbClr val="ffffbd"/>
          </a:solidFill>
          <a:ln w="7632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Тучи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вис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ят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низко. Весь день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ид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ёт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дождь.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Свищ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(и,е)т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ветер. На палубу не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выход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(и,е)м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, целый день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сид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им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в каюте,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скуча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(и,е)м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Меркн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(и,е)т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день, а море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бурл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ит</a:t>
            </a:r>
            <a:r>
              <a:rPr b="0" i="1" lang="ru-RU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всё злей и злей.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Ваш Незна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Scan20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941720"/>
            <a:ext cx="103824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tel01"/>
          <p:cNvPicPr/>
          <p:nvPr/>
        </p:nvPicPr>
        <p:blipFill>
          <a:blip r:embed="rId3"/>
          <a:stretch/>
        </p:blipFill>
        <p:spPr>
          <a:xfrm>
            <a:off x="1476360" y="620640"/>
            <a:ext cx="1854360" cy="1155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ish17"/>
          <p:cNvPicPr/>
          <p:nvPr/>
        </p:nvPicPr>
        <p:blipFill>
          <a:blip r:embed="rId4"/>
          <a:stretch/>
        </p:blipFill>
        <p:spPr>
          <a:xfrm flipH="1">
            <a:off x="5148360" y="476280"/>
            <a:ext cx="37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chel5"/>
          <p:cNvPicPr/>
          <p:nvPr/>
        </p:nvPicPr>
        <p:blipFill>
          <a:blip r:embed="rId5"/>
          <a:stretch/>
        </p:blipFill>
        <p:spPr>
          <a:xfrm>
            <a:off x="179280" y="333360"/>
            <a:ext cx="1800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993300"/>
                </a:solidFill>
                <a:latin typeface="Arial"/>
              </a:rPr>
              <a:t>Спряжение глагол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132"/>
          <p:cNvPicPr/>
          <p:nvPr/>
        </p:nvPicPr>
        <p:blipFill>
          <a:blip r:embed="rId1"/>
          <a:stretch/>
        </p:blipFill>
        <p:spPr>
          <a:xfrm>
            <a:off x="3564000" y="4484520"/>
            <a:ext cx="2448000" cy="204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3548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050560" y="1699920"/>
            <a:ext cx="53355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пряжение глаголов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7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3716280"/>
            <a:ext cx="2232000" cy="220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J00789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1280" y="860400"/>
            <a:ext cx="2376360" cy="2281320"/>
          </a:xfrm>
          <a:prstGeom prst="rect">
            <a:avLst/>
          </a:prstGeom>
          <a:ln w="0">
            <a:noFill/>
          </a:ln>
        </p:spPr>
      </p:pic>
      <p:pic>
        <p:nvPicPr>
          <p:cNvPr id="130" name="WordArt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5360" y="3206880"/>
            <a:ext cx="3183120" cy="80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J012667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940360" y="987480"/>
            <a:ext cx="2592360" cy="2225520"/>
          </a:xfrm>
          <a:prstGeom prst="rect">
            <a:avLst/>
          </a:prstGeom>
          <a:ln w="0">
            <a:noFill/>
          </a:ln>
        </p:spPr>
      </p:pic>
      <p:pic>
        <p:nvPicPr>
          <p:cNvPr id="132" name="WordArt 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13320" y="3340080"/>
            <a:ext cx="3505320" cy="7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439520" y="26517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5" name="Picture 6" descr="J03432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00720" y="4508640"/>
            <a:ext cx="2700360" cy="22240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7"/>
          <p:cNvSpPr/>
          <p:nvPr/>
        </p:nvSpPr>
        <p:spPr>
          <a:xfrm>
            <a:off x="5292720" y="6093000"/>
            <a:ext cx="865080" cy="475920"/>
          </a:xfrm>
          <a:custGeom>
            <a:avLst/>
            <a:gdLst>
              <a:gd name="textAreaLeft" fmla="*/ 30600 w 865080"/>
              <a:gd name="textAreaRight" fmla="*/ 834480 w 86508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9249" h="21600">
                <a:moveTo>
                  <a:pt x="0" y="0"/>
                </a:moveTo>
                <a:lnTo>
                  <a:pt x="39249" y="0"/>
                </a:lnTo>
                <a:lnTo>
                  <a:pt x="39249" y="21600"/>
                </a:lnTo>
                <a:lnTo>
                  <a:pt x="0" y="21600"/>
                </a:lnTo>
                <a:close/>
              </a:path>
              <a:path fill="lightenLess" w="39249" h="21600">
                <a:moveTo>
                  <a:pt x="0" y="0"/>
                </a:moveTo>
                <a:lnTo>
                  <a:pt x="39249" y="0"/>
                </a:lnTo>
                <a:lnTo>
                  <a:pt x="37849" y="1400"/>
                </a:lnTo>
                <a:lnTo>
                  <a:pt x="1400" y="1400"/>
                </a:lnTo>
                <a:close/>
              </a:path>
              <a:path fill="darken" w="39249" h="21600">
                <a:moveTo>
                  <a:pt x="39249" y="0"/>
                </a:moveTo>
                <a:lnTo>
                  <a:pt x="39249" y="21600"/>
                </a:lnTo>
                <a:lnTo>
                  <a:pt x="37849" y="20200"/>
                </a:lnTo>
                <a:lnTo>
                  <a:pt x="37849" y="1400"/>
                </a:lnTo>
                <a:close/>
              </a:path>
              <a:path fill="darkenLess" w="39249" h="21600">
                <a:moveTo>
                  <a:pt x="39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49" y="20200"/>
                </a:lnTo>
                <a:close/>
              </a:path>
              <a:path fill="lighten" w="39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49" h="21600">
                <a:moveTo>
                  <a:pt x="12618" y="10800"/>
                </a:moveTo>
                <a:lnTo>
                  <a:pt x="26631" y="3794"/>
                </a:lnTo>
                <a:lnTo>
                  <a:pt x="26631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ba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981000"/>
          <a:ext cx="8229600" cy="3527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5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ю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шь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м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ют</a:t>
                      </a: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ёшь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ёт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ём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ёте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т</a:t>
                      </a: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шь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м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е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т</a:t>
                      </a: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шь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м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е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ят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6697800" cy="35478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 flipH="1" rot="125400">
            <a:off x="468360" y="3429000"/>
            <a:ext cx="7777080" cy="2160720"/>
          </a:xfrm>
          <a:prstGeom prst="wedgeEllipseCallout">
            <a:avLst>
              <a:gd name="adj1" fmla="val 44171"/>
              <a:gd name="adj2" fmla="val -943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0" name="Picture 4" descr="J0079114"/>
          <p:cNvPicPr/>
          <p:nvPr/>
        </p:nvPicPr>
        <p:blipFill>
          <a:blip r:embed="rId2"/>
          <a:stretch/>
        </p:blipFill>
        <p:spPr>
          <a:xfrm>
            <a:off x="0" y="1628640"/>
            <a:ext cx="2089080" cy="496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hel35"/>
          <p:cNvPicPr/>
          <p:nvPr/>
        </p:nvPicPr>
        <p:blipFill>
          <a:blip r:embed="rId3"/>
          <a:stretch/>
        </p:blipFill>
        <p:spPr>
          <a:xfrm>
            <a:off x="7451640" y="4653000"/>
            <a:ext cx="1692360" cy="2205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2627280" y="981000"/>
            <a:ext cx="561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611280" y="3860640"/>
            <a:ext cx="82296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3059280" y="1125360"/>
            <a:ext cx="5041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1835280" y="3716280"/>
            <a:ext cx="55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ряжения имеют окончания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(-ю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ешь (-ёшь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ет (-ёт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ем (-ё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ете (-ёте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т (-ют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2556000" y="981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2770200" y="90792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ёт,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ут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1спряжение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28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76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6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6842160" cy="35481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/>
          <p:cNvSpPr/>
          <p:nvPr/>
        </p:nvSpPr>
        <p:spPr>
          <a:xfrm flipH="1" rot="125400">
            <a:off x="587520" y="3066840"/>
            <a:ext cx="7777080" cy="2303280"/>
          </a:xfrm>
          <a:prstGeom prst="wedgeEllipseCallout">
            <a:avLst>
              <a:gd name="adj1" fmla="val 45152"/>
              <a:gd name="adj2" fmla="val -9776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" name="Picture 4" descr="J0079114"/>
          <p:cNvPicPr/>
          <p:nvPr/>
        </p:nvPicPr>
        <p:blipFill>
          <a:blip r:embed="rId2"/>
          <a:stretch/>
        </p:blipFill>
        <p:spPr>
          <a:xfrm>
            <a:off x="250920" y="1052640"/>
            <a:ext cx="2089080" cy="496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hel35"/>
          <p:cNvPicPr/>
          <p:nvPr/>
        </p:nvPicPr>
        <p:blipFill>
          <a:blip r:embed="rId3"/>
          <a:stretch/>
        </p:blipFill>
        <p:spPr>
          <a:xfrm>
            <a:off x="7451640" y="4653000"/>
            <a:ext cx="1692360" cy="2205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692360" y="3645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яжения имеют окончания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ю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иш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ат (-ят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484360" y="112536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484360" y="692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ле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я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пряжение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9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339640" y="2421000"/>
            <a:ext cx="6202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спряжение                        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спр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ишем –                        Черти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рисуем –                        чини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олем –                          мани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ляшем –                       просим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J0079190"/>
          <p:cNvPicPr/>
          <p:nvPr/>
        </p:nvPicPr>
        <p:blipFill>
          <a:blip r:embed="rId1"/>
          <a:stretch/>
        </p:blipFill>
        <p:spPr>
          <a:xfrm flipH="1">
            <a:off x="0" y="1916280"/>
            <a:ext cx="2316240" cy="4581360"/>
          </a:xfrm>
          <a:prstGeom prst="rect">
            <a:avLst/>
          </a:prstGeom>
          <a:ln w="0">
            <a:noFill/>
          </a:ln>
        </p:spPr>
      </p:pic>
      <p:pic>
        <p:nvPicPr>
          <p:cNvPr id="157" name="WordArt 5" descr=""/>
          <p:cNvPicPr/>
          <p:nvPr/>
        </p:nvPicPr>
        <p:blipFill>
          <a:blip r:embed="rId2"/>
          <a:stretch/>
        </p:blipFill>
        <p:spPr>
          <a:xfrm>
            <a:off x="963720" y="237960"/>
            <a:ext cx="6924600" cy="136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J0076143"/>
          <p:cNvPicPr/>
          <p:nvPr/>
        </p:nvPicPr>
        <p:blipFill>
          <a:blip r:embed="rId3"/>
          <a:stretch/>
        </p:blipFill>
        <p:spPr>
          <a:xfrm>
            <a:off x="7308720" y="5157720"/>
            <a:ext cx="1548000" cy="14637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403280" y="501336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340000" y="1844640"/>
            <a:ext cx="6624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Monotype Corsiva"/>
              </a:rPr>
              <a:t>Напиши неопределённую форму данных глаголов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133720"/>
            <a:ext cx="8280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пряжение                        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I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ишем –  писать            Чертим – черт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рисуем – рисовать        чиним – чин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колем – колоть               маним – ман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ляшем – плясать          просим - прос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403280" y="5661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1042920" y="457200"/>
            <a:ext cx="7129440" cy="95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uFillTx/>
                <a:latin typeface="Monotype Corsiva"/>
              </a:rPr>
              <a:t>Проверь себя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uFillTx/>
              <a:latin typeface="Monotype Corsiva"/>
              <a:ea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5:06:36Z</dcterms:created>
  <dc:creator>203</dc:creator>
  <dc:description/>
  <dc:language>en-US</dc:language>
  <cp:lastModifiedBy>Надежда</cp:lastModifiedBy>
  <dcterms:modified xsi:type="dcterms:W3CDTF">2012-11-27T16:21:08Z</dcterms:modified>
  <cp:revision>11</cp:revision>
  <dc:subject/>
  <dc:title>Слайд 1</dc:title>
</cp:coreProperties>
</file>