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jpeg" ContentType="image/jpeg"/>
  <Override PartName="/ppt/media/image1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0.wmf" ContentType="image/x-wmf"/>
  <Override PartName="/ppt/media/image11.wmf" ContentType="image/x-wmf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8.jpeg" ContentType="image/jpeg"/>
  <Override PartName="/ppt/media/image19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2E9-D7AF-4CA6-BEA2-A08E8179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8D9-6FD8-4891-948C-3B8B7E91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1DA-C174-43BD-A30B-62AB774E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EB9-950E-486D-BA15-E51FD023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AECF-4F6D-4E5C-955B-82E44D3D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1FA5-FE22-45A9-842A-DB960355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5852-6468-4A96-8875-1FA4934B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A634-2E37-48F7-BD21-7A785258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8900-D132-4405-8D61-594435F6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8504-1B21-4455-987B-229E08F0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3CB-8BA9-4639-8E7D-421012D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331-D481-4CA8-942D-D51174F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82EC-554C-4197-877F-B67E567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91EE-35E0-43D8-B433-7C45C88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4F83-ACB2-4D8F-87C0-C596E65B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4E07-2D47-47B8-B9F7-556D71F2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808E-ADBA-479D-A12B-2A0D97A6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379D-A77B-4033-BBCD-1530E22A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2DFD-6A55-4AC7-B4DF-0ACDF2A7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FE31-BB15-4A7E-B933-E30F6D03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7578-D826-4EEE-98FF-02EC1802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AAD8-6D49-4395-9B28-192502C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AD2-F870-4C47-AC64-C0BFA92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7769-CA4A-4C78-A1B8-686628DD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2EBA-17FF-43DA-9147-32A6CE8C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F638-DFF2-40FF-AADF-6C0960CA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66FF-4272-42A2-B764-A8B2C08B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C61F-9CA1-45F1-80DF-E5E0A668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AE82-2E6B-482A-AEE2-83116F0C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3AF5-684F-4443-AAB9-F9E94B2D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71748-9C8B-4404-8D25-F4F35854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43B4-D688-4E45-B9F1-CC85CE3C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ACE5-9F37-4FFC-A65E-E5E70CA0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C6C-A1E0-4ACC-BF94-8D62139A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D86C7-F989-4B76-BA4D-C44DFC3E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D911D-8340-49B3-A4F6-3FBFBBB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7571-8CD1-4439-A327-A84B20E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8FD1-54E5-426B-A6E4-03456BE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8072-E072-482C-9DFD-3040842A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623D-5E01-417B-A050-426ADBBC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33DAE-2736-4BB8-8645-C330619B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A23A6-9B9F-40FE-9C09-B58A5081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69C9E-D421-4B7F-A5F4-BBE4BB52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27AE-F990-425A-B723-C1E4B091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67C-B63F-4A23-B28F-9346DC57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1E1D1-0FC9-405D-AAD4-C6236C77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541A-1047-4DA7-A7BF-D8DA2848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7CD6E-5606-4988-A8BC-0A7A1F7A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166F6-C854-4195-AB5A-013F7D48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7B2C2-7B57-42CE-910E-EE9A8518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3770-6B11-4DBD-8D9C-420FE6F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A08BF-8C2D-4DA9-A3B6-0D2D5EAB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E4348-111D-45B3-A40C-6B976A4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52F3B-DB8C-43C3-96A8-3745B755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E1AE3-E52A-4148-B986-6A8518C5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BA3-BD20-42BA-B967-24A4A1C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AE68D-13D3-4CBE-B875-391CA085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C06FD-A13E-47BF-A37B-3E196ADD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3C3EC-FB4E-4D90-968E-6F978F1E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2BDD-C20F-4B23-BAF0-83BF0B52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209B8-D6EB-4606-AB80-0182E2C1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F0ABE-499C-4D58-8819-B459A72C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BB21F-7E69-41C7-A064-476544B9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852F8-0A51-4F34-95FB-AB42734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6C669-4ED0-4C57-B08B-5157A69D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8398A-695C-4BA3-9634-A140B1F3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FFE-C81B-4C3B-B80B-7ECA7230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006E-CF8A-4643-81D8-B07D9259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64C6E-5519-4DE3-95FB-464B797F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594F-8CBF-44CC-8473-B8D044D5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B7D-64B1-43DD-8B80-34851498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495-81E6-4A4E-AE37-A45D093C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C1C1-6B2D-4855-873E-03B85073C4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5969-7243-46E3-869B-618489CBC0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5F75-EE7C-4FE4-BB37-9C0AB0266E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50EF-B02C-436A-93F3-02E460BDAD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FD95-A7D9-4112-90F6-B7D2E11E276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1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3CA7-BFDD-4F05-B510-474A8E7D70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5"/>
          <p:cNvSpPr txBox="1"/>
          <p:nvPr/>
        </p:nvSpPr>
        <p:spPr>
          <a:xfrm>
            <a:off x="682560" y="836640"/>
            <a:ext cx="7777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ИЛИ  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60" name="Picture 8" descr="j0428113"/>
          <p:cNvPicPr/>
          <p:nvPr/>
        </p:nvPicPr>
        <p:blipFill>
          <a:blip r:embed="rId1"/>
          <a:stretch/>
        </p:blipFill>
        <p:spPr>
          <a:xfrm>
            <a:off x="539640" y="260280"/>
            <a:ext cx="1446480" cy="1562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32000" y="4581360"/>
            <a:ext cx="4032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ОУ БООШ №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.В. Сергун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ублицистически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общения – агитационно-массовая деятельность, информационные или аналитические передачи по телевидению и радио, выступления на собраниях, статьи в газе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ситуация – 1/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определенного воздействия на мысли или чувства людей, с целью заинтересовать их или в чем-либо убе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j0429809"/>
          <p:cNvPicPr/>
          <p:nvPr/>
        </p:nvPicPr>
        <p:blipFill>
          <a:blip r:embed="rId1"/>
          <a:stretch/>
        </p:blipFill>
        <p:spPr>
          <a:xfrm>
            <a:off x="7308720" y="260280"/>
            <a:ext cx="1648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митинг 2"/>
          <p:cNvPicPr/>
          <p:nvPr/>
        </p:nvPicPr>
        <p:blipFill>
          <a:blip r:embed="rId1"/>
          <a:stretch/>
        </p:blipFill>
        <p:spPr>
          <a:xfrm>
            <a:off x="324000" y="3573360"/>
            <a:ext cx="3960720" cy="29703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7" name="Picture 6" descr="митинг 5"/>
          <p:cNvPicPr/>
          <p:nvPr/>
        </p:nvPicPr>
        <p:blipFill>
          <a:blip r:embed="rId2"/>
          <a:stretch/>
        </p:blipFill>
        <p:spPr>
          <a:xfrm>
            <a:off x="250920" y="333360"/>
            <a:ext cx="3657600" cy="28209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8" name="Picture 7" descr="митинг 4"/>
          <p:cNvPicPr/>
          <p:nvPr/>
        </p:nvPicPr>
        <p:blipFill>
          <a:blip r:embed="rId3"/>
          <a:stretch/>
        </p:blipFill>
        <p:spPr>
          <a:xfrm>
            <a:off x="4572000" y="260280"/>
            <a:ext cx="4392720" cy="291780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9" name="Picture 8" descr="митинг 1"/>
          <p:cNvPicPr/>
          <p:nvPr/>
        </p:nvPicPr>
        <p:blipFill>
          <a:blip r:embed="rId4"/>
          <a:stretch/>
        </p:blipFill>
        <p:spPr>
          <a:xfrm>
            <a:off x="5364000" y="4121280"/>
            <a:ext cx="3527640" cy="26463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10" name="Picture 4" descr="митинг 3"/>
          <p:cNvPicPr/>
          <p:nvPr/>
        </p:nvPicPr>
        <p:blipFill>
          <a:blip r:embed="rId5"/>
          <a:stretch/>
        </p:blipFill>
        <p:spPr>
          <a:xfrm>
            <a:off x="2825640" y="1341360"/>
            <a:ext cx="3492720" cy="36910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публицистическ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тив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каза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нижная лексика 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зиция, сущность, явле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леченные слова с общественно-политическим значением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уманность, прогресс, народность, гласность, миролюбив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зительность и эмоциона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моционально-экспрессив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 и уст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Художественный 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художественные произведения: роман, рассказ, поэма, новелла, стихотворение, повесть, эссе, балла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функция  – эстетическ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j0428113"/>
          <p:cNvPicPr/>
          <p:nvPr/>
        </p:nvPicPr>
        <p:blipFill>
          <a:blip r:embed="rId1"/>
          <a:stretch/>
        </p:blipFill>
        <p:spPr>
          <a:xfrm>
            <a:off x="7164360" y="189000"/>
            <a:ext cx="17524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бал 1"/>
          <p:cNvPicPr/>
          <p:nvPr/>
        </p:nvPicPr>
        <p:blipFill>
          <a:blip r:embed="rId1"/>
          <a:stretch/>
        </p:blipFill>
        <p:spPr>
          <a:xfrm>
            <a:off x="2003400" y="189000"/>
            <a:ext cx="5135760" cy="3851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7" name="Picture 5" descr="бал 2"/>
          <p:cNvPicPr/>
          <p:nvPr/>
        </p:nvPicPr>
        <p:blipFill>
          <a:blip r:embed="rId2"/>
          <a:stretch/>
        </p:blipFill>
        <p:spPr>
          <a:xfrm>
            <a:off x="179280" y="2276640"/>
            <a:ext cx="2932200" cy="43495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8" name="Picture 6" descr="бал 5"/>
          <p:cNvPicPr/>
          <p:nvPr/>
        </p:nvPicPr>
        <p:blipFill>
          <a:blip r:embed="rId3"/>
          <a:stretch/>
        </p:blipFill>
        <p:spPr>
          <a:xfrm>
            <a:off x="4572000" y="3284640"/>
            <a:ext cx="4248000" cy="318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9" name="Picture 7" descr="бал 4"/>
          <p:cNvPicPr/>
          <p:nvPr/>
        </p:nvPicPr>
        <p:blipFill>
          <a:blip r:embed="rId4"/>
          <a:stretch/>
        </p:blipFill>
        <p:spPr>
          <a:xfrm>
            <a:off x="2627280" y="2565360"/>
            <a:ext cx="3097080" cy="179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художественн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нижная лексика: высокие слова, которые придают речи торжествен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моционально-экспрессивная оценка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екраснодушие, донкихотство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положитель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едантичный, манерность, личина, продажный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отрицатель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ская индивидуа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зговорный 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общение людей в быту, беседы в семье, выяснение отношений, обсуждение планов, дружеское 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при неофициальном бытовом, повседневном общении между людьми в заранее не подготовленной устной реч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j0428123"/>
          <p:cNvPicPr/>
          <p:nvPr/>
        </p:nvPicPr>
        <p:blipFill>
          <a:blip r:embed="rId1"/>
          <a:stretch/>
        </p:blipFill>
        <p:spPr>
          <a:xfrm rot="20538600">
            <a:off x="7380000" y="0"/>
            <a:ext cx="15256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разговор 1"/>
          <p:cNvPicPr/>
          <p:nvPr/>
        </p:nvPicPr>
        <p:blipFill>
          <a:blip r:embed="rId1"/>
          <a:stretch/>
        </p:blipFill>
        <p:spPr>
          <a:xfrm>
            <a:off x="250920" y="189000"/>
            <a:ext cx="3085920" cy="3535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328" name="Picture 7" descr="худ"/>
          <p:cNvPicPr/>
          <p:nvPr/>
        </p:nvPicPr>
        <p:blipFill>
          <a:blip r:embed="rId2"/>
          <a:stretch/>
        </p:blipFill>
        <p:spPr>
          <a:xfrm>
            <a:off x="3203640" y="1557360"/>
            <a:ext cx="3255840" cy="4176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29" name="Picture 5" descr="разговор 2"/>
          <p:cNvPicPr/>
          <p:nvPr/>
        </p:nvPicPr>
        <p:blipFill>
          <a:blip r:embed="rId3"/>
          <a:stretch/>
        </p:blipFill>
        <p:spPr>
          <a:xfrm>
            <a:off x="6300720" y="3213000"/>
            <a:ext cx="2625840" cy="3429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разговорн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та выражения и эмоциона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говорно-бытовые слова и форм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ратец, сестрица, вымахал, прыг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рко выражена стилистическая окраска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чурка, отличный, прекрасный, чудесный, превосходный, скверный, гадкий, наглы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иженные слова, которые находятся за пределами литературной лекси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ая форма речи – уст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j0428109"/>
          <p:cNvPicPr/>
          <p:nvPr/>
        </p:nvPicPr>
        <p:blipFill>
          <a:blip r:embed="rId1"/>
          <a:stretch/>
        </p:blipFill>
        <p:spPr>
          <a:xfrm>
            <a:off x="7451640" y="5445000"/>
            <a:ext cx="1297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49780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тил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– это выбор языковых средств, связанный с определенной сферой общественной деятельности, целью речевого общения и составом его носителей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619280" y="76500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Что такое стил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Organization Chart 5"/>
          <p:cNvGrpSpPr/>
          <p:nvPr/>
        </p:nvGrpSpPr>
        <p:grpSpPr>
          <a:xfrm>
            <a:off x="324000" y="404640"/>
            <a:ext cx="8494920" cy="5832360"/>
            <a:chOff x="324000" y="404640"/>
            <a:chExt cx="8494920" cy="5832360"/>
          </a:xfrm>
        </p:grpSpPr>
        <p:cxnSp>
          <p:nvCxnSpPr>
            <p:cNvPr id="265" name="_s1028"/>
            <p:cNvCxnSpPr>
              <a:stCxn id="266" idx="1"/>
              <a:endCxn id="267" idx="2"/>
            </p:cNvCxnSpPr>
            <p:nvPr/>
          </p:nvCxnSpPr>
          <p:spPr>
            <a:xfrm rot="10800000">
              <a:off x="2283480" y="2121480"/>
              <a:ext cx="654120" cy="377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8" name="_s1029"/>
            <p:cNvCxnSpPr>
              <a:stCxn id="269" idx="1"/>
              <a:endCxn id="267" idx="2"/>
            </p:cNvCxnSpPr>
            <p:nvPr/>
          </p:nvCxnSpPr>
          <p:spPr>
            <a:xfrm rot="10800000">
              <a:off x="2283480" y="2121480"/>
              <a:ext cx="654120" cy="2746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1030"/>
            <p:cNvCxnSpPr>
              <a:stCxn id="271" idx="1"/>
              <a:endCxn id="267" idx="2"/>
            </p:cNvCxnSpPr>
            <p:nvPr/>
          </p:nvCxnSpPr>
          <p:spPr>
            <a:xfrm rot="10800000">
              <a:off x="2283480" y="2121480"/>
              <a:ext cx="654120" cy="1715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2" name="_s1031"/>
            <p:cNvCxnSpPr>
              <a:stCxn id="273" idx="1"/>
              <a:endCxn id="267" idx="2"/>
            </p:cNvCxnSpPr>
            <p:nvPr/>
          </p:nvCxnSpPr>
          <p:spPr>
            <a:xfrm rot="10800000">
              <a:off x="2283480" y="2121480"/>
              <a:ext cx="654120" cy="687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1032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5541480" y="119880"/>
              <a:ext cx="346320" cy="2288160"/>
            </a:xfrm>
            <a:prstGeom prst="bentConnector3">
              <a:avLst>
                <a:gd name="adj1" fmla="val 499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7" name="_s1033"/>
            <p:cNvCxnSpPr>
              <a:stCxn id="267" idx="0"/>
              <a:endCxn id="276" idx="2"/>
            </p:cNvCxnSpPr>
            <p:nvPr/>
          </p:nvCxnSpPr>
          <p:spPr>
            <a:xfrm flipH="1" flipV="1" rot="5400000">
              <a:off x="3254040" y="120600"/>
              <a:ext cx="346320" cy="2287080"/>
            </a:xfrm>
            <a:prstGeom prst="bentConnector3">
              <a:avLst>
                <a:gd name="adj1" fmla="val 499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6" name="_s1034"/>
            <p:cNvSpPr/>
            <p:nvPr/>
          </p:nvSpPr>
          <p:spPr>
            <a:xfrm>
              <a:off x="2610360" y="40464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ИЛИ РЕЧ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035"/>
            <p:cNvSpPr/>
            <p:nvPr/>
          </p:nvSpPr>
          <p:spPr>
            <a:xfrm>
              <a:off x="324000" y="143496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КНИЖ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6"/>
            <p:cNvSpPr/>
            <p:nvPr/>
          </p:nvSpPr>
          <p:spPr>
            <a:xfrm>
              <a:off x="4898160" y="143496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ГОВОР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37"/>
            <p:cNvSpPr/>
            <p:nvPr/>
          </p:nvSpPr>
          <p:spPr>
            <a:xfrm>
              <a:off x="2937600" y="2465640"/>
              <a:ext cx="391572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УЧ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038"/>
            <p:cNvSpPr/>
            <p:nvPr/>
          </p:nvSpPr>
          <p:spPr>
            <a:xfrm>
              <a:off x="2937600" y="3496320"/>
              <a:ext cx="3915720" cy="68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ФИЦИАЛЬНО-ДЕЛОВ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039"/>
            <p:cNvSpPr/>
            <p:nvPr/>
          </p:nvSpPr>
          <p:spPr>
            <a:xfrm>
              <a:off x="2937600" y="4524120"/>
              <a:ext cx="3915720" cy="684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УБЛИЦИС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040"/>
            <p:cNvSpPr/>
            <p:nvPr/>
          </p:nvSpPr>
          <p:spPr>
            <a:xfrm>
              <a:off x="2937600" y="5552640"/>
              <a:ext cx="3915720" cy="68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УДОЖЕСТВЕН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22" descr="j0428125"/>
          <p:cNvPicPr/>
          <p:nvPr/>
        </p:nvPicPr>
        <p:blipFill>
          <a:blip r:embed="rId1"/>
          <a:stretch/>
        </p:blipFill>
        <p:spPr>
          <a:xfrm>
            <a:off x="539640" y="189000"/>
            <a:ext cx="13669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фициально-делово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общение граждан с учрежде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документах, отчетах, заявлениях, доверенностях, деловых письмах, приказах и зако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–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ит для передачи информации в сфере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j0428127"/>
          <p:cNvPicPr/>
          <p:nvPr/>
        </p:nvPicPr>
        <p:blipFill>
          <a:blip r:embed="rId1"/>
          <a:stretch/>
        </p:blipFill>
        <p:spPr>
          <a:xfrm>
            <a:off x="7812000" y="189000"/>
            <a:ext cx="1059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дел"/>
          <p:cNvPicPr/>
          <p:nvPr/>
        </p:nvPicPr>
        <p:blipFill>
          <a:blip r:embed="rId1"/>
          <a:stretch/>
        </p:blipFill>
        <p:spPr>
          <a:xfrm rot="20665800">
            <a:off x="3276360" y="404640"/>
            <a:ext cx="2590560" cy="259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5" name="Picture 6" descr="дел"/>
          <p:cNvPicPr/>
          <p:nvPr/>
        </p:nvPicPr>
        <p:blipFill>
          <a:blip r:embed="rId2"/>
          <a:stretch/>
        </p:blipFill>
        <p:spPr>
          <a:xfrm rot="20741400">
            <a:off x="468000" y="549000"/>
            <a:ext cx="2698560" cy="37749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86" name="Picture 7" descr="дел"/>
          <p:cNvPicPr/>
          <p:nvPr/>
        </p:nvPicPr>
        <p:blipFill>
          <a:blip r:embed="rId3"/>
          <a:stretch/>
        </p:blipFill>
        <p:spPr>
          <a:xfrm rot="20824200">
            <a:off x="395280" y="3715920"/>
            <a:ext cx="2700360" cy="27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7" name="Picture 5" descr="дел"/>
          <p:cNvPicPr/>
          <p:nvPr/>
        </p:nvPicPr>
        <p:blipFill>
          <a:blip r:embed="rId4"/>
          <a:stretch/>
        </p:blipFill>
        <p:spPr>
          <a:xfrm>
            <a:off x="6227640" y="189000"/>
            <a:ext cx="2664000" cy="266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8" name="Picture 8" descr="дел"/>
          <p:cNvPicPr/>
          <p:nvPr/>
        </p:nvPicPr>
        <p:blipFill>
          <a:blip r:embed="rId5"/>
          <a:stretch/>
        </p:blipFill>
        <p:spPr>
          <a:xfrm rot="1364400">
            <a:off x="5940000" y="2636640"/>
            <a:ext cx="2367000" cy="38052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89" name="Picture 9" descr="офис"/>
          <p:cNvPicPr/>
          <p:nvPr/>
        </p:nvPicPr>
        <p:blipFill>
          <a:blip r:embed="rId6"/>
          <a:stretch/>
        </p:blipFill>
        <p:spPr>
          <a:xfrm>
            <a:off x="3132000" y="2608200"/>
            <a:ext cx="3024360" cy="2979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официально-делов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к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эмоциональность излож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дартизированные словосочета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ова-терми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истически нейтраль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сика, отражающая официально-деловые отношения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ленум, сессия, реш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нцеляризмы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слушать доклад, зачитать решение, входящий ном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учны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научная  деятельность (написание специальных учебников, научных статей, конспектов, курсовых рабо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состоит в том, чтобы дать точное и ясное представление о научных понят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j0428105"/>
          <p:cNvPicPr/>
          <p:nvPr/>
        </p:nvPicPr>
        <p:blipFill>
          <a:blip r:embed="rId1"/>
          <a:stretch/>
        </p:blipFill>
        <p:spPr>
          <a:xfrm>
            <a:off x="7164360" y="0"/>
            <a:ext cx="17524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доклад 1"/>
          <p:cNvPicPr/>
          <p:nvPr/>
        </p:nvPicPr>
        <p:blipFill>
          <a:blip r:embed="rId1"/>
          <a:stretch/>
        </p:blipFill>
        <p:spPr>
          <a:xfrm>
            <a:off x="4932360" y="353880"/>
            <a:ext cx="3772080" cy="26910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96" name="Picture 6" descr="доклад 2"/>
          <p:cNvPicPr/>
          <p:nvPr/>
        </p:nvPicPr>
        <p:blipFill>
          <a:blip r:embed="rId2"/>
          <a:stretch/>
        </p:blipFill>
        <p:spPr>
          <a:xfrm>
            <a:off x="4859280" y="3321000"/>
            <a:ext cx="4057560" cy="30434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97" name="Picture 7" descr="доклал 5"/>
          <p:cNvPicPr/>
          <p:nvPr/>
        </p:nvPicPr>
        <p:blipFill>
          <a:blip r:embed="rId3"/>
          <a:stretch/>
        </p:blipFill>
        <p:spPr>
          <a:xfrm>
            <a:off x="250920" y="260280"/>
            <a:ext cx="4321080" cy="3240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98" name="Picture 8" descr="доклад 6"/>
          <p:cNvPicPr/>
          <p:nvPr/>
        </p:nvPicPr>
        <p:blipFill>
          <a:blip r:embed="rId4"/>
          <a:stretch/>
        </p:blipFill>
        <p:spPr>
          <a:xfrm>
            <a:off x="250920" y="3716280"/>
            <a:ext cx="4105080" cy="2952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ля научного стиля характерно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кость и логичность излож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зате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выражения эмоц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ологическая лексик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техн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центрифуг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медицин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ентг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нгвист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уффик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арте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7:56:27Z</dcterms:created>
  <dc:creator>user33</dc:creator>
  <dc:description/>
  <dc:language>en-US</dc:language>
  <cp:lastModifiedBy>учитель</cp:lastModifiedBy>
  <dcterms:modified xsi:type="dcterms:W3CDTF">2012-11-27T10:00:13Z</dcterms:modified>
  <cp:revision>46</cp:revision>
  <dc:subject/>
  <dc:title>Слайд 1</dc:title>
</cp:coreProperties>
</file>