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jpeg" ContentType="image/jpeg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11.wmf" ContentType="image/x-wmf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758-9DB5-482D-A78F-B46A2D9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CF8-C1E4-49A1-B59D-DEC6EB01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512-9BBC-4881-AEBE-DD6B2B1B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88B-38FD-4690-BC92-3690BAF7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327-C56B-42A3-89F5-DBCFDB8F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92D-FFB0-4895-A499-3951449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61FC-3ADC-44A4-B3B2-E5E46CA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D38-B75D-43D3-A05F-94732D04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E077-DA4E-4CC3-818F-51A3E60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9E05-6FB7-41B9-A315-ECE669B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E213-648F-412B-A566-0E1667A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109-AD3E-47D6-9161-6FED8AE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3D7-FE37-4E15-AA12-8FDF8E3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F78-67C5-4A2F-A848-B4EDD35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73E3-C1BE-4B72-A6C0-D946AEA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32EB-FE09-4B3B-9528-2AFB58FC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E4EE-D71D-42D2-B7AF-5491818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A256-E241-410B-BAE4-AABBEBA5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071C-9CBC-4BFD-9611-A2D59EE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392C-510E-48D1-B3B4-E29E1CCC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FAA8-3407-4D2E-B134-3EE9EC1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323F-E483-453C-B984-3B73C19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81E-257C-44F0-9275-03A5720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68BA-3B84-4736-B5C7-BF90AAF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BF23-0A80-433A-921D-F51CF02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E4DB-E78F-47AA-B066-EE567F2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D438-2F7B-4123-A020-AE12C8E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3DA7-893B-4D91-BDD1-A8798A4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3894-396E-4EF2-B0F0-4CB12958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890A-7C5C-4F39-AB0C-61F7B146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4BC4-EF11-496E-AF48-CB7FC59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C4D3-CE23-4861-8D73-32C60FA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7AA4-1CC6-4757-994B-0676073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36D-87C4-46B8-A8D6-F8BA8741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1175-F677-4997-BB54-D47C06D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939E-9540-43EE-8825-C09078E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F2DF-C985-4BF0-9B9A-5956EAE6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8ECB-6FAF-4688-875B-6F156339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D353-9CFF-40A1-8682-6EB8336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3BFA-38D1-4B8B-A123-5BD5F36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40AF-AE0A-4BA2-B0BF-CA300CF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C11D-DB66-4577-96E9-C9423FB7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BB6F-2DE2-427A-8FCD-D167361B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04F5-E483-4EF1-8E3B-B87BC1E1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D14-5399-4286-8B58-C65C47B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7DF2-2058-4ECF-B80E-79EC6C1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D069-B7DB-4A16-8830-8187C7D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38E6-4563-454D-B574-6EEAA42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592D-7733-4D9B-A806-94A20E51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66A9-8805-441D-84BF-ADF1D93C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989E-F93F-4136-9896-EB38C11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D22E-F2D7-4AD2-A277-9ED006C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688C-E923-4EBD-B269-EC478E8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2BD1-D1AE-4BC6-BC03-06FA815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A5E7-25AA-4D0F-B469-FB24F631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9B4-17E5-4944-A801-58C2F491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0C21-8C89-4750-A106-5432F2C5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4F2D-A7D2-4110-8809-690173E4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E502-D56E-43F6-A4FD-05046825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D2EB-988B-4E07-A43F-CD4D934E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CB7F-DC2E-414D-B76B-7733083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EF16-F78A-43A5-BE09-EBEF701F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68655-A0B1-4BF4-9BD9-4746019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E46F5-ACE9-468B-A779-E1F63F1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2CDA-1264-46AE-87EF-C02C508C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0F24-2CB8-4341-B7F0-086CDF1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2DC-BD8E-4AA5-BB77-B70EAF1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424AD-45DD-4C47-839D-0B29F48F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49A5D-4281-471F-818C-D54CF242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78455-343E-4FEF-917F-8C2D27EE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D92-A084-4662-9EDF-F66A2A6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0A7-C538-47AF-BD84-D1D7967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445-6E7C-4128-A694-68A175CE47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E4C-D06D-4872-926A-FB71B347C0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119-3AF2-4068-A65F-7FF9F893A2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4C9C-309B-4112-BA05-B8A8AB971E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4CC-D08E-41DC-8212-5706457E34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1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9C5-6E2B-4947-BB59-CF83D5DE26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682560" y="836640"/>
            <a:ext cx="7777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ЛИ  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0" name="Picture 8" descr="j0428113"/>
          <p:cNvPicPr/>
          <p:nvPr/>
        </p:nvPicPr>
        <p:blipFill>
          <a:blip r:embed="rId1"/>
          <a:stretch/>
        </p:blipFill>
        <p:spPr>
          <a:xfrm>
            <a:off x="539640" y="260280"/>
            <a:ext cx="1446480" cy="1562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32000" y="4581360"/>
            <a:ext cx="40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БООШ №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В. Сергун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ублицистически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щения – агитационно-массовая деятельность, информационные или аналитические передачи по телевидению и радио, выступления на собраниях, статьи в газ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пределенного воздействия на мысли или чувства людей, с целью заинтересовать их или в чем-либо убе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j0429809"/>
          <p:cNvPicPr/>
          <p:nvPr/>
        </p:nvPicPr>
        <p:blipFill>
          <a:blip r:embed="rId1"/>
          <a:stretch/>
        </p:blipFill>
        <p:spPr>
          <a:xfrm>
            <a:off x="7308720" y="260280"/>
            <a:ext cx="1648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митинг 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70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7" name="Picture 6" descr="митинг 5"/>
          <p:cNvPicPr/>
          <p:nvPr/>
        </p:nvPicPr>
        <p:blipFill>
          <a:blip r:embed="rId2"/>
          <a:stretch/>
        </p:blipFill>
        <p:spPr>
          <a:xfrm>
            <a:off x="250920" y="333360"/>
            <a:ext cx="3657600" cy="28209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8" name="Picture 7" descr="митинг 4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291780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9" name="Picture 8" descr="митинг 1"/>
          <p:cNvPicPr/>
          <p:nvPr/>
        </p:nvPicPr>
        <p:blipFill>
          <a:blip r:embed="rId4"/>
          <a:stretch/>
        </p:blipFill>
        <p:spPr>
          <a:xfrm>
            <a:off x="5364000" y="4121280"/>
            <a:ext cx="3527640" cy="2646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10" name="Picture 4" descr="митинг 3"/>
          <p:cNvPicPr/>
          <p:nvPr/>
        </p:nvPicPr>
        <p:blipFill>
          <a:blip r:embed="rId5"/>
          <a:stretch/>
        </p:blipFill>
        <p:spPr>
          <a:xfrm>
            <a:off x="2825640" y="1341360"/>
            <a:ext cx="3492720" cy="3691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публицистическ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тив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 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зиция, сущность, явл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леченные слова с общественно-политическим значением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уманность, прогресс, народность, гласность, миролюбив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зительность и эмоцион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 и уст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удожествен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художественные произведения: роман, рассказ, поэма, новелла, стихотворение, повесть, эссе, бал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функция  – эстетиче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j0428113"/>
          <p:cNvPicPr/>
          <p:nvPr/>
        </p:nvPicPr>
        <p:blipFill>
          <a:blip r:embed="rId1"/>
          <a:stretch/>
        </p:blipFill>
        <p:spPr>
          <a:xfrm>
            <a:off x="7164360" y="18900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бал 1"/>
          <p:cNvPicPr/>
          <p:nvPr/>
        </p:nvPicPr>
        <p:blipFill>
          <a:blip r:embed="rId1"/>
          <a:stretch/>
        </p:blipFill>
        <p:spPr>
          <a:xfrm>
            <a:off x="2003400" y="189000"/>
            <a:ext cx="5135760" cy="3851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7" name="Picture 5" descr="бал 2"/>
          <p:cNvPicPr/>
          <p:nvPr/>
        </p:nvPicPr>
        <p:blipFill>
          <a:blip r:embed="rId2"/>
          <a:stretch/>
        </p:blipFill>
        <p:spPr>
          <a:xfrm>
            <a:off x="179280" y="2276640"/>
            <a:ext cx="2932200" cy="434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8" name="Picture 6" descr="бал 5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18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9" name="Picture 7" descr="бал 4"/>
          <p:cNvPicPr/>
          <p:nvPr/>
        </p:nvPicPr>
        <p:blipFill>
          <a:blip r:embed="rId4"/>
          <a:stretch/>
        </p:blipFill>
        <p:spPr>
          <a:xfrm>
            <a:off x="2627280" y="2565360"/>
            <a:ext cx="3097080" cy="179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художествен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: высокие слова, которые придают речи торжеств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краснодушие, донкихотство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оложи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дантичный, манерность, личина, продажный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отрица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ская индивиду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зговор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людей в быту, беседы в семье, выяснение отношений, обсуждение планов, дружеское 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при неофициальном бытовом, повседневном общении между людьми в заранее не подготовленной устной реч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j0428123"/>
          <p:cNvPicPr/>
          <p:nvPr/>
        </p:nvPicPr>
        <p:blipFill>
          <a:blip r:embed="rId1"/>
          <a:stretch/>
        </p:blipFill>
        <p:spPr>
          <a:xfrm rot="20538600">
            <a:off x="7380000" y="0"/>
            <a:ext cx="1525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разговор 1"/>
          <p:cNvPicPr/>
          <p:nvPr/>
        </p:nvPicPr>
        <p:blipFill>
          <a:blip r:embed="rId1"/>
          <a:stretch/>
        </p:blipFill>
        <p:spPr>
          <a:xfrm>
            <a:off x="250920" y="189000"/>
            <a:ext cx="3085920" cy="3535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328" name="Picture 7" descr="худ"/>
          <p:cNvPicPr/>
          <p:nvPr/>
        </p:nvPicPr>
        <p:blipFill>
          <a:blip r:embed="rId2"/>
          <a:stretch/>
        </p:blipFill>
        <p:spPr>
          <a:xfrm>
            <a:off x="3203640" y="1557360"/>
            <a:ext cx="3255840" cy="4176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29" name="Picture 5" descr="разговор 2"/>
          <p:cNvPicPr/>
          <p:nvPr/>
        </p:nvPicPr>
        <p:blipFill>
          <a:blip r:embed="rId3"/>
          <a:stretch/>
        </p:blipFill>
        <p:spPr>
          <a:xfrm>
            <a:off x="6300720" y="3213000"/>
            <a:ext cx="2625840" cy="3429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разговор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та выражения и эмоцион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говорно-бытовые слова и форм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ратец, сестрица, вымахал, прыг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ко выражена стилистическая окраска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чурка, отличный, прекрасный, чудесный, превосходный, скверный, гадкий, наглы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ные слова, которые находятся за пределами литературной лекс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уст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j0428109"/>
          <p:cNvPicPr/>
          <p:nvPr/>
        </p:nvPicPr>
        <p:blipFill>
          <a:blip r:embed="rId1"/>
          <a:stretch/>
        </p:blipFill>
        <p:spPr>
          <a:xfrm>
            <a:off x="7451640" y="5445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4978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– это выбор языковых средств, связанный с определенной сферой общественной деятельности, целью речевого общения и составом его носителе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Что такое стил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5"/>
          <p:cNvGrpSpPr/>
          <p:nvPr/>
        </p:nvGrpSpPr>
        <p:grpSpPr>
          <a:xfrm>
            <a:off x="324000" y="404640"/>
            <a:ext cx="8494920" cy="5832360"/>
            <a:chOff x="324000" y="404640"/>
            <a:chExt cx="8494920" cy="5832360"/>
          </a:xfrm>
        </p:grpSpPr>
        <p:cxnSp>
          <p:nvCxnSpPr>
            <p:cNvPr id="265" name="_s1028"/>
            <p:cNvCxnSpPr>
              <a:stCxn id="266" idx="1"/>
              <a:endCxn id="267" idx="2"/>
            </p:cNvCxnSpPr>
            <p:nvPr/>
          </p:nvCxnSpPr>
          <p:spPr>
            <a:xfrm rot="10800000">
              <a:off x="2283480" y="2121480"/>
              <a:ext cx="654120" cy="377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029"/>
            <p:cNvCxnSpPr>
              <a:stCxn id="269" idx="1"/>
              <a:endCxn id="267" idx="2"/>
            </p:cNvCxnSpPr>
            <p:nvPr/>
          </p:nvCxnSpPr>
          <p:spPr>
            <a:xfrm rot="10800000">
              <a:off x="2283480" y="2121480"/>
              <a:ext cx="654120" cy="2746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7" idx="2"/>
            </p:cNvCxnSpPr>
            <p:nvPr/>
          </p:nvCxnSpPr>
          <p:spPr>
            <a:xfrm rot="10800000">
              <a:off x="2283480" y="2121480"/>
              <a:ext cx="654120" cy="171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7" idx="2"/>
            </p:cNvCxnSpPr>
            <p:nvPr/>
          </p:nvCxnSpPr>
          <p:spPr>
            <a:xfrm rot="10800000">
              <a:off x="2283480" y="2121480"/>
              <a:ext cx="654120" cy="687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541480" y="119880"/>
              <a:ext cx="346320" cy="228816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033"/>
            <p:cNvCxnSpPr>
              <a:stCxn id="267" idx="0"/>
              <a:endCxn id="276" idx="2"/>
            </p:cNvCxnSpPr>
            <p:nvPr/>
          </p:nvCxnSpPr>
          <p:spPr>
            <a:xfrm flipH="1" flipV="1" rot="5400000">
              <a:off x="3254040" y="120600"/>
              <a:ext cx="346320" cy="228708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6" name="_s1034"/>
            <p:cNvSpPr/>
            <p:nvPr/>
          </p:nvSpPr>
          <p:spPr>
            <a:xfrm>
              <a:off x="2610360" y="40464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ИЛИ Р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035"/>
            <p:cNvSpPr/>
            <p:nvPr/>
          </p:nvSpPr>
          <p:spPr>
            <a:xfrm>
              <a:off x="32400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Н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6"/>
            <p:cNvSpPr/>
            <p:nvPr/>
          </p:nvSpPr>
          <p:spPr>
            <a:xfrm>
              <a:off x="489816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ГОВО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7"/>
            <p:cNvSpPr/>
            <p:nvPr/>
          </p:nvSpPr>
          <p:spPr>
            <a:xfrm>
              <a:off x="2937600" y="2465640"/>
              <a:ext cx="391572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8"/>
            <p:cNvSpPr/>
            <p:nvPr/>
          </p:nvSpPr>
          <p:spPr>
            <a:xfrm>
              <a:off x="2937600" y="349632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ФИЦИАЛЬНО-ДЕЛО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39"/>
            <p:cNvSpPr/>
            <p:nvPr/>
          </p:nvSpPr>
          <p:spPr>
            <a:xfrm>
              <a:off x="2937600" y="4524120"/>
              <a:ext cx="3915720" cy="684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ЦИС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040"/>
            <p:cNvSpPr/>
            <p:nvPr/>
          </p:nvSpPr>
          <p:spPr>
            <a:xfrm>
              <a:off x="2937600" y="555264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УДОЖЕСТВ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2" descr="j0428125"/>
          <p:cNvPicPr/>
          <p:nvPr/>
        </p:nvPicPr>
        <p:blipFill>
          <a:blip r:embed="rId1"/>
          <a:stretch/>
        </p:blipFill>
        <p:spPr>
          <a:xfrm>
            <a:off x="539640" y="189000"/>
            <a:ext cx="1366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фициально-делово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граждан с учрежд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документах, отчетах, заявлениях, доверенностях, деловых письмах, приказах и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ит для передачи информации в сфере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j0428127"/>
          <p:cNvPicPr/>
          <p:nvPr/>
        </p:nvPicPr>
        <p:blipFill>
          <a:blip r:embed="rId1"/>
          <a:stretch/>
        </p:blipFill>
        <p:spPr>
          <a:xfrm>
            <a:off x="7812000" y="189000"/>
            <a:ext cx="1059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дел"/>
          <p:cNvPicPr/>
          <p:nvPr/>
        </p:nvPicPr>
        <p:blipFill>
          <a:blip r:embed="rId1"/>
          <a:stretch/>
        </p:blipFill>
        <p:spPr>
          <a:xfrm rot="20665800">
            <a:off x="3276360" y="404640"/>
            <a:ext cx="259056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6" descr="дел"/>
          <p:cNvPicPr/>
          <p:nvPr/>
        </p:nvPicPr>
        <p:blipFill>
          <a:blip r:embed="rId2"/>
          <a:stretch/>
        </p:blipFill>
        <p:spPr>
          <a:xfrm rot="20741400">
            <a:off x="468000" y="549000"/>
            <a:ext cx="2698560" cy="37749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6" name="Picture 7" descr="дел"/>
          <p:cNvPicPr/>
          <p:nvPr/>
        </p:nvPicPr>
        <p:blipFill>
          <a:blip r:embed="rId3"/>
          <a:stretch/>
        </p:blipFill>
        <p:spPr>
          <a:xfrm rot="20824200">
            <a:off x="395280" y="3715920"/>
            <a:ext cx="27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7" name="Picture 5" descr="дел"/>
          <p:cNvPicPr/>
          <p:nvPr/>
        </p:nvPicPr>
        <p:blipFill>
          <a:blip r:embed="rId4"/>
          <a:stretch/>
        </p:blipFill>
        <p:spPr>
          <a:xfrm>
            <a:off x="6227640" y="189000"/>
            <a:ext cx="2664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8" name="Picture 8" descr="дел"/>
          <p:cNvPicPr/>
          <p:nvPr/>
        </p:nvPicPr>
        <p:blipFill>
          <a:blip r:embed="rId5"/>
          <a:stretch/>
        </p:blipFill>
        <p:spPr>
          <a:xfrm rot="1364400">
            <a:off x="5940000" y="2636640"/>
            <a:ext cx="2367000" cy="38052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9" name="Picture 9" descr="офис"/>
          <p:cNvPicPr/>
          <p:nvPr/>
        </p:nvPicPr>
        <p:blipFill>
          <a:blip r:embed="rId6"/>
          <a:stretch/>
        </p:blipFill>
        <p:spPr>
          <a:xfrm>
            <a:off x="3132000" y="2608200"/>
            <a:ext cx="3024360" cy="2979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официально-делов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эмоциональность из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дартизированные словосочет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а-терм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истически нейтраль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сика, отражающая официально-деловые отношения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ленум, сессия, реш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измы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слушать доклад, зачитать решение, входящий ном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учны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научная  деятельность (написание специальных учебников, научных статей, конспектов, курсовых 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состоит в том, чтобы дать точное и ясное представление о научных пон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j0428105"/>
          <p:cNvPicPr/>
          <p:nvPr/>
        </p:nvPicPr>
        <p:blipFill>
          <a:blip r:embed="rId1"/>
          <a:stretch/>
        </p:blipFill>
        <p:spPr>
          <a:xfrm>
            <a:off x="7164360" y="0"/>
            <a:ext cx="17524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доклад 1"/>
          <p:cNvPicPr/>
          <p:nvPr/>
        </p:nvPicPr>
        <p:blipFill>
          <a:blip r:embed="rId1"/>
          <a:stretch/>
        </p:blipFill>
        <p:spPr>
          <a:xfrm>
            <a:off x="4932360" y="353880"/>
            <a:ext cx="3772080" cy="2691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96" name="Picture 6" descr="доклад 2"/>
          <p:cNvPicPr/>
          <p:nvPr/>
        </p:nvPicPr>
        <p:blipFill>
          <a:blip r:embed="rId2"/>
          <a:stretch/>
        </p:blipFill>
        <p:spPr>
          <a:xfrm>
            <a:off x="4859280" y="3321000"/>
            <a:ext cx="4057560" cy="3043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7" name="Picture 7" descr="доклал 5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4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8" name="Picture 8" descr="доклад 6"/>
          <p:cNvPicPr/>
          <p:nvPr/>
        </p:nvPicPr>
        <p:blipFill>
          <a:blip r:embed="rId4"/>
          <a:stretch/>
        </p:blipFill>
        <p:spPr>
          <a:xfrm>
            <a:off x="250920" y="3716280"/>
            <a:ext cx="4105080" cy="2952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ля научного стиля характерно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кость и логичность излож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выражения эмоц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ологическая лексик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техн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едицин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нтг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гвист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уффик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арте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56:27Z</dcterms:created>
  <dc:creator>user33</dc:creator>
  <dc:description/>
  <dc:language>en-US</dc:language>
  <cp:lastModifiedBy>учитель</cp:lastModifiedBy>
  <dcterms:modified xsi:type="dcterms:W3CDTF">2012-11-27T10:00:13Z</dcterms:modified>
  <cp:revision>46</cp:revision>
  <dc:subject/>
  <dc:title>Слайд 1</dc:title>
</cp:coreProperties>
</file>