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0D7-D16C-427D-863A-8C822EBF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9D7-B413-42E2-9C69-9C296C71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656-92EB-48B2-B46E-F665B137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603-1626-4C69-AE79-90CF3C3E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58B-692A-4B86-9442-737E2E4C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922-01E6-4893-9052-F8540692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752-5653-4E4F-B86A-D6220D26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D9E-3F38-4C90-8483-84EE50AF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560-175C-4515-8000-DE6F586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71B-1DC7-4786-AAE7-2C981B9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209-9C56-4DA7-AD61-F71F78C6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6E6-47F9-4B2B-86FC-690C69D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E2FC-5BD6-4C39-B2B1-79C223A64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>
            <a:alpha val="8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2195640" y="1341360"/>
            <a:ext cx="4321080" cy="3095640"/>
            <a:chOff x="2195640" y="1341360"/>
            <a:chExt cx="4321080" cy="3095640"/>
          </a:xfrm>
        </p:grpSpPr>
        <p:sp>
          <p:nvSpPr>
            <p:cNvPr id="42" name="Line 4"/>
            <p:cNvSpPr/>
            <p:nvPr/>
          </p:nvSpPr>
          <p:spPr>
            <a:xfrm flipV="1">
              <a:off x="2195640" y="1341360"/>
              <a:ext cx="3960720" cy="1656000"/>
            </a:xfrm>
            <a:prstGeom prst="line">
              <a:avLst/>
            </a:prstGeom>
            <a:ln w="28440">
              <a:solidFill>
                <a:srgbClr val="d2e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2195640" y="2997360"/>
              <a:ext cx="4321080" cy="1439640"/>
            </a:xfrm>
            <a:prstGeom prst="line">
              <a:avLst/>
            </a:prstGeom>
            <a:ln w="28440">
              <a:solidFill>
                <a:srgbClr val="d2e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Line 6"/>
          <p:cNvSpPr/>
          <p:nvPr/>
        </p:nvSpPr>
        <p:spPr>
          <a:xfrm flipV="1">
            <a:off x="2195640" y="2852640"/>
            <a:ext cx="5256000" cy="144720"/>
          </a:xfrm>
          <a:prstGeom prst="line">
            <a:avLst/>
          </a:prstGeom>
          <a:ln w="28440">
            <a:solidFill>
              <a:srgbClr val="d2e4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788000" y="1916280"/>
            <a:ext cx="431640" cy="1008000"/>
          </a:xfrm>
          <a:prstGeom prst="line">
            <a:avLst/>
          </a:prstGeom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>
            <a:off x="4822920" y="2924280"/>
            <a:ext cx="396720" cy="954000"/>
          </a:xfrm>
          <a:prstGeom prst="line">
            <a:avLst/>
          </a:prstGeom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 rot="20244000">
            <a:off x="4676400" y="1949040"/>
            <a:ext cx="144360" cy="144360"/>
          </a:xfrm>
          <a:prstGeom prst="rect">
            <a:avLst/>
          </a:prstGeom>
          <a:noFill/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 flipH="1" rot="6756000">
            <a:off x="4703400" y="3709800"/>
            <a:ext cx="144360" cy="144360"/>
          </a:xfrm>
          <a:prstGeom prst="rect">
            <a:avLst/>
          </a:prstGeom>
          <a:noFill/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5173560" y="288756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 flipH="1">
            <a:off x="4932360" y="2276640"/>
            <a:ext cx="71280" cy="144360"/>
          </a:xfrm>
          <a:prstGeom prst="line">
            <a:avLst/>
          </a:prstGeom>
          <a:ln w="2844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4944960" y="3341520"/>
            <a:ext cx="131760" cy="158760"/>
          </a:xfrm>
          <a:prstGeom prst="line">
            <a:avLst/>
          </a:prstGeom>
          <a:ln w="2844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42764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1763640" y="2708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500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364000" y="24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19"/>
          <p:cNvSpPr/>
          <p:nvPr/>
        </p:nvSpPr>
        <p:spPr>
          <a:xfrm flipH="1" rot="8847600">
            <a:off x="2761560" y="2760480"/>
            <a:ext cx="71280" cy="187200"/>
          </a:xfrm>
          <a:prstGeom prst="pie">
            <a:avLst/>
          </a:prstGeom>
          <a:noFill/>
          <a:ln w="28440">
            <a:solidFill>
              <a:srgbClr val="f3f2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20"/>
          <p:cNvSpPr/>
          <p:nvPr/>
        </p:nvSpPr>
        <p:spPr>
          <a:xfrm rot="2356200">
            <a:off x="2761920" y="2992320"/>
            <a:ext cx="71280" cy="195480"/>
          </a:xfrm>
          <a:prstGeom prst="pie">
            <a:avLst/>
          </a:prstGeom>
          <a:noFill/>
          <a:ln w="28440">
            <a:solidFill>
              <a:srgbClr val="f3f2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5095800" y="3208320"/>
            <a:ext cx="534960" cy="64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5024520" y="1984320"/>
            <a:ext cx="534960" cy="64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2195640" y="2997360"/>
            <a:ext cx="4248000" cy="1439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2195640" y="1268280"/>
            <a:ext cx="4176720" cy="17290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859280" y="2924280"/>
            <a:ext cx="380880" cy="936360"/>
          </a:xfrm>
          <a:prstGeom prst="line">
            <a:avLst/>
          </a:prstGeom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788000" y="1916280"/>
            <a:ext cx="431640" cy="1008000"/>
          </a:xfrm>
          <a:prstGeom prst="line">
            <a:avLst/>
          </a:prstGeom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3"/>
          <p:cNvGrpSpPr/>
          <p:nvPr/>
        </p:nvGrpSpPr>
        <p:grpSpPr>
          <a:xfrm>
            <a:off x="4942080" y="2648160"/>
            <a:ext cx="250920" cy="283320"/>
            <a:chOff x="4942080" y="2648160"/>
            <a:chExt cx="250920" cy="283320"/>
          </a:xfrm>
        </p:grpSpPr>
        <p:sp>
          <p:nvSpPr>
            <p:cNvPr id="65" name="Arc 28"/>
            <p:cNvSpPr/>
            <p:nvPr/>
          </p:nvSpPr>
          <p:spPr>
            <a:xfrm rot="12752400">
              <a:off x="5076360" y="2707920"/>
              <a:ext cx="71640" cy="18720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30"/>
            <p:cNvSpPr/>
            <p:nvPr/>
          </p:nvSpPr>
          <p:spPr>
            <a:xfrm rot="12752400">
              <a:off x="5014440" y="2644200"/>
              <a:ext cx="71640" cy="29052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2"/>
          <p:cNvGrpSpPr/>
          <p:nvPr/>
        </p:nvGrpSpPr>
        <p:grpSpPr>
          <a:xfrm>
            <a:off x="4933440" y="2923920"/>
            <a:ext cx="268200" cy="275040"/>
            <a:chOff x="4933440" y="2923920"/>
            <a:chExt cx="268200" cy="275040"/>
          </a:xfrm>
        </p:grpSpPr>
        <p:sp>
          <p:nvSpPr>
            <p:cNvPr id="68" name="Arc 29"/>
            <p:cNvSpPr/>
            <p:nvPr/>
          </p:nvSpPr>
          <p:spPr>
            <a:xfrm flipH="1" rot="19243800">
              <a:off x="5075640" y="2924280"/>
              <a:ext cx="71640" cy="19512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31"/>
            <p:cNvSpPr/>
            <p:nvPr/>
          </p:nvSpPr>
          <p:spPr>
            <a:xfrm flipH="1" rot="19243800">
              <a:off x="5006520" y="2948040"/>
              <a:ext cx="71640" cy="25704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34"/>
          <p:cNvSpPr/>
          <p:nvPr/>
        </p:nvSpPr>
        <p:spPr>
          <a:xfrm>
            <a:off x="3637080" y="522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А = 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5"/>
          <p:cNvSpPr txBox="1"/>
          <p:nvPr/>
        </p:nvSpPr>
        <p:spPr>
          <a:xfrm>
            <a:off x="1187280" y="260280"/>
            <a:ext cx="6467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йство биссектрисы уг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11:33:37Z</dcterms:created>
  <dc:creator>Zubareva</dc:creator>
  <dc:description/>
  <dc:language>en-US</dc:language>
  <cp:lastModifiedBy>Toshiba</cp:lastModifiedBy>
  <dcterms:modified xsi:type="dcterms:W3CDTF">2010-01-28T21:35:58Z</dcterms:modified>
  <cp:revision>17</cp:revision>
  <dc:subject/>
  <dc:title>Слайд 1</dc:title>
</cp:coreProperties>
</file>