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500-6A05-4389-B89B-1883E168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58C-A435-4757-BDA1-950ABF2C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295-7D39-401E-8C48-468A8105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BC0-21FB-4DCE-A975-3B7D26D1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3AB-E460-49F0-AD26-B1F6EA5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A7F-E67B-407C-89EE-29EAF602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F95-3030-4E2B-9629-84A14786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4C2-F4E0-4962-9026-FE4772D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5EB-9F27-45A2-9683-EA1E691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7B4-08EF-415C-89A2-BCE542C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117-FD83-4861-AF88-079BE461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121-3EEB-45CA-8299-C1DB10CF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C6B9-C09C-4C7E-8194-7C7355ACF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>
            <a:alpha val="8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2195640" y="1341360"/>
            <a:ext cx="4321080" cy="3095640"/>
            <a:chOff x="2195640" y="1341360"/>
            <a:chExt cx="4321080" cy="3095640"/>
          </a:xfrm>
        </p:grpSpPr>
        <p:sp>
          <p:nvSpPr>
            <p:cNvPr id="42" name="Line 4"/>
            <p:cNvSpPr/>
            <p:nvPr/>
          </p:nvSpPr>
          <p:spPr>
            <a:xfrm flipV="1">
              <a:off x="2195640" y="1341360"/>
              <a:ext cx="3960720" cy="1656000"/>
            </a:xfrm>
            <a:prstGeom prst="line">
              <a:avLst/>
            </a:prstGeom>
            <a:ln w="28440">
              <a:solidFill>
                <a:srgbClr val="d2e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2195640" y="2997360"/>
              <a:ext cx="4321080" cy="1439640"/>
            </a:xfrm>
            <a:prstGeom prst="line">
              <a:avLst/>
            </a:prstGeom>
            <a:ln w="28440">
              <a:solidFill>
                <a:srgbClr val="d2e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Line 6"/>
          <p:cNvSpPr/>
          <p:nvPr/>
        </p:nvSpPr>
        <p:spPr>
          <a:xfrm flipV="1">
            <a:off x="2195640" y="2852640"/>
            <a:ext cx="5256000" cy="144720"/>
          </a:xfrm>
          <a:prstGeom prst="line">
            <a:avLst/>
          </a:prstGeom>
          <a:ln w="28440">
            <a:solidFill>
              <a:srgbClr val="d2e4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788000" y="1916280"/>
            <a:ext cx="431640" cy="1008000"/>
          </a:xfrm>
          <a:prstGeom prst="line">
            <a:avLst/>
          </a:prstGeom>
          <a:ln w="1908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H="1">
            <a:off x="4822920" y="2924280"/>
            <a:ext cx="396720" cy="954000"/>
          </a:xfrm>
          <a:prstGeom prst="line">
            <a:avLst/>
          </a:prstGeom>
          <a:ln w="1908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 rot="20244000">
            <a:off x="4676400" y="1949040"/>
            <a:ext cx="144360" cy="144360"/>
          </a:xfrm>
          <a:prstGeom prst="rect">
            <a:avLst/>
          </a:prstGeom>
          <a:noFill/>
          <a:ln w="1908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 flipH="1" rot="6756000">
            <a:off x="4703400" y="3709800"/>
            <a:ext cx="144360" cy="144360"/>
          </a:xfrm>
          <a:prstGeom prst="rect">
            <a:avLst/>
          </a:prstGeom>
          <a:noFill/>
          <a:ln w="1908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5173560" y="288756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 flipH="1">
            <a:off x="4932360" y="2276640"/>
            <a:ext cx="71280" cy="144360"/>
          </a:xfrm>
          <a:prstGeom prst="line">
            <a:avLst/>
          </a:prstGeom>
          <a:ln w="2844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4944960" y="3341520"/>
            <a:ext cx="131760" cy="158760"/>
          </a:xfrm>
          <a:prstGeom prst="line">
            <a:avLst/>
          </a:prstGeom>
          <a:ln w="28440">
            <a:solidFill>
              <a:srgbClr val="f3f2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442764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1763640" y="2708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450072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364000" y="24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rc 19"/>
          <p:cNvSpPr/>
          <p:nvPr/>
        </p:nvSpPr>
        <p:spPr>
          <a:xfrm flipH="1" rot="8847600">
            <a:off x="2761560" y="2760480"/>
            <a:ext cx="71280" cy="187200"/>
          </a:xfrm>
          <a:prstGeom prst="pie">
            <a:avLst/>
          </a:prstGeom>
          <a:noFill/>
          <a:ln w="28440">
            <a:solidFill>
              <a:srgbClr val="f3f2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20"/>
          <p:cNvSpPr/>
          <p:nvPr/>
        </p:nvSpPr>
        <p:spPr>
          <a:xfrm rot="2356200">
            <a:off x="2761920" y="2992320"/>
            <a:ext cx="71280" cy="195480"/>
          </a:xfrm>
          <a:prstGeom prst="pie">
            <a:avLst/>
          </a:prstGeom>
          <a:noFill/>
          <a:ln w="28440">
            <a:solidFill>
              <a:srgbClr val="f3f2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5095800" y="3208320"/>
            <a:ext cx="534960" cy="649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5024520" y="1984320"/>
            <a:ext cx="534960" cy="649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2195640" y="2997360"/>
            <a:ext cx="4248000" cy="143964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H="1">
            <a:off x="2195640" y="1268280"/>
            <a:ext cx="4176720" cy="17290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859280" y="2924280"/>
            <a:ext cx="380880" cy="936360"/>
          </a:xfrm>
          <a:prstGeom prst="line">
            <a:avLst/>
          </a:prstGeom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4788000" y="1916280"/>
            <a:ext cx="431640" cy="1008000"/>
          </a:xfrm>
          <a:prstGeom prst="line">
            <a:avLst/>
          </a:prstGeom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3"/>
          <p:cNvGrpSpPr/>
          <p:nvPr/>
        </p:nvGrpSpPr>
        <p:grpSpPr>
          <a:xfrm>
            <a:off x="4942080" y="2648160"/>
            <a:ext cx="250920" cy="283320"/>
            <a:chOff x="4942080" y="2648160"/>
            <a:chExt cx="250920" cy="283320"/>
          </a:xfrm>
        </p:grpSpPr>
        <p:sp>
          <p:nvSpPr>
            <p:cNvPr id="65" name="Arc 28"/>
            <p:cNvSpPr/>
            <p:nvPr/>
          </p:nvSpPr>
          <p:spPr>
            <a:xfrm rot="12752400">
              <a:off x="5076360" y="2707920"/>
              <a:ext cx="71640" cy="187200"/>
            </a:xfrm>
            <a:prstGeom prst="pie">
              <a:avLst/>
            </a:prstGeom>
            <a:noFill/>
            <a:ln w="28440">
              <a:solidFill>
                <a:srgbClr val="f3f2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30"/>
            <p:cNvSpPr/>
            <p:nvPr/>
          </p:nvSpPr>
          <p:spPr>
            <a:xfrm rot="12752400">
              <a:off x="5014440" y="2644200"/>
              <a:ext cx="71640" cy="290520"/>
            </a:xfrm>
            <a:prstGeom prst="pie">
              <a:avLst/>
            </a:prstGeom>
            <a:noFill/>
            <a:ln w="28440">
              <a:solidFill>
                <a:srgbClr val="f3f2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32"/>
          <p:cNvGrpSpPr/>
          <p:nvPr/>
        </p:nvGrpSpPr>
        <p:grpSpPr>
          <a:xfrm>
            <a:off x="4933440" y="2923920"/>
            <a:ext cx="268200" cy="275040"/>
            <a:chOff x="4933440" y="2923920"/>
            <a:chExt cx="268200" cy="275040"/>
          </a:xfrm>
        </p:grpSpPr>
        <p:sp>
          <p:nvSpPr>
            <p:cNvPr id="68" name="Arc 29"/>
            <p:cNvSpPr/>
            <p:nvPr/>
          </p:nvSpPr>
          <p:spPr>
            <a:xfrm flipH="1" rot="19243800">
              <a:off x="5075640" y="2924280"/>
              <a:ext cx="71640" cy="195120"/>
            </a:xfrm>
            <a:prstGeom prst="pie">
              <a:avLst/>
            </a:prstGeom>
            <a:noFill/>
            <a:ln w="28440">
              <a:solidFill>
                <a:srgbClr val="f3f2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31"/>
            <p:cNvSpPr/>
            <p:nvPr/>
          </p:nvSpPr>
          <p:spPr>
            <a:xfrm flipH="1" rot="19243800">
              <a:off x="5006520" y="2948040"/>
              <a:ext cx="71640" cy="257040"/>
            </a:xfrm>
            <a:prstGeom prst="pie">
              <a:avLst/>
            </a:prstGeom>
            <a:noFill/>
            <a:ln w="28440">
              <a:solidFill>
                <a:srgbClr val="f3f2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34"/>
          <p:cNvSpPr/>
          <p:nvPr/>
        </p:nvSpPr>
        <p:spPr>
          <a:xfrm>
            <a:off x="3637080" y="5229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А = 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35"/>
          <p:cNvSpPr txBox="1"/>
          <p:nvPr/>
        </p:nvSpPr>
        <p:spPr>
          <a:xfrm>
            <a:off x="1187280" y="260280"/>
            <a:ext cx="6467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йство биссектрисы уг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11:33:37Z</dcterms:created>
  <dc:creator>Zubareva</dc:creator>
  <dc:description/>
  <dc:language>en-US</dc:language>
  <cp:lastModifiedBy>Toshiba</cp:lastModifiedBy>
  <dcterms:modified xsi:type="dcterms:W3CDTF">2010-01-28T21:35:58Z</dcterms:modified>
  <cp:revision>17</cp:revision>
  <dc:subject/>
  <dc:title>Слайд 1</dc:title>
</cp:coreProperties>
</file>