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6730-C030-44B8-BDA3-8B79D15A2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E368-149B-4830-AABC-5258220D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9E64-B55F-4BCA-B9E9-D47FEA86E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3F2B-3E83-4006-B9B9-094AB43A4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FF94-CF13-4E2B-9AB2-F999910A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8202-2955-44E8-8FCE-D4241637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AC63-2164-4794-A674-7BC7023D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B59A-CFD3-4DC8-AA9C-58A0EF91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3813-67CB-4700-A71A-7A988F8A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0098-EB15-4D5E-9227-E221CC9D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0213-82E3-47BE-BCEF-EEC5DE8F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CEA9-EB32-4151-92B9-7A51F706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4DB2-51B1-4ADF-8A9E-551AB776BB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4967280" cy="3824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Мы разные, но мы вмес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867280" y="2155320"/>
            <a:ext cx="3097440" cy="25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боту выполн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ченица 4 «А»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Шевцова Вален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ОУ «СОШ р.п. Озинки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аратовской области Руководитель: Уланова Татьян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4000" y="3789360"/>
            <a:ext cx="795492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Bookman Old Style"/>
              </a:rPr>
              <a:t>Что такое толерантнос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Bookman Old Style"/>
              </a:rPr>
              <a:t>Доброта, любовь и сме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Bookman Old Style"/>
              </a:rPr>
              <a:t>Что такое толерантнос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Bookman Old Style"/>
              </a:rPr>
              <a:t>Счастье, дружба и успе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http://www.forbes.ru/sites/default/files/slideshow/9747336_S_1.jpg"/>
          <p:cNvPicPr/>
          <p:nvPr/>
        </p:nvPicPr>
        <p:blipFill>
          <a:blip r:embed="rId1"/>
          <a:stretch/>
        </p:blipFill>
        <p:spPr>
          <a:xfrm>
            <a:off x="1042920" y="333360"/>
            <a:ext cx="4416480" cy="3311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http://im7-tub-ru.yandex.net/i?id=424649707-37-72&amp;n=21"/>
          <p:cNvPicPr/>
          <p:nvPr/>
        </p:nvPicPr>
        <p:blipFill>
          <a:blip r:embed="rId2"/>
          <a:stretch/>
        </p:blipFill>
        <p:spPr>
          <a:xfrm>
            <a:off x="6227640" y="62064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53964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 Antiqua"/>
              </a:rPr>
              <a:t>Что для тебя толерантнос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Diagram 5"/>
          <p:cNvGrpSpPr/>
          <p:nvPr/>
        </p:nvGrpSpPr>
        <p:grpSpPr>
          <a:xfrm>
            <a:off x="1074960" y="1427400"/>
            <a:ext cx="7302240" cy="4524840"/>
            <a:chOff x="1074960" y="1427400"/>
            <a:chExt cx="7302240" cy="4524840"/>
          </a:xfrm>
        </p:grpSpPr>
        <p:sp>
          <p:nvSpPr>
            <p:cNvPr id="49" name="_s1028"/>
            <p:cNvSpPr/>
            <p:nvPr/>
          </p:nvSpPr>
          <p:spPr>
            <a:xfrm flipH="1" flipV="1">
              <a:off x="2969640" y="3124800"/>
              <a:ext cx="879120" cy="282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1029"/>
            <p:cNvSpPr/>
            <p:nvPr/>
          </p:nvSpPr>
          <p:spPr>
            <a:xfrm>
              <a:off x="1074960" y="2275200"/>
              <a:ext cx="2030040" cy="1131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Ми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1030"/>
            <p:cNvSpPr/>
            <p:nvPr/>
          </p:nvSpPr>
          <p:spPr>
            <a:xfrm flipH="1">
              <a:off x="2970000" y="3972240"/>
              <a:ext cx="878040" cy="28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31"/>
            <p:cNvSpPr/>
            <p:nvPr/>
          </p:nvSpPr>
          <p:spPr>
            <a:xfrm>
              <a:off x="1074960" y="3972240"/>
              <a:ext cx="2030040" cy="1131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острад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032"/>
            <p:cNvSpPr/>
            <p:nvPr/>
          </p:nvSpPr>
          <p:spPr>
            <a:xfrm>
              <a:off x="4726080" y="4254840"/>
              <a:ext cx="108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33"/>
            <p:cNvSpPr/>
            <p:nvPr/>
          </p:nvSpPr>
          <p:spPr>
            <a:xfrm>
              <a:off x="3710880" y="4820760"/>
              <a:ext cx="2030040" cy="1131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Любов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34"/>
            <p:cNvSpPr/>
            <p:nvPr/>
          </p:nvSpPr>
          <p:spPr>
            <a:xfrm>
              <a:off x="5604480" y="3972240"/>
              <a:ext cx="878040" cy="282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35"/>
            <p:cNvSpPr/>
            <p:nvPr/>
          </p:nvSpPr>
          <p:spPr>
            <a:xfrm>
              <a:off x="6347160" y="3972240"/>
              <a:ext cx="2030040" cy="1131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оним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036"/>
            <p:cNvSpPr/>
            <p:nvPr/>
          </p:nvSpPr>
          <p:spPr>
            <a:xfrm flipV="1">
              <a:off x="5604480" y="3124440"/>
              <a:ext cx="878040" cy="282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37"/>
            <p:cNvSpPr/>
            <p:nvPr/>
          </p:nvSpPr>
          <p:spPr>
            <a:xfrm>
              <a:off x="6347160" y="2275200"/>
              <a:ext cx="2030040" cy="1131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Уваж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38"/>
            <p:cNvSpPr/>
            <p:nvPr/>
          </p:nvSpPr>
          <p:spPr>
            <a:xfrm flipV="1">
              <a:off x="4726080" y="255924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39"/>
            <p:cNvSpPr/>
            <p:nvPr/>
          </p:nvSpPr>
          <p:spPr>
            <a:xfrm>
              <a:off x="3710880" y="1427400"/>
              <a:ext cx="2030040" cy="1131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Дружб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40"/>
            <p:cNvSpPr/>
            <p:nvPr/>
          </p:nvSpPr>
          <p:spPr>
            <a:xfrm>
              <a:off x="3710880" y="3124440"/>
              <a:ext cx="2030040" cy="1131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Book Antiqua"/>
                </a:rPr>
                <a:t>Толерант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79280" y="691920"/>
            <a:ext cx="756144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Дружба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- Отношения между людьми, построенные на взаимных симпатиях, общих интересах и увлечен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3554640" y="2997360"/>
            <a:ext cx="578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Мир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- Спокойствие, поко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уверенность в завтрашнем д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900000" y="4869000"/>
            <a:ext cx="856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Понимание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- Познание, восприятие, чего-то нового или и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http://im2-tub-ru.yandex.net/i?id=209286969-19-72&amp;n=21"/>
          <p:cNvPicPr/>
          <p:nvPr/>
        </p:nvPicPr>
        <p:blipFill>
          <a:blip r:embed="rId1"/>
          <a:stretch/>
        </p:blipFill>
        <p:spPr>
          <a:xfrm>
            <a:off x="900000" y="2209680"/>
            <a:ext cx="2521080" cy="2521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179280" y="333360"/>
            <a:ext cx="8418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Сострадание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- Особое качество души человека, готовность без раздумий оказать помощь ближнему.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1079640" y="2133720"/>
            <a:ext cx="80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Любовь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- Чувство привязанности, основанное на общности интересов, идеалов, на готовности отдать свои силы общему дел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250920" y="3933720"/>
            <a:ext cx="849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Уважение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- Чувство почтения, отношение, основанное на признании достоинств, высоких качеств кого-либо, чего-либо. Признание важности, значимости, ценности; высокая оценка чего-либ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611280" y="189360"/>
            <a:ext cx="777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16 ноября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отмеча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Международный день толерантности (терпимости).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Он объявлен ЮНЕСКО в 1995 го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по случаю 50-летнего юбиле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этой организ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68360" y="3068640"/>
            <a:ext cx="4572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Люди на с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Рождаются разны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Непохожими, своеобраз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Чтобы друг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Ты смог понима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Нужно терпень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 себе воспит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Нужно с доб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К людям в дом приходи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Дружбу, любов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 своем сердце храни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AS2392"/>
          <p:cNvPicPr/>
          <p:nvPr/>
        </p:nvPicPr>
        <p:blipFill>
          <a:blip r:embed="rId1"/>
          <a:stretch/>
        </p:blipFill>
        <p:spPr>
          <a:xfrm>
            <a:off x="4932360" y="2997360"/>
            <a:ext cx="3809880" cy="3533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2_31 копи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x_561260fa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sun"/>
          <p:cNvPicPr/>
          <p:nvPr/>
        </p:nvPicPr>
        <p:blipFill>
          <a:blip r:embed="rId1"/>
          <a:stretch/>
        </p:blipFill>
        <p:spPr>
          <a:xfrm>
            <a:off x="179280" y="260280"/>
            <a:ext cx="8748720" cy="3697200"/>
          </a:xfrm>
          <a:prstGeom prst="rect">
            <a:avLst/>
          </a:prstGeom>
          <a:ln w="0">
            <a:noFill/>
          </a:ln>
        </p:spPr>
      </p:pic>
      <p:sp>
        <p:nvSpPr>
          <p:cNvPr id="77" name="WordArt 6"/>
          <p:cNvSpPr txBox="1"/>
          <p:nvPr/>
        </p:nvSpPr>
        <p:spPr>
          <a:xfrm>
            <a:off x="324000" y="4365720"/>
            <a:ext cx="8497800" cy="16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cc00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ы разные, но всё-таки мы ВМЕСТЕ!</a:t>
            </a:r>
            <a:endParaRPr b="1" lang="en-US" sz="1800" spc="1" strike="noStrike">
              <a:ln w="25560">
                <a:solidFill>
                  <a:srgbClr val="ffcc00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2:51:21Z</dcterms:created>
  <dc:creator>School</dc:creator>
  <dc:description/>
  <dc:language>en-US</dc:language>
  <cp:lastModifiedBy>Evgen</cp:lastModifiedBy>
  <dcterms:modified xsi:type="dcterms:W3CDTF">2012-11-27T18:14:36Z</dcterms:modified>
  <cp:revision>32</cp:revision>
  <dc:subject/>
  <dc:title>Мы разные, но всё-таки мы ВМЕСТЕ!</dc:title>
</cp:coreProperties>
</file>