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C07-50B9-4EA3-81F3-5036A94E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83D-9330-4E15-BF60-5F463579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DEB-D81F-493F-9BA9-E4365D90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DC7-D4B5-41DF-BECB-61A22991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497-39A3-43B3-945F-132625C9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BAF-AF32-4C2A-B8C0-7EC0B28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E2B-308F-41BE-8A5C-0F638F16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DF6-69B6-49E5-A265-F2C65DDE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F02-3CF3-4816-8C58-18DF42CA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3AD-6CF3-43B1-BD16-8B9E9948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C0A-529D-4B60-9586-369163EB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9BA-E539-4775-8BC0-B38EA559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8DF-A800-4609-80DB-2A6E75621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javascript:openwindow(&apos;biznes/0barb/teatch.jpg&apos;,&apos;497&apos;,&apos;530&apos;)" TargetMode="External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1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javascript:openwindow(&apos;biznes/0barb/lilli.jpg&apos;,&apos;320&apos;,&apos;452&apos;)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652320" y="255600"/>
            <a:ext cx="7553520" cy="1828800"/>
            <a:chOff x="652320" y="255600"/>
            <a:chExt cx="7553520" cy="1828800"/>
          </a:xfrm>
        </p:grpSpPr>
        <p:pic>
          <p:nvPicPr>
            <p:cNvPr id="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652320" y="255600"/>
              <a:ext cx="7553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14240" y="357120"/>
              <a:ext cx="74296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Цикл докладов на тему:</a:t>
              </a:r>
              <a:br>
                <a:rPr sz="2000"/>
              </a:b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4000" spc="-1" strike="noStrike">
                  <a:solidFill>
                    <a:srgbClr val="953735"/>
                  </a:solidFill>
                  <a:latin typeface="Calibri"/>
                </a:rPr>
                <a:t>Мир кукол.</a:t>
              </a:r>
              <a:br>
                <a:rPr sz="4000"/>
              </a:b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История происхождения кукл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одзаголовок 2" descr=""/>
          <p:cNvPicPr/>
          <p:nvPr/>
        </p:nvPicPr>
        <p:blipFill>
          <a:blip r:embed="rId3"/>
          <a:stretch/>
        </p:blipFill>
        <p:spPr>
          <a:xfrm>
            <a:off x="4327560" y="4900680"/>
            <a:ext cx="46832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яды для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Барб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шьют самые известные модельер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нее существуют и украшения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Барб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роскошный дом, семья с маленьким ребенком, множество автомобилей и даже само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давно она обзавелась сотовым телефоном и компьютером — ведь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Барб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ременная девушка.</a:t>
            </a: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 Для американцев она стала национальным символом. 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Администратор\Мои документы\Downloads\Барби\барби 4.jpg"/>
          <p:cNvPicPr/>
          <p:nvPr/>
        </p:nvPicPr>
        <p:blipFill>
          <a:blip r:embed="rId2"/>
          <a:stretch/>
        </p:blipFill>
        <p:spPr>
          <a:xfrm>
            <a:off x="3357720" y="3643200"/>
            <a:ext cx="2361960" cy="300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Администратор\Мои документы\Downloads\Барби\барби програмист.jpg"/>
          <p:cNvPicPr/>
          <p:nvPr/>
        </p:nvPicPr>
        <p:blipFill>
          <a:blip r:embed="rId3"/>
          <a:stretch/>
        </p:blipFill>
        <p:spPr>
          <a:xfrm>
            <a:off x="6000840" y="3643200"/>
            <a:ext cx="2595600" cy="300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Администратор\Мои документы\Downloads\Барби\барби дом.jpg"/>
          <p:cNvPicPr/>
          <p:nvPr/>
        </p:nvPicPr>
        <p:blipFill>
          <a:blip r:embed="rId4"/>
          <a:stretch/>
        </p:blipFill>
        <p:spPr>
          <a:xfrm>
            <a:off x="285840" y="3643200"/>
            <a:ext cx="2857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Карьера Барб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следователи насчитали около </a:t>
            </a:r>
            <a:r>
              <a:rPr b="1" lang="ru-RU" sz="2200" spc="-1" strike="noStrike" u="sng">
                <a:solidFill>
                  <a:srgbClr val="002060"/>
                </a:solidFill>
                <a:uFillTx/>
                <a:latin typeface="Calibri"/>
              </a:rPr>
              <a:t>70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которые освоила эта гламурная красотка, например это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исследовател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стюардесс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хирур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 руководител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продавщица кока-кол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полицейск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 - учи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ак далее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9" descr="http://nearyou.ru/0other/biznes/0barb/teatch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1214280"/>
            <a:ext cx="193356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Администратор\Мои документы\Downloads\Барби\барби повар.jpg"/>
          <p:cNvPicPr/>
          <p:nvPr/>
        </p:nvPicPr>
        <p:blipFill>
          <a:blip r:embed="rId4"/>
          <a:stretch/>
        </p:blipFill>
        <p:spPr>
          <a:xfrm>
            <a:off x="142920" y="38577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Администратор\Мои документы\Downloads\Барби\барби програмист.jpg"/>
          <p:cNvPicPr/>
          <p:nvPr/>
        </p:nvPicPr>
        <p:blipFill>
          <a:blip r:embed="rId5"/>
          <a:stretch/>
        </p:blipFill>
        <p:spPr>
          <a:xfrm>
            <a:off x="2214720" y="4786200"/>
            <a:ext cx="155232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Администратор\Мои документы\Downloads\Барби\барби космонавт.jpg"/>
          <p:cNvPicPr/>
          <p:nvPr/>
        </p:nvPicPr>
        <p:blipFill>
          <a:blip r:embed="rId6"/>
          <a:stretch/>
        </p:blipFill>
        <p:spPr>
          <a:xfrm>
            <a:off x="4143240" y="4214880"/>
            <a:ext cx="1494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00040" y="1428840"/>
            <a:ext cx="40672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В Америк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лекционирование кукол – самое популярное занят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основном это женщины до 40 л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ая из них покупает около 20 кукол в год, и почти 50% коллекционеров тратят на свое увлечение  тысячи долларов ежегодно. </a:t>
            </a:r>
            <a:br>
              <a:rPr sz="2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57840" y="1356840"/>
            <a:ext cx="41148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В Ит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  девочек и женщин больше Барби, чем численность людей, населяющих Кана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928800" y="214200"/>
            <a:ext cx="7758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1071720" y="214200"/>
            <a:ext cx="742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годня кукол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Барби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олее чем 150 странах мира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Администратор\Мои документы\Downloads\Барби\барби в нац костюмах.jpg"/>
          <p:cNvPicPr/>
          <p:nvPr/>
        </p:nvPicPr>
        <p:blipFill>
          <a:blip r:embed="rId2"/>
          <a:stretch/>
        </p:blipFill>
        <p:spPr>
          <a:xfrm>
            <a:off x="5000760" y="3500280"/>
            <a:ext cx="35780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казывается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18 раз </a:t>
            </a: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Барби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летала в космос вместе с американскими космонавтами, и все полеты были удачн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Барби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-  единственная кукла, которая стала экспонатом Парижского музея восковых фиг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Каждую секунду в мире продается от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 до 8 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кукол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Интересные факты о </a:t>
            </a:r>
            <a:r>
              <a:rPr b="1" i="1" lang="ru-RU" sz="4400" spc="-1" strike="noStrike">
                <a:solidFill>
                  <a:srgbClr val="ff0066"/>
                </a:solidFill>
                <a:latin typeface="Calibri"/>
              </a:rPr>
              <a:t>Барби</a:t>
            </a: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Администратор\Мои документы\Downloads\Барби\barbie.jpg"/>
          <p:cNvPicPr/>
          <p:nvPr/>
        </p:nvPicPr>
        <p:blipFill>
          <a:blip r:embed="rId2"/>
          <a:stretch/>
        </p:blipFill>
        <p:spPr>
          <a:xfrm>
            <a:off x="3500280" y="5643720"/>
            <a:ext cx="1635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800" y="2928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Вот такая она - Барби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5229360"/>
            <a:ext cx="64008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alibri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В наше время каждая девочка знает, кто такая Барб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любимая игрушка девочек — изящная кукла ростом чуть около 30 см, с длинными волосами и красивой фигурой. 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Она любит наряды и автомобили, всегда улыбается и довольна жизнью. 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С ней можно играть в семью, дом, работу, спорт 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                      — во все, что угодно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барби дома.jpg"/>
          <p:cNvPicPr/>
          <p:nvPr/>
        </p:nvPicPr>
        <p:blipFill>
          <a:blip r:embed="rId2"/>
          <a:stretch/>
        </p:blipFill>
        <p:spPr>
          <a:xfrm>
            <a:off x="3643200" y="4000680"/>
            <a:ext cx="2033640" cy="254628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барби дом.jpg"/>
          <p:cNvPicPr/>
          <p:nvPr/>
        </p:nvPicPr>
        <p:blipFill>
          <a:blip r:embed="rId3"/>
          <a:stretch/>
        </p:blipFill>
        <p:spPr>
          <a:xfrm>
            <a:off x="6000840" y="4572000"/>
            <a:ext cx="2827080" cy="2054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Администратор\Мои документы\Downloads\комната барби.jpg"/>
          <p:cNvPicPr/>
          <p:nvPr/>
        </p:nvPicPr>
        <p:blipFill>
          <a:blip r:embed="rId4"/>
          <a:stretch/>
        </p:blipFill>
        <p:spPr>
          <a:xfrm>
            <a:off x="395280" y="3213000"/>
            <a:ext cx="3029040" cy="261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Администратор\Мои документы\Downloads\Барби\barbie.jpg"/>
          <p:cNvPicPr/>
          <p:nvPr/>
        </p:nvPicPr>
        <p:blipFill>
          <a:blip r:embed="rId5"/>
          <a:stretch/>
        </p:blipFill>
        <p:spPr>
          <a:xfrm>
            <a:off x="1214280" y="5857920"/>
            <a:ext cx="1635120" cy="77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Администратор\Мои документы\Downloads\Барби\barbie.jpg"/>
          <p:cNvPicPr/>
          <p:nvPr/>
        </p:nvPicPr>
        <p:blipFill>
          <a:blip r:embed="rId6"/>
          <a:stretch/>
        </p:blipFill>
        <p:spPr>
          <a:xfrm>
            <a:off x="6643800" y="3357720"/>
            <a:ext cx="1635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3971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рби появилась на свет в </a:t>
            </a:r>
            <a:r>
              <a:rPr b="0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1959 году в Аме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е придум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т и Эллиот Хэндлер, основатели фирмы игруш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кла была названа в честь дочки изобретательницы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арбары - Барби (Barbie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рби - самая знаменитая кукла в истории челове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9" descr="барьби с ее мамой.jpg"/>
          <p:cNvPicPr/>
          <p:nvPr/>
        </p:nvPicPr>
        <p:blipFill>
          <a:blip r:embed="rId2"/>
          <a:stretch/>
        </p:blipFill>
        <p:spPr>
          <a:xfrm>
            <a:off x="4857840" y="1071720"/>
            <a:ext cx="38574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куда произошла кукла Барб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6" descr="барби титул.jpg"/>
          <p:cNvPicPr/>
          <p:nvPr/>
        </p:nvPicPr>
        <p:blipFill>
          <a:blip r:embed="rId2"/>
          <a:stretch/>
        </p:blipFill>
        <p:spPr>
          <a:xfrm>
            <a:off x="3857760" y="2286000"/>
            <a:ext cx="46195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285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Отдыхая в Швейцарии, Рут заметила в витрине одного из магазинов необычную куклу, которую все называли </a:t>
            </a:r>
            <a:r>
              <a:rPr b="1" lang="ru-RU" sz="3200" spc="-1" strike="noStrike" u="sng">
                <a:solidFill>
                  <a:srgbClr val="953735"/>
                </a:solidFill>
                <a:uFillTx/>
                <a:latin typeface="Calibri"/>
              </a:rPr>
              <a:t>Лил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Администратор\Мои документы\Downloads\лилли.gif"/>
          <p:cNvPicPr/>
          <p:nvPr/>
        </p:nvPicPr>
        <p:blipFill>
          <a:blip r:embed="rId2"/>
          <a:stretch/>
        </p:blipFill>
        <p:spPr>
          <a:xfrm>
            <a:off x="4143240" y="3000240"/>
            <a:ext cx="4667400" cy="3505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http://nearyou.ru/0other/biznes/0barb/lilli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2781360"/>
            <a:ext cx="3071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7252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Барби в Амер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6" descr="первая барби.gif"/>
          <p:cNvPicPr/>
          <p:nvPr/>
        </p:nvPicPr>
        <p:blipFill>
          <a:blip r:embed="rId2"/>
          <a:stretch/>
        </p:blipFill>
        <p:spPr>
          <a:xfrm>
            <a:off x="3857760" y="1143000"/>
            <a:ext cx="5113080" cy="5000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3571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первые о Барби узнали в 1959 году, во время ежегодной ярмарки детских игруш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кла была с ярким  макияжем, ярким лаком на ноготках и перламутровыми сережк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расавице был элегантный купальник в полоску, который подчеркивал ее красоту и стройность и открытые босоножки на высоких шпильк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Это кукла –женщина!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428720" y="357120"/>
            <a:ext cx="4257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мериканские девочки сразу же захотели иметь такую куклу у себя до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дь она в отличие от других игрушек сразу была взрос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нее был собственный гардероб с одеждой, красивые укра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 первый год было продано 351 тысяча кукол стоимостью 3 долл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дминистратор\Мои документы\Downloads\Барби\новые коллекции барби.gif"/>
          <p:cNvPicPr/>
          <p:nvPr/>
        </p:nvPicPr>
        <p:blipFill>
          <a:blip r:embed="rId2"/>
          <a:stretch/>
        </p:blipFill>
        <p:spPr>
          <a:xfrm>
            <a:off x="714240" y="3786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Администратор\Мои документы\Downloads\Барби\первый набор одежды барби.gif"/>
          <p:cNvPicPr/>
          <p:nvPr/>
        </p:nvPicPr>
        <p:blipFill>
          <a:blip r:embed="rId3"/>
          <a:stretch/>
        </p:blipFill>
        <p:spPr>
          <a:xfrm>
            <a:off x="214200" y="571680"/>
            <a:ext cx="3760920" cy="28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Администратор\Мои документы\Downloads\Барби\barbie.jpg"/>
          <p:cNvPicPr/>
          <p:nvPr/>
        </p:nvPicPr>
        <p:blipFill>
          <a:blip r:embed="rId4"/>
          <a:stretch/>
        </p:blipFill>
        <p:spPr>
          <a:xfrm>
            <a:off x="7508880" y="4292640"/>
            <a:ext cx="1635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3686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емья Бар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5680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о временем у красавицы появилась и своя семья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четыре сестриц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бра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два кузе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подружк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у и конечно же,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домашние животны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Documents and Settings\Администратор\Мои документы\Downloads\Барби\барби с подругами.jpg"/>
          <p:cNvPicPr/>
          <p:nvPr/>
        </p:nvPicPr>
        <p:blipFill>
          <a:blip r:embed="rId2"/>
          <a:stretch/>
        </p:blipFill>
        <p:spPr>
          <a:xfrm>
            <a:off x="4857840" y="3714840"/>
            <a:ext cx="3371760" cy="289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Администратор\Мои документы\Downloads\Барби\барби с животными.jpg"/>
          <p:cNvPicPr/>
          <p:nvPr/>
        </p:nvPicPr>
        <p:blipFill>
          <a:blip r:embed="rId3"/>
          <a:stretch/>
        </p:blipFill>
        <p:spPr>
          <a:xfrm>
            <a:off x="7020000" y="1733400"/>
            <a:ext cx="1842840" cy="184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Администратор\Мои документы\Downloads\Барби\барби - семья.gif"/>
          <p:cNvPicPr/>
          <p:nvPr/>
        </p:nvPicPr>
        <p:blipFill>
          <a:blip r:embed="rId4"/>
          <a:stretch/>
        </p:blipFill>
        <p:spPr>
          <a:xfrm>
            <a:off x="468360" y="3645000"/>
            <a:ext cx="39733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м другом для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Барб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л красивый парен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ен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 это имя сына изобретательницы Барби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том были еще многочисленные поклонники ее красоты и привлекательности. Например серфингист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лейн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о по замыслу ее создател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953735"/>
                </a:solidFill>
                <a:uFillTx/>
                <a:latin typeface="Calibri"/>
              </a:rPr>
              <a:t>Барби остается красивой, но одинокой деву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барби и кен.jpg"/>
          <p:cNvPicPr/>
          <p:nvPr/>
        </p:nvPicPr>
        <p:blipFill>
          <a:blip r:embed="rId2"/>
          <a:stretch/>
        </p:blipFill>
        <p:spPr>
          <a:xfrm>
            <a:off x="357120" y="3571920"/>
            <a:ext cx="2428920" cy="30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Администратор\Мои документы\Downloads\Барби\барби и Блейн.jpg"/>
          <p:cNvPicPr/>
          <p:nvPr/>
        </p:nvPicPr>
        <p:blipFill>
          <a:blip r:embed="rId3"/>
          <a:stretch/>
        </p:blipFill>
        <p:spPr>
          <a:xfrm>
            <a:off x="3071880" y="3571920"/>
            <a:ext cx="2119320" cy="302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Администратор\Мои документы\Downloads\Барби\барби и друзья.jpg"/>
          <p:cNvPicPr/>
          <p:nvPr/>
        </p:nvPicPr>
        <p:blipFill>
          <a:blip r:embed="rId4"/>
          <a:stretch/>
        </p:blipFill>
        <p:spPr>
          <a:xfrm>
            <a:off x="5500800" y="3571920"/>
            <a:ext cx="3286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1T02:00:53Z</dcterms:modified>
  <cp:revision>48</cp:revision>
  <dc:subject/>
  <dc:title>Цикл докладов на тему:   Мир кукол.  История происхождения Барби.</dc:title>
</cp:coreProperties>
</file>