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1623-82CD-40C3-8E60-1F93C00F9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5C0F-D649-4D47-8035-6FE2E7F2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F2BA-A12A-4255-A5B2-542EF2C11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84E5-B205-408F-AF38-060DA324A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584B-DD87-4823-A238-6ECAB20A4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F62E-E11F-4AA9-ADEC-861E4505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F554-D14E-40AB-AA0C-356EDB18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C698-34E6-42B7-AA7D-274DC9EE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66AF-3F98-44CB-B71B-88BBBD59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F4CD-15B9-4372-BDF0-7B887FC0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49C8-01C8-4745-9EB0-7BA8702F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2826-93B2-493E-A6B2-440D2D02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A635-8D38-4F3C-812F-26443B6F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1E3E-99F1-4924-AF16-54322716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7768-93DD-412A-AAB6-1D0B369B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B669-BCF8-49A5-9063-F227C7042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9BE6-F0CE-46CD-BCED-D4DA22817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A3C28-73A9-4505-ABEB-C50C41D9B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4E638-236D-4158-AF04-F4CD1D9C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6B048-8B09-4918-A257-A17F84A4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AF3E2-E62D-4F4F-BD5A-1BA44458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76EFC-C0EF-47A7-9BE6-16AEBF9D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83D6-779C-401C-AB17-6CA7E229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17EA3-A04B-4CC1-BA51-C9A8F4E8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36602-0424-46EF-A22C-4C8C3653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9F7E9-339B-43D2-808A-FADFAFAB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F4B41-716E-49E3-BE2D-50101D4B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EFAEF-C609-43A1-8F27-92C25C86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77312-1CD0-4354-9DB8-089CD7DF4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369D3-31E5-4766-BC2F-DEBE2E9FD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44E0E-39D2-48AF-9092-CCBC486D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E62BB-D15C-4A5C-8D07-7B1C31C9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AD7A5-0D07-4D29-B408-D2CD60D3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7636-5AC9-403D-AF43-C7EFA281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06E58-EA99-4037-B05F-70592E9D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8FCDE-97A4-4C11-A8B1-4F317B31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A6982-9738-48E0-BC97-65791CA2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A8DF6-7367-4C88-8096-EA08A318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E523A-C073-4EF0-AE1F-3D54BE4B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47F64-8432-4EED-ADB9-F34477AA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2281C-79B5-4CDB-BC62-64947A49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DC0B0-A702-4737-98B7-91713B835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00309-4345-49FF-961D-C8E270FC4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7A12D-AA47-4EFB-B3C2-2A905A1F6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3C5B-DB35-4C38-A487-4F0ED82F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870BB-D311-481E-BC22-2E328769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EDF91-7991-4814-9F17-CF269883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FD183-E44A-4FEA-995A-47D891EB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9ABBB-6A3E-4087-86CD-236E2C70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A038A-61EE-41BC-BC2F-1DE7CD4C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DCE12-448E-4703-A71B-CB29BD8F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06C66-7A4B-4F8D-ABF1-E2FC264C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7B890-71A9-4917-8DA9-73A947D1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3ED8B-6BA4-4744-ACAD-DF6013F5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0D3D0-CD09-4A5D-A566-0F104EE47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A3F2-69A3-44D4-87F2-E3EAE40F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67E10-08B2-4A32-8643-3AF14FFD7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8A72C-F19E-4F8D-93E5-61E2FB011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89CF1-E47D-4495-A687-819C439F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68F11-C738-49F1-99AE-C6532080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99401-258B-4C55-96CB-5B6F5ACD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227EF-D332-457B-9669-1D732CB0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E3333-6305-4BF4-BADA-FC59662F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138BA-E451-4D5D-8067-914A2C6B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ACF75-CA9B-4437-B3B2-76599E22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21DBD-6D25-4DB7-9ECD-D7E23BB5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DD20-70DB-47AC-8A10-8E55C5A7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CCD05-116B-43F7-AB92-F8BBC2A2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0CFEE-D27D-4117-B1E3-E1E2E32B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6246E-47FF-41E6-A5C0-FAA516289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5588D-A9D4-41EC-90D2-01101A267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540CA-2705-45B4-839B-841C6D4B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AE9DC-CAE3-46BF-8829-9F4665A2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F012F-F15E-40B9-B5F3-9F102D9D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BE47B-AD10-4E42-BB3D-AC3E0E8C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88A38-7DEB-4F67-8C62-B2AC7AEE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08E5B-ADC8-4970-B436-B091591D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12C9-272D-45CB-B70F-6611F2C7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A1893-A12D-47E3-A6E0-0DACF202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11389-60FF-4C2D-8D51-BA8FEF50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4DB62-0949-4FAE-A907-77B6964B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B3B59-615F-443D-AFB2-D61603E45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7F27B-70BC-44A8-9492-B6AD10024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72299-E8B0-478D-85E3-57B092467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4D19B-2C42-4483-AD1B-0C21A3F8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4FE7E-9C28-47C2-AE0C-87589FDA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49537-F690-47D8-9CF0-6E5C7585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5FF27-D300-480D-8FBB-7B2AC11F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8C25-66B2-45C3-8F99-24E62A68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6C09A-E47C-4B96-B849-9079336A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C850D-38C8-4272-9AA1-864CB79F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A4258-21AC-4135-B6A7-652330CC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36497-338D-42A7-8E8B-A4220BEF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1CFDE-8268-4E73-B4D6-F1387CB3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F4BC9-B75F-4796-AC45-9E357B8CF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9A479-62C8-4DB9-AF7D-6304D0FC1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F84F-32D6-4483-B04C-887A62EBBF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CC7E-6929-45AC-8E8F-1634EEDF324A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E5BA-0D92-4690-AEA4-C77429ABAB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5C9B-C402-4470-9177-27E2FCB47C4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5504-8935-454D-BFF1-415B53B62B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9DE6-5B6D-4528-A4BF-DB33731CD4BB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23D4-93CC-49A3-8CB6-208DBE1948D3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F94D-1D49-4E19-9683-8E3A8653A2C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2" descr=""/>
          <p:cNvPicPr/>
          <p:nvPr/>
        </p:nvPicPr>
        <p:blipFill>
          <a:blip r:embed="rId1"/>
          <a:stretch/>
        </p:blipFill>
        <p:spPr>
          <a:xfrm>
            <a:off x="317520" y="219240"/>
            <a:ext cx="7388280" cy="21459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Изображение 002"/>
          <p:cNvPicPr/>
          <p:nvPr/>
        </p:nvPicPr>
        <p:blipFill>
          <a:blip r:embed="rId2"/>
          <a:srcRect l="11785" t="0" r="0" b="8045"/>
          <a:stretch/>
        </p:blipFill>
        <p:spPr>
          <a:xfrm>
            <a:off x="1619280" y="2492280"/>
            <a:ext cx="4564080" cy="4135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Заголовок 9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7200" y="17226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Рассказать, что видели, куда ходили, что случилось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Использование настольного театра, инсценирование отрывков из РНС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Знать и пересказывать РНС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Фантазировать, воображать, сочинять свои сказки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Воспитание добрых чувств к РНС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Результаты за 3 года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Высокий – 40%, средний – 60%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Участвовала в областном конкурсе передового педагогического опыта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Призер районного конкурса «Занятие года», «Современный урок»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Диплом победителя районного конкурса «Персональное портфолио педагога»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На педсоветах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Семинарах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Конференциях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РМО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Победитель районного конкурса «Учитель года «2011»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Участник окружного конкурса «Учитель года» в Западном образовательном округе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2" name="Заголовок 8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571680" y="428400"/>
            <a:ext cx="73864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entury Gothic"/>
              </a:rPr>
              <a:t>Программа «От рождения до школы» под редакцией Н.Е. Вераксы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Образовательные области: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«Здоровье»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«Физическая культура»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«Безопасность»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«Социализация»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«Труд»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«Познание»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«Коммуникация»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«Чтение художественной литературы»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«Художественное  творчество»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«Музыка»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Заголовок 4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59840" cy="14079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«Математические ступеньки» под редакцией Е.В. Колесниковой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«Развиваем речь» под редакцией О.С. Ушаковой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«Цветные ладошки» под редакцией И.А. Лыковой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«Методика экологического воспитания в детском саду» под редакцией С.Н. Николаевой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Заголовок 4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242560" cy="21211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7200" y="23493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Цель: Развивать желание и умение детей играть в подвижные игры, в ходе которых, совершенствуются основные движения (ходьба, бег, бросание и катание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Задачи: Развивать активность и творчество детей, организовывать игры с правилами, воспитывать у детей умение соблюдать элементарные правила, согласовывать движения, ориентироваться в пространстве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За 3 года диагностические данные: высокий-26%, средний-70%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Заголовок 4" descr=""/>
          <p:cNvPicPr/>
          <p:nvPr/>
        </p:nvPicPr>
        <p:blipFill>
          <a:blip r:embed="rId1"/>
          <a:stretch/>
        </p:blipFill>
        <p:spPr>
          <a:xfrm>
            <a:off x="463680" y="182520"/>
            <a:ext cx="8242200" cy="14083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457200" y="148392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Веселая математика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Уголок природы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Книжный уголок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Музыкальный уголок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Спортивный уголок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Уголок изодеятельности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Уголок здоровья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Игровые уголки для мальчиков и девочек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Уголки уединения и расслабления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Заголовок 4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«Утренняя звезда»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«Я и педагог»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«Веселые вытворяшки»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«Мама, папа, я – спортивная семья»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«Легкоатлетический пробег»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Заголовок 4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entury Gothic"/>
              </a:rPr>
              <a:t>Традиционные формы: открытые занятия в детском саду для родителей и учителей начальных классов, совместные родительские собрания, школа развития на базе средней школы пгт Даровской, экскурсии по школе, встречи с учащимся школы бывшими воспитанниками детского сада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entury Gothic"/>
              </a:rPr>
              <a:t>Новые формы: административно-групповые совещания с приглашением психолога ,педиатра, логопеда, заместителя директора по УВР школы; творческие конкурсы с участием родителей и воспитанников подготовительной группы 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324000" y="2375640"/>
            <a:ext cx="7005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« Воспитание сказкой» Л.Б. Фесюк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«Целительная сила сказок» З. Брокет Г. Шрейб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«От трех до семи» Л.Б. Фесик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«Русские народные сказки» О.Н. Капи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«Русские народные сказки» А.Н. Афанась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«Русская народная сказка» В.П. Аник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«Рассказать тебе сказку» В.А. Порудомин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«Дошкольное воспитание» №1, 2005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«Ребенок в детском саду» №4, 2006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28760" y="1928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СПАСИБО ЗА ВНИМАНИЕ !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Rectangle 2" descr=""/>
          <p:cNvPicPr/>
          <p:nvPr/>
        </p:nvPicPr>
        <p:blipFill>
          <a:blip r:embed="rId1"/>
          <a:stretch/>
        </p:blipFill>
        <p:spPr>
          <a:xfrm>
            <a:off x="-6480" y="1365120"/>
            <a:ext cx="7755120" cy="2067120"/>
          </a:xfrm>
          <a:prstGeom prst="rect">
            <a:avLst/>
          </a:prstGeom>
          <a:ln w="0">
            <a:noFill/>
          </a:ln>
        </p:spPr>
      </p:pic>
      <p:pic>
        <p:nvPicPr>
          <p:cNvPr id="348" name="Rectangle 3" descr=""/>
          <p:cNvPicPr/>
          <p:nvPr/>
        </p:nvPicPr>
        <p:blipFill>
          <a:blip r:embed="rId2"/>
          <a:stretch/>
        </p:blipFill>
        <p:spPr>
          <a:xfrm>
            <a:off x="536400" y="2243160"/>
            <a:ext cx="8071200" cy="1768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4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541000" cy="6267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entury Gothic"/>
              </a:rPr>
              <a:t>Предстоит осваивать не всегда похожие формы деятельности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entury Gothic"/>
              </a:rPr>
              <a:t>Вырабатывать иной стиль отношения со сверстниками и взрослыми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2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entury Gothic"/>
              </a:rPr>
              <a:t>Физиологически перестраиваться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cover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Формирование готовности ребенка к школьному обучению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cover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Мотивационная готовность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Умственная или познавательная готовность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Волевая готовность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Коммуникативная готовность</a:t>
            </a: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cover dir="u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«Развитие умственных способностей детей через загадки»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«Развитие познавательных способностей детей через дидактические игры на занятиях по ФЭМП»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Century Gothic"/>
              </a:rPr>
              <a:t>Высокий  и средний уровень детей к обучению в школу составляет 90-97%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Rectangle 2" descr=""/>
          <p:cNvPicPr/>
          <p:nvPr/>
        </p:nvPicPr>
        <p:blipFill>
          <a:blip r:embed="rId1"/>
          <a:stretch/>
        </p:blipFill>
        <p:spPr>
          <a:xfrm>
            <a:off x="353880" y="-219240"/>
            <a:ext cx="8240760" cy="106704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60480" y="499680"/>
            <a:ext cx="90835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-3747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«Развитие познавательного интереса к русской народной сказке у детей в процессе занятий»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Оптимизм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Образность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Забавность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Дидактизм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Эти особенности сказок и позволяют использовать их при решении педагогических задач.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686800" y="6202440"/>
            <a:ext cx="619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447840" indent="-382680">
              <a:lnSpc>
                <a:spcPct val="60000"/>
              </a:lnSpc>
              <a:spcBef>
                <a:spcPts val="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Diagram 18"/>
          <p:cNvGrpSpPr/>
          <p:nvPr/>
        </p:nvGrpSpPr>
        <p:grpSpPr>
          <a:xfrm>
            <a:off x="1105920" y="558720"/>
            <a:ext cx="5816160" cy="5666400"/>
            <a:chOff x="1105920" y="558720"/>
            <a:chExt cx="5816160" cy="5666400"/>
          </a:xfrm>
        </p:grpSpPr>
        <p:sp>
          <p:nvSpPr>
            <p:cNvPr id="362" name="_s1028"/>
            <p:cNvSpPr/>
            <p:nvPr/>
          </p:nvSpPr>
          <p:spPr>
            <a:xfrm flipH="1" flipV="1">
              <a:off x="2853000" y="2580480"/>
              <a:ext cx="585000" cy="462240"/>
            </a:xfrm>
            <a:prstGeom prst="line">
              <a:avLst/>
            </a:prstGeom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_s1029"/>
            <p:cNvSpPr/>
            <p:nvPr/>
          </p:nvSpPr>
          <p:spPr>
            <a:xfrm>
              <a:off x="1535760" y="1386720"/>
              <a:ext cx="1479240" cy="1468800"/>
            </a:xfrm>
            <a:prstGeom prst="ellipse">
              <a:avLst/>
            </a:prstGeom>
            <a:noFill/>
            <a:ln w="28440">
              <a:solidFill>
                <a:srgbClr val="ff38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.Воспитани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нравственност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_s1030"/>
            <p:cNvSpPr/>
            <p:nvPr/>
          </p:nvSpPr>
          <p:spPr>
            <a:xfrm flipH="1">
              <a:off x="2567160" y="3661920"/>
              <a:ext cx="729360" cy="165240"/>
            </a:xfrm>
            <a:prstGeom prst="line">
              <a:avLst/>
            </a:prstGeom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_s1031"/>
            <p:cNvSpPr/>
            <p:nvPr/>
          </p:nvSpPr>
          <p:spPr>
            <a:xfrm>
              <a:off x="1105920" y="3256560"/>
              <a:ext cx="1478520" cy="1468800"/>
            </a:xfrm>
            <a:prstGeom prst="ellipse">
              <a:avLst/>
            </a:prstGeom>
            <a:noFill/>
            <a:ln w="28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7.Сказка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развивает рук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_s1032"/>
            <p:cNvSpPr/>
            <p:nvPr/>
          </p:nvSpPr>
          <p:spPr>
            <a:xfrm flipH="1">
              <a:off x="3369240" y="4157280"/>
              <a:ext cx="323640" cy="669600"/>
            </a:xfrm>
            <a:prstGeom prst="line">
              <a:avLst/>
            </a:prstGeom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_s1033"/>
            <p:cNvSpPr/>
            <p:nvPr/>
          </p:nvSpPr>
          <p:spPr>
            <a:xfrm>
              <a:off x="2309760" y="4756320"/>
              <a:ext cx="1479240" cy="1468800"/>
            </a:xfrm>
            <a:prstGeom prst="ellipse">
              <a:avLst/>
            </a:prstGeom>
            <a:noFill/>
            <a:ln w="28440">
              <a:solidFill>
                <a:srgbClr val="ff7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.Сказк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и экологи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_s1034"/>
            <p:cNvSpPr/>
            <p:nvPr/>
          </p:nvSpPr>
          <p:spPr>
            <a:xfrm>
              <a:off x="4331880" y="4157280"/>
              <a:ext cx="323640" cy="669600"/>
            </a:xfrm>
            <a:prstGeom prst="line">
              <a:avLst/>
            </a:prstGeom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_s1035"/>
            <p:cNvSpPr/>
            <p:nvPr/>
          </p:nvSpPr>
          <p:spPr>
            <a:xfrm>
              <a:off x="4241160" y="4756320"/>
              <a:ext cx="1479240" cy="1468800"/>
            </a:xfrm>
            <a:prstGeom prst="ellipse">
              <a:avLst/>
            </a:prstGeom>
            <a:noFill/>
            <a:ln w="28440">
              <a:solidFill>
                <a:srgbClr val="e40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Сказка и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математик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_s1036"/>
            <p:cNvSpPr/>
            <p:nvPr/>
          </p:nvSpPr>
          <p:spPr>
            <a:xfrm>
              <a:off x="4731120" y="3661920"/>
              <a:ext cx="726840" cy="165240"/>
            </a:xfrm>
            <a:prstGeom prst="line">
              <a:avLst/>
            </a:prstGeom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_s1037"/>
            <p:cNvSpPr/>
            <p:nvPr/>
          </p:nvSpPr>
          <p:spPr>
            <a:xfrm>
              <a:off x="5442840" y="3256560"/>
              <a:ext cx="1479240" cy="1468800"/>
            </a:xfrm>
            <a:prstGeom prst="ellipse">
              <a:avLst/>
            </a:prstGeom>
            <a:noFill/>
            <a:ln w="28440">
              <a:solidFill>
                <a:srgbClr val="ff38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Развити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мышления 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воображени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_s1038"/>
            <p:cNvSpPr/>
            <p:nvPr/>
          </p:nvSpPr>
          <p:spPr>
            <a:xfrm flipV="1">
              <a:off x="4589640" y="2580480"/>
              <a:ext cx="582480" cy="462240"/>
            </a:xfrm>
            <a:prstGeom prst="line">
              <a:avLst/>
            </a:prstGeom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_s1039"/>
            <p:cNvSpPr/>
            <p:nvPr/>
          </p:nvSpPr>
          <p:spPr>
            <a:xfrm>
              <a:off x="5013000" y="1388880"/>
              <a:ext cx="1478520" cy="1469160"/>
            </a:xfrm>
            <a:prstGeom prst="ellipse">
              <a:avLst/>
            </a:prstGeom>
            <a:noFill/>
            <a:ln w="28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.Сказка и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физическо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воспитани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_s1040"/>
            <p:cNvSpPr/>
            <p:nvPr/>
          </p:nvSpPr>
          <p:spPr>
            <a:xfrm flipV="1">
              <a:off x="4012920" y="2025360"/>
              <a:ext cx="0" cy="741960"/>
            </a:xfrm>
            <a:prstGeom prst="line">
              <a:avLst/>
            </a:prstGeom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_s1041"/>
            <p:cNvSpPr/>
            <p:nvPr/>
          </p:nvSpPr>
          <p:spPr>
            <a:xfrm>
              <a:off x="3274560" y="558720"/>
              <a:ext cx="1478520" cy="1468800"/>
            </a:xfrm>
            <a:prstGeom prst="ellipse">
              <a:avLst/>
            </a:prstGeom>
            <a:noFill/>
            <a:ln w="28440">
              <a:solidFill>
                <a:srgbClr val="ff79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Воспитани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добрых чувств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_s1042"/>
            <p:cNvSpPr/>
            <p:nvPr/>
          </p:nvSpPr>
          <p:spPr>
            <a:xfrm>
              <a:off x="3274560" y="2767680"/>
              <a:ext cx="1478520" cy="1468800"/>
            </a:xfrm>
            <a:prstGeom prst="ellipse">
              <a:avLst/>
            </a:prstGeom>
            <a:noFill/>
            <a:ln w="28440">
              <a:solidFill>
                <a:srgbClr val="17b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РНС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07:58:51Z</dcterms:created>
  <dc:creator>Елена Анатольенва Поздина</dc:creator>
  <dc:description/>
  <dc:language>en-US</dc:language>
  <cp:lastModifiedBy>Дима</cp:lastModifiedBy>
  <dcterms:modified xsi:type="dcterms:W3CDTF">2012-11-22T15:06:44Z</dcterms:modified>
  <cp:revision>21</cp:revision>
  <dc:subject/>
  <dc:title> Вера Михайловна Мочалова,  воспитатель муниципального дошкольного  образовательного учреждения  детский сад общеразвивающего вида № 1 пгт Даровской  (педагогический стаж – 25 лет первая квалификационная категория)</dc:title>
</cp:coreProperties>
</file>