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4E79-061A-4BE0-ADE6-9545C298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65DF-6669-41C5-83EA-BEC17AF3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F6A4-899E-41C9-A60B-959C14F2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C2B-2895-463A-9F87-ECCB91B1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E1DA-A40D-4FA3-8AB5-B70FDE04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A91E-C041-4A71-B7B4-D3CF91FE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9916-CB90-4EF9-B5DE-EC0DACDE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CABA-2733-496C-90EE-9A625E62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FD88-270D-47AD-861B-83BCB8FB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AFB1-7612-4A1C-8EAC-0A4E1951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EA7F-DD37-402A-BF9F-46991495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A7E2-A4F7-4DE9-9257-B925D4B1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D5D8-06FB-4A0A-BC1B-924A57D5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396D-19D0-4A65-ABAD-7F61E6E1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2EDD-403C-4C5A-BC48-FFD03969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21F9-9885-429C-BB35-4D351050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FB4C-9EF2-40B3-8005-EEFAF010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93B2-483D-4F22-B5DF-34AB9213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B46D-25C9-4E1C-82AF-A668A35C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908A-B5DE-4C20-97E7-7115787E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2EEE-BD7B-4746-BA2C-B36E0BCD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AA08-1DAF-4F49-8C23-4064E44B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CC3D-4D64-4A4C-A876-76D0DECB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15AF-5995-4E5C-90BF-23309E4B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D554-1CDA-4B7F-B3DF-7D88998543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9FDE-94E9-42B1-B626-FE294053B9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hyperlink" Target="http://ru.wikipedia.org/wiki/&#1060;&#1072;&#1081;&#1083;:Leipziger_Rathaus_(Frontansicht).jpg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ru.wikipedia.org/wiki/&#1060;&#1072;&#1081;&#1083;:Leipzig_Thomaskirche_2009.jpg" TargetMode="Externa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ru.wikipedia.org/wiki/&#1060;&#1072;&#1081;&#1083;:Flag_of_Germany_(state).svg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1484280"/>
            <a:ext cx="705492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Script MT Bold"/>
              </a:rPr>
              <a:t>«</a:t>
            </a:r>
            <a:r>
              <a:rPr b="0" lang="en-US" sz="8800" spc="-1" strike="noStrike">
                <a:solidFill>
                  <a:srgbClr val="ffffff"/>
                </a:solidFill>
                <a:latin typeface="Script MT Bold"/>
              </a:rPr>
              <a:t>Wie orientiert man sich in der Stadt?</a:t>
            </a:r>
            <a:r>
              <a:rPr b="0" lang="ru-RU" sz="8800" spc="-1" strike="noStrike">
                <a:solidFill>
                  <a:srgbClr val="ffffff"/>
                </a:solidFill>
                <a:latin typeface="Script MT Bold"/>
              </a:rPr>
              <a:t>»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5376600"/>
            <a:ext cx="11088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 Black"/>
              </a:rPr>
              <a:t>Raten mal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Diese Stadt hat mehrer Name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n nennt die Stadt des Buches und die Stadt der Musik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m 19. Jarhundert wurde hier eine B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ü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hermesse gegründ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Lucida Calligraphy"/>
              </a:rPr>
              <a:t>Leipzig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5733720"/>
            <a:ext cx="50004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254304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724360" y="1413000"/>
            <a:ext cx="2533680" cy="1904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rcRect l="0" t="35281" r="0" b="0"/>
          <a:stretch/>
        </p:blipFill>
        <p:spPr>
          <a:xfrm>
            <a:off x="611280" y="3933720"/>
            <a:ext cx="2857320" cy="1849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796000" y="3860640"/>
            <a:ext cx="254304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19640" y="1484280"/>
            <a:ext cx="2197080" cy="16509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80000" y="3573360"/>
            <a:ext cx="1434960" cy="2349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780000" y="5877000"/>
            <a:ext cx="20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ma-Kirc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306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te Ratha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3357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ue Raha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6000" y="3284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ücherme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 Black"/>
              </a:rPr>
              <a:t>Raten mal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3640" y="1904760"/>
            <a:ext cx="8521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Diese Stadt ist  die  schönste  Stadt  Deutschlands.  Sie  liegt  an  der  Elbe, und  man  nennt  die  Stadt  das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Elb-Florenz. Hier  befindet  sich   weltberümte  Gemäldegaleri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Lucida Calligraphy"/>
              </a:rPr>
              <a:t>Dresde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5998680"/>
            <a:ext cx="81000" cy="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Дрезден - лучшие достопримечательности"/>
          <p:cNvPicPr/>
          <p:nvPr/>
        </p:nvPicPr>
        <p:blipFill>
          <a:blip r:embed="rId1"/>
          <a:stretch/>
        </p:blipFill>
        <p:spPr>
          <a:xfrm>
            <a:off x="3276720" y="1270080"/>
            <a:ext cx="2160360" cy="2144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Дрезден - лучшие достопримечательности"/>
          <p:cNvPicPr/>
          <p:nvPr/>
        </p:nvPicPr>
        <p:blipFill>
          <a:blip r:embed="rId2"/>
          <a:stretch/>
        </p:blipFill>
        <p:spPr>
          <a:xfrm>
            <a:off x="6084720" y="1128600"/>
            <a:ext cx="3059280" cy="2141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Дрезден - лучшие достопримечательности"/>
          <p:cNvPicPr/>
          <p:nvPr/>
        </p:nvPicPr>
        <p:blipFill>
          <a:blip r:embed="rId3"/>
          <a:stretch/>
        </p:blipFill>
        <p:spPr>
          <a:xfrm>
            <a:off x="468360" y="4076640"/>
            <a:ext cx="2592360" cy="1933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Дрезден - лучшие достопримечательности"/>
          <p:cNvPicPr/>
          <p:nvPr/>
        </p:nvPicPr>
        <p:blipFill>
          <a:blip r:embed="rId4"/>
          <a:stretch/>
        </p:blipFill>
        <p:spPr>
          <a:xfrm>
            <a:off x="6659640" y="3645000"/>
            <a:ext cx="1722240" cy="2341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Дрезден - лучшие достопримечательности"/>
          <p:cNvPicPr/>
          <p:nvPr/>
        </p:nvPicPr>
        <p:blipFill>
          <a:blip r:embed="rId5"/>
          <a:stretch/>
        </p:blipFill>
        <p:spPr>
          <a:xfrm>
            <a:off x="3564000" y="4221000"/>
            <a:ext cx="2376360" cy="1681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22880" y="335772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Golden Horsem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595008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hurch of Christ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6093000"/>
            <a:ext cx="25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Zwing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4720" y="3213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mperop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64000" y="5877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anger Ga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35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lbe Schloss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Дрезден - лучшие достопримечательности"/>
          <p:cNvPicPr/>
          <p:nvPr/>
        </p:nvPicPr>
        <p:blipFill>
          <a:blip r:embed="rId6"/>
          <a:stretch/>
        </p:blipFill>
        <p:spPr>
          <a:xfrm>
            <a:off x="250920" y="981000"/>
            <a:ext cx="255744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249192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Wollt ihr eine Großstadt sehen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Und durch ihre Stra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  <a:ea typeface="Arial"/>
              </a:rPr>
              <a:t>ß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en gehen?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Seht, wie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stark ist der Verkehr!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Autos fahren hin und her!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5799240"/>
            <a:ext cx="29052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0" t="15078" r="53951" b="67133"/>
          <a:stretch/>
        </p:blipFill>
        <p:spPr>
          <a:xfrm>
            <a:off x="826920" y="4869000"/>
            <a:ext cx="1944720" cy="12920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5" name="" descr=""/>
          <p:cNvPicPr/>
          <p:nvPr/>
        </p:nvPicPr>
        <p:blipFill>
          <a:blip r:embed="rId2"/>
          <a:srcRect l="0" t="72630" r="58104" b="6829"/>
          <a:stretch/>
        </p:blipFill>
        <p:spPr>
          <a:xfrm>
            <a:off x="6443640" y="4707000"/>
            <a:ext cx="2017800" cy="15112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6" name="" descr=""/>
          <p:cNvPicPr/>
          <p:nvPr/>
        </p:nvPicPr>
        <p:blipFill>
          <a:blip r:embed="rId3"/>
          <a:srcRect l="41856" t="51648" r="14169" b="29153"/>
          <a:stretch/>
        </p:blipFill>
        <p:spPr>
          <a:xfrm>
            <a:off x="6372360" y="404640"/>
            <a:ext cx="2158920" cy="1440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7" name="" descr=""/>
          <p:cNvPicPr/>
          <p:nvPr/>
        </p:nvPicPr>
        <p:blipFill>
          <a:blip r:embed="rId4"/>
          <a:srcRect l="41856" t="12326" r="18367" b="67133"/>
          <a:stretch/>
        </p:blipFill>
        <p:spPr>
          <a:xfrm>
            <a:off x="3419640" y="404640"/>
            <a:ext cx="1871640" cy="147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8" name="" descr=""/>
          <p:cNvPicPr/>
          <p:nvPr/>
        </p:nvPicPr>
        <p:blipFill>
          <a:blip r:embed="rId5"/>
          <a:srcRect l="0" t="32871" r="56025" b="49306"/>
          <a:stretch/>
        </p:blipFill>
        <p:spPr>
          <a:xfrm>
            <a:off x="684360" y="404640"/>
            <a:ext cx="2016000" cy="1295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9" name="" descr=""/>
          <p:cNvPicPr/>
          <p:nvPr/>
        </p:nvPicPr>
        <p:blipFill>
          <a:blip r:embed="rId6"/>
          <a:srcRect l="0" t="52055" r="53951" b="27374"/>
          <a:stretch/>
        </p:blipFill>
        <p:spPr>
          <a:xfrm>
            <a:off x="3419640" y="4797360"/>
            <a:ext cx="2160360" cy="14018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00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66ff33"/>
                </a:solidFill>
                <a:latin typeface="Arial Black"/>
              </a:rPr>
              <a:t>Was passt zusammen?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s Licht 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с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r Bus 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останов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e Straßenbahn 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останавлива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lten an 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прям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lang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вдоль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m die Ecke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трамв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r Verkehr 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ход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e Verkehrsampel                 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светоф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ssteigen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на угл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radeaus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дви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e Haltestelle 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автоб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s Licht 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с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r Bus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автобу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aßenbahn 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трамв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lten an 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танавлива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r Verkehr 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и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e Verkehrsampel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етоф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steigen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выходит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e Haltestelle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останов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lang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до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radeaus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прям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m die Ecke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угл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385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Lucida Calligraphy"/>
              </a:rPr>
              <a:t>Spielen wir mit Verkehrszeichn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Vollenden wir die Sätze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8126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Wir sind Touristen. Wie fragen wir nach dem Weg</a:t>
            </a: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gen Sie bitte, wie komme ich…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к автобусной остановке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önnen Sie mir bitte sagen, wo sich hier in der 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ä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e…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(станция метро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efindet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tschuldigen Sie bitte, wie komme, ich…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(к аптеке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ir antworten einem deutschen Touristen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hen Sie die Stra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 entlang bis zum…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(переход улицы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ehen Sie zur Haltestelle und fahren Sie dann mit dem Bus….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(площадь Пушкин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Überqueren Sie den Platz und biegen Sie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(на лево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n die erste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(переулок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e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Lucida Handwriting"/>
              </a:rPr>
              <a:t>Phonetische Übung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Fischer Fritz fischt frische Fisch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1"/>
                </a:solidFill>
                <a:latin typeface="Arial"/>
              </a:rPr>
              <a:t>Eine lange Schlange ringlet sich um eine lange Stang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Ach! Wir machen einen  Drachen mit Papier, Schnur und Scher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933"/>
                </a:solidFill>
                <a:latin typeface="Lucida Calligraphy"/>
              </a:rPr>
              <a:t>Schlu</a:t>
            </a:r>
            <a:r>
              <a:rPr b="1" i="1" lang="en-US" sz="5400" spc="-1" strike="noStrike">
                <a:solidFill>
                  <a:srgbClr val="ff9933"/>
                </a:solidFill>
                <a:latin typeface="Lucida Calligraphy"/>
                <a:ea typeface="Arial"/>
              </a:rPr>
              <a:t>ßfolgerung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as haben wir heute gemach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abt ihr alles verstande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7720" y="5733720"/>
            <a:ext cx="360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628640"/>
            <a:ext cx="8785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Lucida Handwriting"/>
              </a:rPr>
              <a:t>Auf Wiedersehen!</a:t>
            </a:r>
            <a:br>
              <a:rPr sz="8800"/>
            </a:br>
            <a:r>
              <a:rPr b="1" i="1" lang="en-US" sz="8800" spc="-1" strike="noStrike">
                <a:solidFill>
                  <a:srgbClr val="ffffff"/>
                </a:solidFill>
                <a:latin typeface="Lucida Handwriting"/>
              </a:rPr>
              <a:t>Alles Gute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36057" t="5549" r="15286" b="3736"/>
          <a:stretch/>
        </p:blipFill>
        <p:spPr>
          <a:xfrm>
            <a:off x="4859280" y="1413000"/>
            <a:ext cx="3665520" cy="5113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4089240" cy="5248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Flag of Germany (state)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411280" cy="1447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340000" y="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0404"/>
                </a:solidFill>
                <a:latin typeface="Lucida Handwriting"/>
              </a:rPr>
              <a:t>Bundes</a:t>
            </a:r>
            <a:r>
              <a:rPr b="1" lang="en-US" sz="4000" spc="-1" strike="noStrike">
                <a:solidFill>
                  <a:srgbClr val="ffffff"/>
                </a:solidFill>
                <a:latin typeface="Lucida Handwriting"/>
              </a:rPr>
              <a:t>      </a:t>
            </a:r>
            <a:r>
              <a:rPr b="1" lang="en-US" sz="4000" spc="-1" strike="noStrike">
                <a:solidFill>
                  <a:srgbClr val="ff0000"/>
                </a:solidFill>
                <a:latin typeface="Lucida Handwriting"/>
              </a:rPr>
              <a:t>Republik </a:t>
            </a:r>
            <a:r>
              <a:rPr b="1" lang="en-US" sz="4000" spc="-1" strike="noStrike">
                <a:solidFill>
                  <a:srgbClr val="ffff66"/>
                </a:solidFill>
                <a:latin typeface="Lucida Handwriting"/>
              </a:rPr>
              <a:t>Deutschl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Lucida Handwriting"/>
              </a:rPr>
              <a:t>Berlin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Lucida Handwriting"/>
              </a:rPr>
              <a:t>Berliner Rathaus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36760" y="1905120"/>
            <a:ext cx="68086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Lucida Handwriting"/>
              </a:rPr>
              <a:t>Reichsta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i-main-pic" descr="Картинка 16 из 199"/>
          <p:cNvPicPr/>
          <p:nvPr/>
        </p:nvPicPr>
        <p:blipFill>
          <a:blip r:embed="rId1"/>
          <a:stretch/>
        </p:blipFill>
        <p:spPr>
          <a:xfrm>
            <a:off x="826920" y="1557360"/>
            <a:ext cx="7056720" cy="45147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Lucida Handwriting"/>
              </a:rPr>
              <a:t>Branderburger</a:t>
            </a:r>
            <a:r>
              <a:rPr b="1" i="1" lang="en-US" sz="4400" spc="-1" strike="noStrike">
                <a:solidFill>
                  <a:srgbClr val="00cc00"/>
                </a:solidFill>
                <a:latin typeface="Lucida Handwriting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Lucida Handwriting"/>
              </a:rPr>
              <a:t>To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BLOGGER_PHOTO_ID_5197920882026374626" descr="Берлин, карта, достопримечательности, фото Берлина"/>
          <p:cNvPicPr/>
          <p:nvPr/>
        </p:nvPicPr>
        <p:blipFill>
          <a:blip r:embed="rId1"/>
          <a:stretch/>
        </p:blipFill>
        <p:spPr>
          <a:xfrm>
            <a:off x="1403280" y="1413000"/>
            <a:ext cx="6081840" cy="47052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Lucida Handwriting"/>
              </a:rPr>
              <a:t>Berliner Do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1216080"/>
            <a:ext cx="654516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Lucida Handwriting"/>
              </a:rPr>
              <a:t>Berliner Zo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686412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771640" y="2997360"/>
            <a:ext cx="3386160" cy="20844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Lucida Calligraphy"/>
              </a:rPr>
              <a:t>Berli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940360" y="4581360"/>
            <a:ext cx="2957400" cy="1922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50920" y="83664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20" name="BLOGGER_PHOTO_ID_5197920882026374626" descr="Берлин, карта, достопримечательности, фото Берлина"/>
          <p:cNvPicPr/>
          <p:nvPr/>
        </p:nvPicPr>
        <p:blipFill>
          <a:blip r:embed="rId4"/>
          <a:stretch/>
        </p:blipFill>
        <p:spPr>
          <a:xfrm>
            <a:off x="5940360" y="981000"/>
            <a:ext cx="2768760" cy="21416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i-main-pic" descr="Картинка 16 из 199"/>
          <p:cNvPicPr/>
          <p:nvPr/>
        </p:nvPicPr>
        <p:blipFill>
          <a:blip r:embed="rId5"/>
          <a:stretch/>
        </p:blipFill>
        <p:spPr>
          <a:xfrm>
            <a:off x="250920" y="4724280"/>
            <a:ext cx="2808360" cy="1797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9:56:37Z</dcterms:created>
  <dc:creator>Bill Gates</dc:creator>
  <dc:description/>
  <dc:language>en-US</dc:language>
  <cp:lastModifiedBy>Чернова Ольга</cp:lastModifiedBy>
  <dcterms:modified xsi:type="dcterms:W3CDTF">2011-01-24T14:49:41Z</dcterms:modified>
  <cp:revision>14</cp:revision>
  <dc:subject/>
  <dc:title>Слайд 1</dc:title>
</cp:coreProperties>
</file>