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png" ContentType="image/png"/>
  <Override PartName="/ppt/media/image19.jpeg" ContentType="image/jpeg"/>
  <Override PartName="/ppt/media/image23.png" ContentType="image/png"/>
  <Override PartName="/ppt/media/image20.png" ContentType="image/png"/>
  <Override PartName="/ppt/media/image7.png" ContentType="image/png"/>
  <Override PartName="/ppt/media/image22.jpeg" ContentType="image/jpeg"/>
  <Override PartName="/ppt/media/image32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6.png" ContentType="image/png"/>
  <Override PartName="/ppt/media/image26.gif" ContentType="image/gif"/>
  <Override PartName="/ppt/media/image11.jpeg" ContentType="image/jpeg"/>
  <Override PartName="/ppt/media/image31.gif" ContentType="image/gif"/>
  <Override PartName="/ppt/media/image34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21.gif" ContentType="image/gif"/>
  <Override PartName="/ppt/media/image15.png" ContentType="image/png"/>
  <Override PartName="/ppt/media/image24.jpeg" ContentType="image/jpeg"/>
  <Override PartName="/ppt/media/image16.gif" ContentType="image/gif"/>
  <Override PartName="/ppt/media/image1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944-3D26-4226-B3F5-DF2307A3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343-BE29-4240-A674-AB7A7878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E1B-DA92-4993-91CA-10ED03B8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F79-CF6E-4B7B-977E-65CED3D0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8A4-BF95-4E45-9715-45437C81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F59-2B0A-409C-93A5-37917F8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45A-E9EA-41C9-8EF9-5C2500E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10E-CD3F-44A7-9BA0-CD8719A2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FD3-4131-4310-BDD7-AE8195CC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4D4-1889-409C-9B17-B356A18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6ED-5852-4207-9F9C-85581C7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635-E47B-410C-8909-44D51F8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AC4-AF11-4365-BA52-0160F329B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image" Target="../media/image21.gif"/><Relationship Id="rId19" Type="http://schemas.openxmlformats.org/officeDocument/2006/relationships/image" Target="../media/image21.gif"/><Relationship Id="rId20" Type="http://schemas.openxmlformats.org/officeDocument/2006/relationships/image" Target="../media/image21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26.gi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askraska.narod.ru/space/solarsystem.html" TargetMode="External"/><Relationship Id="rId2" Type="http://schemas.openxmlformats.org/officeDocument/2006/relationships/hyperlink" Target="http://raskraska.narod.ru/space/solarsystem.html" TargetMode="External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5157720"/>
            <a:ext cx="1362240" cy="133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2162520" cy="214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2376720" cy="1841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03280" y="364500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тельн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920" y="2205000"/>
            <a:ext cx="737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ППЛИКАЦИЯ В ДЕТСКОМ САД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27640" y="692280"/>
            <a:ext cx="1833840" cy="133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619280" y="333360"/>
            <a:ext cx="32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СМО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812000" y="189000"/>
            <a:ext cx="1160640" cy="1160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500280"/>
            <a:ext cx="230508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572000" y="620640"/>
            <a:ext cx="3227400" cy="141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885080" y="3860640"/>
            <a:ext cx="1074600" cy="108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63640" y="472428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ая система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620640"/>
            <a:ext cx="2089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620640"/>
            <a:ext cx="105084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0000" y="285264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068640"/>
            <a:ext cx="914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3284640"/>
            <a:ext cx="9144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350028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3716280"/>
            <a:ext cx="91440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3933720"/>
            <a:ext cx="914400" cy="9144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4149720"/>
            <a:ext cx="9144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365720"/>
            <a:ext cx="9144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458136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284720" y="4508640"/>
            <a:ext cx="4103640" cy="1584360"/>
            <a:chOff x="4284720" y="4508640"/>
            <a:chExt cx="4103640" cy="1584360"/>
          </a:xfrm>
        </p:grpSpPr>
        <p:sp>
          <p:nvSpPr>
            <p:cNvPr id="167" name=""/>
            <p:cNvSpPr/>
            <p:nvPr/>
          </p:nvSpPr>
          <p:spPr>
            <a:xfrm>
              <a:off x="4284720" y="4508640"/>
              <a:ext cx="4103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9440" y="4940640"/>
              <a:ext cx="50292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080" y="4724640"/>
              <a:ext cx="555480" cy="5047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7080" y="5227920"/>
              <a:ext cx="718920" cy="6984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6000" y="4869000"/>
              <a:ext cx="9144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440" y="4940640"/>
              <a:ext cx="647640" cy="914400"/>
            </a:xfrm>
            <a:prstGeom prst="parallelogram">
              <a:avLst>
                <a:gd name="adj" fmla="val 514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3440" y="4940640"/>
              <a:ext cx="770040" cy="719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Солнце"/>
          <p:cNvPicPr/>
          <p:nvPr/>
        </p:nvPicPr>
        <p:blipFill>
          <a:blip r:embed="rId1"/>
          <a:stretch/>
        </p:blipFill>
        <p:spPr>
          <a:xfrm>
            <a:off x="1763640" y="1700280"/>
            <a:ext cx="5472360" cy="4005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3635280" y="69228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0360" y="4508640"/>
            <a:ext cx="777960" cy="74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71640" y="1916280"/>
            <a:ext cx="490320" cy="46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619280" y="692280"/>
            <a:ext cx="851040" cy="81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317080" y="3933720"/>
            <a:ext cx="56196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244000" y="4797360"/>
            <a:ext cx="635040" cy="606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900000" y="1052640"/>
            <a:ext cx="563760" cy="538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50920" y="404640"/>
            <a:ext cx="706320" cy="67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7524720" y="5300640"/>
            <a:ext cx="77940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8244000" y="5805360"/>
            <a:ext cx="706320" cy="674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Место планеты Земля во Вселенной"/>
          <p:cNvPicPr/>
          <p:nvPr/>
        </p:nvPicPr>
        <p:blipFill>
          <a:blip r:embed="rId1"/>
          <a:srcRect l="0" t="7251" r="0" b="7251"/>
          <a:stretch/>
        </p:blipFill>
        <p:spPr>
          <a:xfrm>
            <a:off x="2411280" y="1773360"/>
            <a:ext cx="4265640" cy="42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 txBox="1"/>
          <p:nvPr/>
        </p:nvSpPr>
        <p:spPr>
          <a:xfrm>
            <a:off x="3492360" y="333360"/>
            <a:ext cx="23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0676400">
            <a:off x="611280" y="3933360"/>
            <a:ext cx="140184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84360" y="692280"/>
            <a:ext cx="134928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236000" y="836640"/>
            <a:ext cx="140148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7164360" y="4005360"/>
            <a:ext cx="1504800" cy="2089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Галактики"/>
          <p:cNvPicPr/>
          <p:nvPr/>
        </p:nvPicPr>
        <p:blipFill>
          <a:blip r:embed="rId1"/>
          <a:stretch/>
        </p:blipFill>
        <p:spPr>
          <a:xfrm>
            <a:off x="2050920" y="2565360"/>
            <a:ext cx="5329440" cy="279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3635280" y="836640"/>
            <a:ext cx="20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лак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985680" cy="136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413480" y="549360"/>
            <a:ext cx="129708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403280" y="1197000"/>
            <a:ext cx="1067040" cy="1019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956720" y="5229360"/>
            <a:ext cx="706320" cy="67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8244000" y="3860640"/>
            <a:ext cx="707760" cy="6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7093080" y="5734080"/>
            <a:ext cx="706320" cy="674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268360" y="404640"/>
            <a:ext cx="935280" cy="89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324000" y="333360"/>
            <a:ext cx="863280" cy="82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324000" y="1989000"/>
            <a:ext cx="849240" cy="811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Другие небесные тела"/>
          <p:cNvPicPr/>
          <p:nvPr/>
        </p:nvPicPr>
        <p:blipFill>
          <a:blip r:embed="rId1"/>
          <a:stretch/>
        </p:blipFill>
        <p:spPr>
          <a:xfrm>
            <a:off x="1908000" y="1700280"/>
            <a:ext cx="5688360" cy="3554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843280" y="620640"/>
            <a:ext cx="3047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есные те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55640" y="566100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979640" y="56610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276720" y="5589720"/>
            <a:ext cx="1028520" cy="95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684360" y="29242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6732720" y="4762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7740720" y="54936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7885080" y="1916280"/>
            <a:ext cx="1028880" cy="952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7885080" y="350028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7885080" y="479736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7667640" y="580536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6659640" y="551664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5580000" y="5589720"/>
            <a:ext cx="1028880" cy="952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4572000" y="566100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1619280" y="33336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468360" y="54936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611280" y="170028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Млечный путь"/>
          <p:cNvPicPr/>
          <p:nvPr/>
        </p:nvPicPr>
        <p:blipFill>
          <a:blip r:embed="rId1"/>
          <a:stretch/>
        </p:blipFill>
        <p:spPr>
          <a:xfrm>
            <a:off x="1763640" y="2060640"/>
            <a:ext cx="5616720" cy="2959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2484360" y="62064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лечный пу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556000" y="1916280"/>
            <a:ext cx="1028520" cy="95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8920" y="112536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55640" y="155736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11280" y="7650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940360" y="494172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6012000" y="4508640"/>
            <a:ext cx="1028520" cy="95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6443640" y="479736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6877080" y="5229360"/>
            <a:ext cx="1028520" cy="952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2050920" y="206064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7236000" y="56610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1403280" y="2421000"/>
            <a:ext cx="1028880" cy="952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Планеты"/>
          <p:cNvPicPr/>
          <p:nvPr/>
        </p:nvPicPr>
        <p:blipFill>
          <a:blip r:embed="rId1"/>
          <a:stretch/>
        </p:blipFill>
        <p:spPr>
          <a:xfrm>
            <a:off x="3132000" y="2276640"/>
            <a:ext cx="2870280" cy="367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4" name=""/>
          <p:cNvSpPr txBox="1"/>
          <p:nvPr/>
        </p:nvSpPr>
        <p:spPr>
          <a:xfrm>
            <a:off x="3203640" y="40464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ет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050920" y="765000"/>
            <a:ext cx="561960" cy="53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050920" y="2781360"/>
            <a:ext cx="77976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826920" y="3933720"/>
            <a:ext cx="706680" cy="6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2124000" y="4581360"/>
            <a:ext cx="6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588000" y="907920"/>
            <a:ext cx="20383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79280" y="5013360"/>
            <a:ext cx="203832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6443640" y="4724280"/>
            <a:ext cx="20383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755640" y="220500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2266920" y="981000"/>
            <a:ext cx="561960" cy="536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2266920" y="2997360"/>
            <a:ext cx="779400" cy="74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1042920" y="4149720"/>
            <a:ext cx="706680" cy="67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2340000" y="4797360"/>
            <a:ext cx="6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6445080" y="2421000"/>
            <a:ext cx="64800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7956720" y="1197000"/>
            <a:ext cx="561960" cy="53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7956720" y="3213000"/>
            <a:ext cx="779400" cy="744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6804000" y="3645000"/>
            <a:ext cx="706320" cy="67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8029440" y="5013360"/>
            <a:ext cx="63504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2"/>
          <a:stretch/>
        </p:blipFill>
        <p:spPr>
          <a:xfrm>
            <a:off x="250920" y="404640"/>
            <a:ext cx="2038320" cy="1714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Солнечная система"/>
          <p:cNvPicPr/>
          <p:nvPr/>
        </p:nvPicPr>
        <p:blipFill>
          <a:blip r:embed="rId1"/>
          <a:stretch/>
        </p:blipFill>
        <p:spPr>
          <a:xfrm>
            <a:off x="2050920" y="2421000"/>
            <a:ext cx="4969080" cy="3427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124000" y="549360"/>
            <a:ext cx="482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ая систе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93080" y="1916280"/>
            <a:ext cx="1350720" cy="93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 rot="11761200">
            <a:off x="7308360" y="764280"/>
            <a:ext cx="1352520" cy="93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84360" y="486900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79280" y="5791320"/>
            <a:ext cx="1548000" cy="1066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7451640" y="1413000"/>
            <a:ext cx="1424160" cy="981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324000" y="692280"/>
            <a:ext cx="1677960" cy="1411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7236000" y="3645000"/>
            <a:ext cx="1606320" cy="135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7380360" y="5084640"/>
            <a:ext cx="1569960" cy="1320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6300720" y="5805360"/>
            <a:ext cx="1101960" cy="927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112840" y="160200"/>
          <a:ext cx="3571920" cy="6996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3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18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2124000" y="1197000"/>
            <a:ext cx="4762440" cy="4753080"/>
            <a:chOff x="2124000" y="1197000"/>
            <a:chExt cx="4762440" cy="4753080"/>
          </a:xfrm>
        </p:grpSpPr>
        <p:pic>
          <p:nvPicPr>
            <p:cNvPr id="147" name="" descr="Планеты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24000" y="1197000"/>
              <a:ext cx="476244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Орбиты"/>
            <p:cNvPicPr/>
            <p:nvPr/>
          </p:nvPicPr>
          <p:blipFill>
            <a:blip r:embed="rId4"/>
            <a:stretch/>
          </p:blipFill>
          <p:spPr>
            <a:xfrm>
              <a:off x="2124000" y="4059360"/>
              <a:ext cx="47624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Солнечная система"/>
            <p:cNvPicPr/>
            <p:nvPr/>
          </p:nvPicPr>
          <p:blipFill>
            <a:blip r:embed="rId5"/>
            <a:srcRect l="0" t="0" r="0" b="46789"/>
            <a:stretch/>
          </p:blipFill>
          <p:spPr>
            <a:xfrm>
              <a:off x="2124000" y="4348080"/>
              <a:ext cx="4762440" cy="16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2124000" y="5950080"/>
            <a:ext cx="47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1125360"/>
            <a:ext cx="0" cy="482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125360"/>
            <a:ext cx="47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24000" y="1125360"/>
            <a:ext cx="0" cy="489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4:23:22Z</dcterms:created>
  <dc:creator>Дима</dc:creator>
  <dc:description/>
  <dc:language>en-US</dc:language>
  <cp:lastModifiedBy>Пользователь</cp:lastModifiedBy>
  <dcterms:modified xsi:type="dcterms:W3CDTF">2010-04-16T10:12:21Z</dcterms:modified>
  <cp:revision>4</cp:revision>
  <dc:subject/>
  <dc:title>Слайд 1</dc:title>
</cp:coreProperties>
</file>