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3.gif" ContentType="image/gif"/>
  <Override PartName="/ppt/media/image4.png" ContentType="image/png"/>
  <Override PartName="/ppt/media/image24.gif" ContentType="image/gif"/>
  <Override PartName="/ppt/media/image5.jpeg" ContentType="image/jpeg"/>
  <Override PartName="/ppt/media/image11.gif" ContentType="image/gif"/>
  <Override PartName="/ppt/media/image8.png" ContentType="image/png"/>
  <Override PartName="/ppt/media/image14.jpeg" ContentType="image/jpeg"/>
  <Override PartName="/ppt/media/image7.jpeg" ContentType="image/jpeg"/>
  <Override PartName="/ppt/media/image9.gif" ContentType="image/gif"/>
  <Override PartName="/ppt/media/image10.gif" ContentType="image/gif"/>
  <Override PartName="/ppt/media/image12.gif" ContentType="image/gif"/>
  <Override PartName="/ppt/media/image30.jpeg" ContentType="image/jpeg"/>
  <Override PartName="/ppt/media/image13.gif" ContentType="image/gif"/>
  <Override PartName="/ppt/media/image2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18.jpeg" ContentType="image/jpeg"/>
  <Override PartName="/ppt/media/image19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26.gif" ContentType="image/gif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BB0-3FEC-46CF-907D-94B5415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D91-F2D3-42C4-BE2B-EA9622C8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0AB-1433-4FA4-8709-F6AA678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53C-E72F-470F-96A8-0E57D5E1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8E8B-511A-4524-A853-A2DE21C7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4A6-61B3-4157-8EE2-FE6C3EA8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F1B9-DF73-429A-85F1-9B69896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B06B-B545-409E-A641-09317AD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487A-82FA-414B-9B54-3353EA0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533-BC96-47F3-9EFC-D6D9E944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3A5-B63B-46B1-9D08-AA972C0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2BA-B8B3-4233-9A69-3C10A234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2A0-77BC-41AA-BECD-F905C46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B898-DB1B-486A-8038-A37A762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FD2-E1A2-4B9F-98EA-2DCC2CC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1D5-117C-41EC-A99F-9A1E9FB1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A6DA-E9C7-44E8-A9EA-F26116AF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5349-138D-4E53-9619-DB185F5F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C1B0-CC23-4DB7-A694-893D543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BE63-10F4-4928-8EF5-B5EA531D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CB59-676C-469F-970B-7342D08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DE39-E0B5-4B7E-BE7D-50AAE05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09A-D39E-4F35-BDF7-32622AE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E9CD-6DC0-41D0-9F81-C9B3C40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FFEA-1369-4341-BB86-5B760C9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BCD4-60FD-4AD5-8231-C063DE1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7844-536A-4095-A59C-EEED324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08B8-692D-4240-9A4A-CC3B580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CDED-1554-4170-9099-4D97BF05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5F5D-1AB2-443A-8553-D70FE1C0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12F5-B37B-4750-B538-97A1E8A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A77C-AB99-4418-BEE6-ACA3D18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F9D4-EDA7-42D3-A6AD-1CBD0BA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19-CA8F-4AD5-A05C-99A88C99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9629-F647-4202-996D-F320D1A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442C-DCB2-451E-ADA0-AB444907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1D84-10BD-43FC-8266-E430AC6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3748-EEC4-415D-AC23-0896E070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94AE-16B6-4E98-980F-6550BBD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FF5F-5F78-4199-968E-5F2F47F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EB52-6543-4236-86B9-1EC3F52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632C-D1B6-4D21-8752-28D6D89C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1A22-4D4A-4D93-BE2A-1BA292C0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CB69-3776-451B-911C-8303F2B0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1E2-ECE8-42CA-A5E6-DD4113CF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7794-3EE4-4418-9E37-CB7EBC71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1933-FF1D-41CC-87CA-FB58F01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387B-62B1-4203-BD0D-CE0397BD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175E-F88C-4206-934E-183604D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5ECA-F48F-4563-B4BE-CA69D47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A973-2E35-47A4-AA37-4C8C3B3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7918-143F-4A3F-B7C4-D6EC3D1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D3CF-5C28-4E20-9563-A2F837A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5C26-1006-4AB1-BC76-A6F1BA55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E340-F9BB-430F-927B-735670D7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644-9154-4258-8E6F-8DCD9DA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79381-2D49-47CD-BFF7-0C18E8F1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644C-D842-44BF-BE0A-5D05F4C8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9B1B6-EA1A-4093-82AC-62074C0E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1D21-7298-401F-9929-A73F8BC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47A2-57B8-4A11-9763-6FEA974E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166C5-6A76-4731-8AC6-78E6DD5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AFA1-31F1-4C6B-BBBF-1CB6D5E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26EBC-AC76-4191-8C2F-65D1419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792F-24F8-445A-8457-8897FED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3442-407F-49D4-A990-32FE7A4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344-8731-4C34-9238-0B6F287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47D7-E4EA-404E-872D-A28B940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9406-BA6C-4555-8244-6440DEDF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9BE42-7F17-4500-A3FF-48EF5E10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ACEE3-C6AE-4244-8566-642971BF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54F4-6F11-4657-BCA7-065F52BA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5FF5-09BC-43F8-93D4-9B77A292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CE81-4D0D-4D51-BC72-158B1D32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1FD9-A576-4949-A83C-EEB9126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8DAD-22E2-48A4-859F-9718F21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B8848-98D7-4A94-87EF-A531A7E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E2E-DA13-4C4E-B42A-50AA15F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962B-41C4-496D-A472-2815828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8280-455E-4AB1-80F1-9C66693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2A27-AC55-4399-ABA2-C9F9C00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04D29-59A3-4527-842E-80BC969D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C4B91-6E61-45A3-A1E1-4596EDB3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732-F080-497B-9AC2-53EA81C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4F3-09A2-4468-BF4D-6E260FE12A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1C8-0D63-4711-8827-3279292BB1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DA35-3F08-4356-84EA-6F6F605EFC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E631-5690-4FB1-BB87-3303B45E26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94C-29BF-4549-A465-CCB4270A53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82C7-3226-4E42-9C43-3BA3C9F284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9FC-5860-458D-BBF9-EB5B89FB16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ducation.unesco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ьесберегающие технологии в школ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ОШ №61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Дорогова Е.Н. (по материалам  программы  Шкель В.Ф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61" descr="На главную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4071960"/>
            <a:ext cx="8572320" cy="2597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ссовая безграмотность родителей в вопросах здоровьесбереже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очная развитость системы физического воспитания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утствие системы работы по формированию ценностей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ПАСНОСТЬ школьных факторов риск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в период интенсивного рос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комплексно и системн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йствуют длительно (9-11 л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ативные последствия аккумулируются, переходят в выраженную патолог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Низкий уровень физического и психического здоровья школьников- ПРЕПЯТСТВИЕ на пути модернизации Российского образования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3" descr="D:\Мои документы\Картинки\Animated\человечки\j0283766.gif"/>
          <p:cNvPicPr/>
          <p:nvPr/>
        </p:nvPicPr>
        <p:blipFill>
          <a:blip r:embed="rId1"/>
          <a:stretch/>
        </p:blipFill>
        <p:spPr>
          <a:xfrm>
            <a:off x="1643040" y="4429080"/>
            <a:ext cx="3062160" cy="2143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D:\Мои документы\Картинки\Animated\человечки\j0283206.gif"/>
          <p:cNvPicPr/>
          <p:nvPr/>
        </p:nvPicPr>
        <p:blipFill>
          <a:blip r:embed="rId2"/>
          <a:stretch/>
        </p:blipFill>
        <p:spPr>
          <a:xfrm>
            <a:off x="5572080" y="4500720"/>
            <a:ext cx="2217960" cy="217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Мероприятия по сохранению и укреплению здоровья школьников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вать ученикам реальную нагрузк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ть эффе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ышать качество занятий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одить мониторинг состояния здоровь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ть организацию пит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ционализировать досуговую деятельность, каникулярное время и летний отдых обучаю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4" descr="00036229"/>
          <p:cNvPicPr/>
          <p:nvPr/>
        </p:nvPicPr>
        <p:blipFill>
          <a:blip r:embed="rId1"/>
          <a:stretch/>
        </p:blipFill>
        <p:spPr>
          <a:xfrm>
            <a:off x="5786280" y="3557520"/>
            <a:ext cx="2819520" cy="2473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Мои документы\Картинки\еда\e1.jpg"/>
          <p:cNvPicPr/>
          <p:nvPr/>
        </p:nvPicPr>
        <p:blipFill>
          <a:blip r:embed="rId2"/>
          <a:stretch/>
        </p:blipFill>
        <p:spPr>
          <a:xfrm>
            <a:off x="1595520" y="3643200"/>
            <a:ext cx="2905200" cy="261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4" descr="j0295178"/>
          <p:cNvPicPr/>
          <p:nvPr/>
        </p:nvPicPr>
        <p:blipFill>
          <a:blip r:embed="rId1"/>
          <a:stretch/>
        </p:blipFill>
        <p:spPr>
          <a:xfrm>
            <a:off x="4521240" y="1785960"/>
            <a:ext cx="4622760" cy="3286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j0297013"/>
          <p:cNvPicPr/>
          <p:nvPr/>
        </p:nvPicPr>
        <p:blipFill>
          <a:blip r:embed="rId2"/>
          <a:stretch/>
        </p:blipFill>
        <p:spPr>
          <a:xfrm>
            <a:off x="1214280" y="1571760"/>
            <a:ext cx="3219480" cy="4143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нам мешает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познавательной активности ребя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изкий уровень мотивации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устойчивость эмоциональной сфер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окий уровень тревожности подрост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формированность навыков общ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шаги по созданию школы здоровь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благоприятного психологического клима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личностно-значимых методов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е задания разных типов и уровн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дивидуальный темп учебной деятельности; смена видов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9" descr="image030"/>
          <p:cNvPicPr/>
          <p:nvPr/>
        </p:nvPicPr>
        <p:blipFill>
          <a:blip r:embed="rId1"/>
          <a:stretch/>
        </p:blipFill>
        <p:spPr>
          <a:xfrm>
            <a:off x="1643040" y="1143000"/>
            <a:ext cx="2789280" cy="2081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63" name="Picture 2" descr="C:\Documents and Settings\Учитель\Рабочий стол\видеошкола\№2\P1040517.JPG"/>
          <p:cNvPicPr/>
          <p:nvPr/>
        </p:nvPicPr>
        <p:blipFill>
          <a:blip r:embed="rId2"/>
          <a:stretch/>
        </p:blipFill>
        <p:spPr>
          <a:xfrm>
            <a:off x="4857840" y="642960"/>
            <a:ext cx="2568600" cy="1684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Учитель\Рабочий стол\видеошкола\№2\P1040515.JPG"/>
          <p:cNvPicPr/>
          <p:nvPr/>
        </p:nvPicPr>
        <p:blipFill>
          <a:blip r:embed="rId3"/>
          <a:stretch/>
        </p:blipFill>
        <p:spPr>
          <a:xfrm>
            <a:off x="1857240" y="3786120"/>
            <a:ext cx="2428920" cy="2712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Учитель\Рабочий стол\Сахно И.В\P1040708.JPG"/>
          <p:cNvPicPr/>
          <p:nvPr/>
        </p:nvPicPr>
        <p:blipFill>
          <a:blip r:embed="rId4"/>
          <a:stretch/>
        </p:blipFill>
        <p:spPr>
          <a:xfrm>
            <a:off x="4857840" y="2571840"/>
            <a:ext cx="2671560" cy="1670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Documents and Settings\Учитель\Рабочий стол\видеошкола\№2\P1040507.JPG"/>
          <p:cNvPicPr/>
          <p:nvPr/>
        </p:nvPicPr>
        <p:blipFill>
          <a:blip r:embed="rId5"/>
          <a:stretch/>
        </p:blipFill>
        <p:spPr>
          <a:xfrm>
            <a:off x="4857840" y="4786200"/>
            <a:ext cx="2609640" cy="173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нализ урока с позиции здоровьесбереж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учебной деятельности(4-7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лжительность 1 вида деятельность- 10 мину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видов преподавания- не менее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видов преподавания-через 10-15 мин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етода свободного выбора действ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 компонентов здоровьесбереж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ая окружающая сре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пит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медицинское обслужи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распространение знаний о здоровь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и социума в вопросах сохранения 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ные методы обучения (игра, исследование, обсуждение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нение ТС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едование поз учащихся (следить за осанкой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оздоровительных моментов на уроке (физкультминутки, динамические паузы,релаксация, гимнастика для глаз и т.д.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в содержательной части урока вопросов о здоровь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мотивации деятельности учащихся (похвала, поддержка, соревновательный момен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итивный психологический климат на уроке (сотрудничество, дружелюб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аимопонима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эмоциональных разрядок на уроке (шутка, отвлеченная короткая беседа и  т.д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тность урока- 60%;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момент наступл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томляемости (падение внимания)- пауз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6" descr="D:\Мои документы\Картинки\Animated\лица\AG00312_.GIF"/>
          <p:cNvPicPr/>
          <p:nvPr/>
        </p:nvPicPr>
        <p:blipFill>
          <a:blip r:embed="rId1"/>
          <a:stretch/>
        </p:blipFill>
        <p:spPr>
          <a:xfrm>
            <a:off x="6786720" y="2714760"/>
            <a:ext cx="1379520" cy="197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окойное завершение урока, без суеты, комментарии домашнего зад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ЛЬЗЯ задерживать учеников после звонка на перемену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мена- ЭТО ВРЕМЯ ИХ ЗАКОННОГО ОТДЫХА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а! Перемена!!!!!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9" name="Picture 2" descr="C:\Documents and Settings\Елена\Мои документы\ПРЕЗЕНТАЦИИ\Фекдченко - №6\САЙТ1.files\image034.gif"/>
          <p:cNvPicPr/>
          <p:nvPr/>
        </p:nvPicPr>
        <p:blipFill>
          <a:blip r:embed="rId1"/>
          <a:stretch/>
        </p:blipFill>
        <p:spPr>
          <a:xfrm>
            <a:off x="3000240" y="2000160"/>
            <a:ext cx="4497480" cy="4316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ормы и методы здоровьесбережения в О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удовлетворительное состояние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нутришкольной среды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нитогинг состояния  помещения,школьной мебели, оборудова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Нерациональная организация учебного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цесса ---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ибкое чередование учебной и неучебной деятельности, гибкое моделирование образовательной траектор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изкая двигательная активность-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ключение в режим учебного процесса динамических минуто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Неадекватные приемы и методы преподавания------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Гибкие  формы обучения, индивидуальный подход;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D:\Мои документы\Картинки\Animated\человечки\j0223734.gif"/>
          <p:cNvPicPr/>
          <p:nvPr/>
        </p:nvPicPr>
        <p:blipFill>
          <a:blip r:embed="rId1"/>
          <a:stretch/>
        </p:blipFill>
        <p:spPr>
          <a:xfrm>
            <a:off x="3429000" y="0"/>
            <a:ext cx="273852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Стрессовые ситуации на уроке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ая система воспитания, система дополнительного образова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арушение здоровья учащихся -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изкультурная работа, лечебные процедуры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3" descr="D:\Мои документы\Картинки\Animated\спорт\j0303467.gif"/>
          <p:cNvPicPr/>
          <p:nvPr/>
        </p:nvPicPr>
        <p:blipFill>
          <a:blip r:embed="rId1"/>
          <a:stretch/>
        </p:blipFill>
        <p:spPr>
          <a:xfrm>
            <a:off x="6143760" y="5643720"/>
            <a:ext cx="799920" cy="561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D:\Мои документы\Картинки\Animated\спорт\j0303467.gif"/>
          <p:cNvPicPr/>
          <p:nvPr/>
        </p:nvPicPr>
        <p:blipFill>
          <a:blip r:embed="rId2"/>
          <a:stretch/>
        </p:blipFill>
        <p:spPr>
          <a:xfrm>
            <a:off x="6215040" y="564372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D:\Мои документы\Картинки\Animated\спорт\j0303467.gif"/>
          <p:cNvPicPr/>
          <p:nvPr/>
        </p:nvPicPr>
        <p:blipFill>
          <a:blip r:embed="rId3"/>
          <a:stretch/>
        </p:blipFill>
        <p:spPr>
          <a:xfrm>
            <a:off x="5692680" y="4857840"/>
            <a:ext cx="2441520" cy="1714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D:\Мои документы\Картинки\Animated\человечки\j0254414.gif"/>
          <p:cNvPicPr/>
          <p:nvPr/>
        </p:nvPicPr>
        <p:blipFill>
          <a:blip r:embed="rId4"/>
          <a:stretch/>
        </p:blipFill>
        <p:spPr>
          <a:xfrm>
            <a:off x="1857240" y="285840"/>
            <a:ext cx="19227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тсутствие культуры здоровья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ции, беседы, просветительская работа с родителями и ученик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12" descr="D:\Елена\фото семинар. конференции\P1020408.JPG"/>
          <p:cNvPicPr/>
          <p:nvPr/>
        </p:nvPicPr>
        <p:blipFill>
          <a:blip r:embed="rId1"/>
          <a:stretch/>
        </p:blipFill>
        <p:spPr>
          <a:xfrm>
            <a:off x="5429160" y="3822840"/>
            <a:ext cx="3143520" cy="2463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D:\Елена\Фото проект\P1030603.JPG"/>
          <p:cNvPicPr/>
          <p:nvPr/>
        </p:nvPicPr>
        <p:blipFill>
          <a:blip r:embed="rId2"/>
          <a:stretch/>
        </p:blipFill>
        <p:spPr>
          <a:xfrm>
            <a:off x="1573200" y="3821040"/>
            <a:ext cx="3284640" cy="246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ы за них в ответе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4" descr="P1010180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х здоровье в наших руках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6" descr="C:\Documents and Settings\Учитель\Рабочий стол\видеошкола\№2\P1040532.JPG"/>
          <p:cNvPicPr/>
          <p:nvPr/>
        </p:nvPicPr>
        <p:blipFill>
          <a:blip r:embed="rId1"/>
          <a:stretch/>
        </p:blipFill>
        <p:spPr>
          <a:xfrm>
            <a:off x="1523880" y="3571920"/>
            <a:ext cx="3976920" cy="2523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SS852829"/>
          <p:cNvPicPr/>
          <p:nvPr/>
        </p:nvPicPr>
        <p:blipFill>
          <a:blip r:embed="rId2"/>
          <a:stretch/>
        </p:blipFill>
        <p:spPr>
          <a:xfrm>
            <a:off x="5214960" y="1571760"/>
            <a:ext cx="3429000" cy="257148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колы, содействующие здоров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ность мероприятий, направленных на укрепление здоровья (тесная связь всех педагогических и медицинских сотрудников школ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ебный процесс организован разумно и природосообразно (расписание, нагрузки-соответствуют возрастным особенностям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здать школу здоровья- БОЛЬШОЙ ТРУД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6215040" cy="557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-х компонентная модель школы, содействующей здоровью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Ориентация в поведении на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Школьная  медицинская служба проводит раннюю профилактику и идентификац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ая школьная среда: безопасное питание, соблюдение санитарных норм,  здоровый психологический клима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 чем мы боремся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кольные факторы риск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Стрессовая педагогическ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тодика (кри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нтенсификация образования (большие нагрузк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Несоответствие методик обучения возрастным особенностя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j0285261"/>
          <p:cNvPicPr/>
          <p:nvPr/>
        </p:nvPicPr>
        <p:blipFill>
          <a:blip r:embed="rId1"/>
          <a:stretch/>
        </p:blipFill>
        <p:spPr>
          <a:xfrm>
            <a:off x="7000920" y="1285920"/>
            <a:ext cx="1884240" cy="244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ждевременное начало систематическ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облюдение физиологических и гигиенических требований в учебном процесс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грамотность педагогов в вопросах здоровьесбережения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ерегрузки….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4" descr="j0284135"/>
          <p:cNvPicPr/>
          <p:nvPr/>
        </p:nvPicPr>
        <p:blipFill>
          <a:blip r:embed="rId1"/>
          <a:stretch/>
        </p:blipFill>
        <p:spPr>
          <a:xfrm>
            <a:off x="1727280" y="2571840"/>
            <a:ext cx="3130560" cy="3763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Мои документы\Картинки\Animated\человечки\j0283742.gif"/>
          <p:cNvPicPr/>
          <p:nvPr/>
        </p:nvPicPr>
        <p:blipFill>
          <a:blip r:embed="rId2"/>
          <a:stretch/>
        </p:blipFill>
        <p:spPr>
          <a:xfrm>
            <a:off x="5429160" y="1285920"/>
            <a:ext cx="35323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8:54:13Z</dcterms:created>
  <dc:creator>Елена</dc:creator>
  <dc:description/>
  <dc:language>en-US</dc:language>
  <cp:lastModifiedBy>Windows 7</cp:lastModifiedBy>
  <dcterms:modified xsi:type="dcterms:W3CDTF">2012-11-27T15:41:34Z</dcterms:modified>
  <cp:revision>25</cp:revision>
  <dc:subject/>
  <dc:title>Здоровьесберегающие технологии в школе</dc:title>
</cp:coreProperties>
</file>