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3.gif" ContentType="image/gif"/>
  <Override PartName="/ppt/media/image4.png" ContentType="image/png"/>
  <Override PartName="/ppt/media/image24.gif" ContentType="image/gif"/>
  <Override PartName="/ppt/media/image5.jpeg" ContentType="image/jpeg"/>
  <Override PartName="/ppt/media/image11.gif" ContentType="image/gif"/>
  <Override PartName="/ppt/media/image8.png" ContentType="image/png"/>
  <Override PartName="/ppt/media/image14.jpeg" ContentType="image/jpeg"/>
  <Override PartName="/ppt/media/image7.jpeg" ContentType="image/jpeg"/>
  <Override PartName="/ppt/media/image9.gif" ContentType="image/gif"/>
  <Override PartName="/ppt/media/image10.gif" ContentType="image/gif"/>
  <Override PartName="/ppt/media/image12.gif" ContentType="image/gif"/>
  <Override PartName="/ppt/media/image30.jpeg" ContentType="image/jpeg"/>
  <Override PartName="/ppt/media/image13.gif" ContentType="image/gif"/>
  <Override PartName="/ppt/media/image2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18.jpeg" ContentType="image/jpeg"/>
  <Override PartName="/ppt/media/image19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26.gif" ContentType="image/gif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C96-F24B-4CAC-9441-37C0E167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2CE-9705-47A5-ABB2-EDFA45A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79-A7FE-4E4B-9203-5D35DA42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814-ACFC-45BD-BA59-A4DE3D4D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6CA-623D-46E9-97CD-A3437C04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856D-AB2B-4CD1-A2AF-72764E3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FFC2-95F9-495D-AD5E-70F97EF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54A5-AD8D-47A9-91FF-460A5B18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0D74-6778-4B54-945C-EAC4330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6E8F-D9C1-4B6C-9FC4-A952952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85DC-A15A-4E42-8E77-27CA550E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DE2-66DC-40CD-BB6B-40B2235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09B-631A-4443-91BC-9A043FA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D595-D892-46AE-B84F-63535AF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08C3-0BC0-4CC0-9B8B-6EB532D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1D8-1B24-4C1D-992F-70B79DF3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E1B-F0C1-47ED-B4EB-73C92AC5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94E8-C8F4-4485-9521-C4406BF5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E1D2-9857-4DE6-ADD9-B7A31E2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D256-D76D-48AB-BF87-767E4AEC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47F9-9D1F-47F0-9F2C-8820573D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F3A1-950A-4D49-9E67-1E1E64C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1C7-44A3-4430-AB7B-D47A77E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3406-C832-4C68-AD6D-13F036AC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B8FC-ED47-4BBE-A5EC-FE72358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6D38-E559-4617-89BC-C0ECC92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E8A9-4665-4740-954D-CE4160A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3A29-CA49-4053-9570-615AB11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2F3A-5AAA-490B-ABBE-5CDB46D6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0546-CA37-47D8-B86E-A0E9B23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8865-007C-405C-A0E5-6A3E33CF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EC8B-A2C0-42B2-B07C-262B1892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A3AF-95C8-4A2E-A086-3864E05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BE1-9489-48DF-98A5-6ED17A40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1582-6420-45C5-A8ED-497460B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59B0-A43B-4721-BCEB-E195C2E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233B-2BD5-46F2-AB49-4B91C64F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C8C4-DBB7-42E6-A9B4-426B9F1C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018D-B3B5-4AC0-96CD-244A193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6546-469A-4584-81F7-3F74D56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5C19-F1FD-433A-913D-A697192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BAB6-C7D9-4641-B76F-C9B82995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B736-F48B-4AE8-BCDD-C9327A8E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4176-B2CE-42D5-8268-E9B4AFDF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455-B0D4-4AB0-88CC-B325981D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8705-F928-4A3F-BEDB-84ECA96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324E-7044-4C70-911C-32B1455A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E1B2-5BF5-4634-8BE7-52CB9EDB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B1FD-3720-4395-8330-6D65C2BA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81DE-AB2F-4C60-9E5C-25C4AE34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3195-932A-4091-865F-4EBFC545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0F959-1FA1-4033-B630-CDAAA09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B6EF4-21B4-4E3B-8F0A-7EC2E54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F5BB-2497-4CE6-AB2B-6E9EEDD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2B2C-77AD-4BC8-B880-7C501D74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E89-6BD8-45AA-A9F5-8DE981A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99BE-D1F6-488C-AE56-0F976343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A67F-C6C2-4A24-9557-31695583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1B94-BFEF-43FF-B15D-453D817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04F09-24D8-45FA-9E39-9E8F125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78F3-F770-48BA-A06E-D478C88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E3EA-C129-4AF7-B9ED-9BB55E70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2306-6366-471B-949D-BAEF0C12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0270-AC50-434A-9877-F44A633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4386-C399-43C2-98BF-B4798B8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DD33-9A31-46CF-A339-F4D81F4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011-C910-455B-8848-0ADB2C1B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7E12-3382-43A6-A938-2A6C32E8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FC20-67F3-45F6-8A13-C8919912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CC63-2E0F-41EF-9FDF-4818115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8DF6-C0A7-4B51-919E-7821A83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0D98-7A63-4A5C-9D29-A6712AA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71755-6570-4A3F-BD9D-BF736574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3461-FD58-458C-B613-DAECE809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B9D1-3CD9-427F-8CFD-C4A6B23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9284-9D92-4FA4-896C-A429C62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67BB-E2F5-4FB5-8016-CC19885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030-9A9E-4681-ACE9-CC67EAA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DEAB6-79E9-4872-AE19-EDE8460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E559-1DD8-45FA-8390-6489B3B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D8284-9313-4CA1-8C13-5828298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74B2B-B4D3-4219-9D78-58696297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9CE9-5DC3-40EF-95D3-7C8EE841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F30-4E4A-449A-8E35-04473E1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C5C-2050-4BBC-9864-EAF1C00C35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2F99-B1F0-4FE0-8D7A-07D4B1F7B4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459B-2D8C-4DAC-B702-3AFB9CB078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05D-6F5A-4E75-98CC-76BFA7BADA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7D8-5026-4AA1-BC38-9737C2E6A8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E1A-2EA7-4C61-9EE5-9B89772016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0D15-065A-4CAA-A5F0-10A8557495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ducation.unesco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ьесберегающие технологии в школ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ОШ №61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Дорогова Е.Н. (по материалам  программы  Шкель В.Ф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61" descr="На главную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4071960"/>
            <a:ext cx="8572320" cy="2597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овая безграмотность родителей в вопросах здоровьесбереже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ая развитость системы физического воспита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утствие системы работы по формированию ценностей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ПАСНОСТЬ школьных факторов риск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в период интенсивного рос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комплексно и системн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длительно (9-11 л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ативные последствия аккумулируются, переходят в выраженную патолог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изкий уровень физического и психического здоровья школьников- ПРЕПЯТСТВИЕ на пути модернизации Российского образования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3" descr="D:\Мои документы\Картинки\Animated\человечки\j0283766.gif"/>
          <p:cNvPicPr/>
          <p:nvPr/>
        </p:nvPicPr>
        <p:blipFill>
          <a:blip r:embed="rId1"/>
          <a:stretch/>
        </p:blipFill>
        <p:spPr>
          <a:xfrm>
            <a:off x="1643040" y="4429080"/>
            <a:ext cx="3062160" cy="2143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D:\Мои документы\Картинки\Animated\человечки\j0283206.gif"/>
          <p:cNvPicPr/>
          <p:nvPr/>
        </p:nvPicPr>
        <p:blipFill>
          <a:blip r:embed="rId2"/>
          <a:stretch/>
        </p:blipFill>
        <p:spPr>
          <a:xfrm>
            <a:off x="5572080" y="4500720"/>
            <a:ext cx="2217960" cy="217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ероприятия по сохранению и укреплению здоровья школьников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вать ученикам реальную нагрузк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ть эффе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ать качество занятий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дить мониторинг состояния здоровь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ть организацию пит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ционализировать досуговую деятельность, каникулярное время и летний отдых обучаю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4" descr="00036229"/>
          <p:cNvPicPr/>
          <p:nvPr/>
        </p:nvPicPr>
        <p:blipFill>
          <a:blip r:embed="rId1"/>
          <a:stretch/>
        </p:blipFill>
        <p:spPr>
          <a:xfrm>
            <a:off x="5786280" y="3557520"/>
            <a:ext cx="2819520" cy="2473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Мои документы\Картинки\еда\e1.jpg"/>
          <p:cNvPicPr/>
          <p:nvPr/>
        </p:nvPicPr>
        <p:blipFill>
          <a:blip r:embed="rId2"/>
          <a:stretch/>
        </p:blipFill>
        <p:spPr>
          <a:xfrm>
            <a:off x="1595520" y="3643200"/>
            <a:ext cx="2905200" cy="261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4" descr="j0295178"/>
          <p:cNvPicPr/>
          <p:nvPr/>
        </p:nvPicPr>
        <p:blipFill>
          <a:blip r:embed="rId1"/>
          <a:stretch/>
        </p:blipFill>
        <p:spPr>
          <a:xfrm>
            <a:off x="4521240" y="1785960"/>
            <a:ext cx="4622760" cy="3286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j0297013"/>
          <p:cNvPicPr/>
          <p:nvPr/>
        </p:nvPicPr>
        <p:blipFill>
          <a:blip r:embed="rId2"/>
          <a:stretch/>
        </p:blipFill>
        <p:spPr>
          <a:xfrm>
            <a:off x="1214280" y="1571760"/>
            <a:ext cx="3219480" cy="414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нам мешает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познавательной активности ребя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мотивации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устойчивость эмоциональной сфе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окий уровень тревожности подрост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формированность навыков об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шаги по созданию школы здоровь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благоприятного психологического клима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личностно-значимых методов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е задания разных типов и уровн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й темп учебной деятельности; смена видов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9" descr="image030"/>
          <p:cNvPicPr/>
          <p:nvPr/>
        </p:nvPicPr>
        <p:blipFill>
          <a:blip r:embed="rId1"/>
          <a:stretch/>
        </p:blipFill>
        <p:spPr>
          <a:xfrm>
            <a:off x="1643040" y="1143000"/>
            <a:ext cx="2789280" cy="2081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63" name="Picture 2" descr="C:\Documents and Settings\Учитель\Рабочий стол\видеошкола\№2\P1040517.JPG"/>
          <p:cNvPicPr/>
          <p:nvPr/>
        </p:nvPicPr>
        <p:blipFill>
          <a:blip r:embed="rId2"/>
          <a:stretch/>
        </p:blipFill>
        <p:spPr>
          <a:xfrm>
            <a:off x="4857840" y="642960"/>
            <a:ext cx="2568600" cy="1684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Учитель\Рабочий стол\видеошкола\№2\P1040515.JPG"/>
          <p:cNvPicPr/>
          <p:nvPr/>
        </p:nvPicPr>
        <p:blipFill>
          <a:blip r:embed="rId3"/>
          <a:stretch/>
        </p:blipFill>
        <p:spPr>
          <a:xfrm>
            <a:off x="1857240" y="3786120"/>
            <a:ext cx="2428920" cy="2712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Учитель\Рабочий стол\Сахно И.В\P1040708.JPG"/>
          <p:cNvPicPr/>
          <p:nvPr/>
        </p:nvPicPr>
        <p:blipFill>
          <a:blip r:embed="rId4"/>
          <a:stretch/>
        </p:blipFill>
        <p:spPr>
          <a:xfrm>
            <a:off x="4857840" y="2571840"/>
            <a:ext cx="2671560" cy="1670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Documents and Settings\Учитель\Рабочий стол\видеошкола\№2\P1040507.JPG"/>
          <p:cNvPicPr/>
          <p:nvPr/>
        </p:nvPicPr>
        <p:blipFill>
          <a:blip r:embed="rId5"/>
          <a:stretch/>
        </p:blipFill>
        <p:spPr>
          <a:xfrm>
            <a:off x="4857840" y="4786200"/>
            <a:ext cx="2609640" cy="173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нализ урока с позиции здоровьесбереж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учебной деятельности(4-7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лжительность 1 вида деятельность- 10 мину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преподавания- не менее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видов преподавания-через 10-15 мин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етода свободного выбора действ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 компонентов здоровьесбереж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 окружающая сре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пит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медицинское обслужи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распространение знаний о здоровь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и социума в вопросах сохранения 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ые методы обучения (игра, исследование, обсуждение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ТС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поз учащихся (следить за осанкой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оздоровительных моментов на уроке (физкультминутки, динамические паузы,релаксация, гимнастика для глаз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в содержательной части урока вопросов о здоровь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отивации деятельности учащихся (похвала, поддержка, соревновательный момен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итивный психологический климат на уроке (сотрудничество, дружелюб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аимопонима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эмоциональных разрядок на уроке (шутка, отвлеченная короткая беседа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тность урока- 60%;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момент наступл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омляемости (падение внимания)- пауз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6" descr="D:\Мои документы\Картинки\Animated\лица\AG00312_.GIF"/>
          <p:cNvPicPr/>
          <p:nvPr/>
        </p:nvPicPr>
        <p:blipFill>
          <a:blip r:embed="rId1"/>
          <a:stretch/>
        </p:blipFill>
        <p:spPr>
          <a:xfrm>
            <a:off x="6786720" y="2714760"/>
            <a:ext cx="1379520" cy="197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койное завершение урока, без суеты, комментарии домашнего зад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ЛЬЗЯ задерживать учеников после звонка на перемену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мена- ЭТО ВРЕМЯ ИХ ЗАКОННОГО ОТДЫХ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а! Перемена!!!!!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Picture 2" descr="C:\Documents and Settings\Елена\Мои документы\ПРЕЗЕНТАЦИИ\Фекдченко - №6\САЙТ1.files\image034.gif"/>
          <p:cNvPicPr/>
          <p:nvPr/>
        </p:nvPicPr>
        <p:blipFill>
          <a:blip r:embed="rId1"/>
          <a:stretch/>
        </p:blipFill>
        <p:spPr>
          <a:xfrm>
            <a:off x="3000240" y="2000160"/>
            <a:ext cx="4497480" cy="4316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ормы и методы здоровьесбережения в О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удовлетворительное состояние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нутришкольной среды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нитогинг состояния  помещения,школьной мебели, оборудов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рациональная организация учебного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цесса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ибкое чередование учебной и неучебной деятельности, гибкое моделирование образовательной траектор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изкая двигательная активность-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ключение в режим учебного процесса динамических минуто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еадекватные приемы и методы преподавания---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Гибкие  формы обучения, индивидуальный подход;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D:\Мои документы\Картинки\Animated\человечки\j0223734.gif"/>
          <p:cNvPicPr/>
          <p:nvPr/>
        </p:nvPicPr>
        <p:blipFill>
          <a:blip r:embed="rId1"/>
          <a:stretch/>
        </p:blipFill>
        <p:spPr>
          <a:xfrm>
            <a:off x="3429000" y="0"/>
            <a:ext cx="273852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трессовые ситуации на уроке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ая система воспитания, система дополнительного образ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арушение здоровья учащихся 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изкультурная работа, лечебные процедур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3" descr="D:\Мои документы\Картинки\Animated\спорт\j0303467.gif"/>
          <p:cNvPicPr/>
          <p:nvPr/>
        </p:nvPicPr>
        <p:blipFill>
          <a:blip r:embed="rId1"/>
          <a:stretch/>
        </p:blipFill>
        <p:spPr>
          <a:xfrm>
            <a:off x="6143760" y="5643720"/>
            <a:ext cx="799920" cy="561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D:\Мои документы\Картинки\Animated\спорт\j0303467.gif"/>
          <p:cNvPicPr/>
          <p:nvPr/>
        </p:nvPicPr>
        <p:blipFill>
          <a:blip r:embed="rId2"/>
          <a:stretch/>
        </p:blipFill>
        <p:spPr>
          <a:xfrm>
            <a:off x="6215040" y="564372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D:\Мои документы\Картинки\Animated\спорт\j0303467.gif"/>
          <p:cNvPicPr/>
          <p:nvPr/>
        </p:nvPicPr>
        <p:blipFill>
          <a:blip r:embed="rId3"/>
          <a:stretch/>
        </p:blipFill>
        <p:spPr>
          <a:xfrm>
            <a:off x="5692680" y="4857840"/>
            <a:ext cx="2441520" cy="1714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D:\Мои документы\Картинки\Animated\человечки\j0254414.gif"/>
          <p:cNvPicPr/>
          <p:nvPr/>
        </p:nvPicPr>
        <p:blipFill>
          <a:blip r:embed="rId4"/>
          <a:stretch/>
        </p:blipFill>
        <p:spPr>
          <a:xfrm>
            <a:off x="1857240" y="285840"/>
            <a:ext cx="19227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тсутствие культуры здоровья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ции, беседы, просветительская работа с родителями и ученик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12" descr="D:\Елена\фото семинар. конференции\P1020408.JPG"/>
          <p:cNvPicPr/>
          <p:nvPr/>
        </p:nvPicPr>
        <p:blipFill>
          <a:blip r:embed="rId1"/>
          <a:stretch/>
        </p:blipFill>
        <p:spPr>
          <a:xfrm>
            <a:off x="5429160" y="3822840"/>
            <a:ext cx="3143520" cy="2463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D:\Елена\Фото проект\P1030603.JPG"/>
          <p:cNvPicPr/>
          <p:nvPr/>
        </p:nvPicPr>
        <p:blipFill>
          <a:blip r:embed="rId2"/>
          <a:stretch/>
        </p:blipFill>
        <p:spPr>
          <a:xfrm>
            <a:off x="1573200" y="3821040"/>
            <a:ext cx="3284640" cy="246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ы за них в ответ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4" descr="P1010180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х здоровье в наших руках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6" descr="C:\Documents and Settings\Учитель\Рабочий стол\видеошкола\№2\P1040532.JPG"/>
          <p:cNvPicPr/>
          <p:nvPr/>
        </p:nvPicPr>
        <p:blipFill>
          <a:blip r:embed="rId1"/>
          <a:stretch/>
        </p:blipFill>
        <p:spPr>
          <a:xfrm>
            <a:off x="1523880" y="3571920"/>
            <a:ext cx="3976920" cy="2523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SS852829"/>
          <p:cNvPicPr/>
          <p:nvPr/>
        </p:nvPicPr>
        <p:blipFill>
          <a:blip r:embed="rId2"/>
          <a:stretch/>
        </p:blipFill>
        <p:spPr>
          <a:xfrm>
            <a:off x="5214960" y="1571760"/>
            <a:ext cx="3429000" cy="257148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ы, содействующие здоров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ность мероприятий, направленных на укрепление здоровья (тесная связь всех педагогических и медицинских сотрудников школ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ебный процесс организован разумно и природосообразно (расписание, нагрузки-соответствуют возрастным особенностям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здать школу здоровья- БОЛЬШОЙ ТРУД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557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-х компонентная модель школы, содействующей здоровью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Ориентация в поведении на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Школьная  медицинская служба проводит раннюю профилактику и идентификац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ая школьная среда: безопасное питание, соблюдение санитарных норм,  здоровый психологический клима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 чем мы боремся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кольные факторы рис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Стрессовая педагогическ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ика (кри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нтенсификация образования (большие нагрузк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Несоответствие методик обучения возрастным особенностя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j0285261"/>
          <p:cNvPicPr/>
          <p:nvPr/>
        </p:nvPicPr>
        <p:blipFill>
          <a:blip r:embed="rId1"/>
          <a:stretch/>
        </p:blipFill>
        <p:spPr>
          <a:xfrm>
            <a:off x="7000920" y="1285920"/>
            <a:ext cx="1884240" cy="244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ждевременное начало систематическ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облюдение физиологических и гигиенических требований в учебном процесс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рамотность педагогов в вопросах здоровьесбережени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егрузки….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4" descr="j0284135"/>
          <p:cNvPicPr/>
          <p:nvPr/>
        </p:nvPicPr>
        <p:blipFill>
          <a:blip r:embed="rId1"/>
          <a:stretch/>
        </p:blipFill>
        <p:spPr>
          <a:xfrm>
            <a:off x="1727280" y="2571840"/>
            <a:ext cx="3130560" cy="3763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Мои документы\Картинки\Animated\человечки\j0283742.gif"/>
          <p:cNvPicPr/>
          <p:nvPr/>
        </p:nvPicPr>
        <p:blipFill>
          <a:blip r:embed="rId2"/>
          <a:stretch/>
        </p:blipFill>
        <p:spPr>
          <a:xfrm>
            <a:off x="5429160" y="1285920"/>
            <a:ext cx="35323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8:54:13Z</dcterms:created>
  <dc:creator>Елена</dc:creator>
  <dc:description/>
  <dc:language>en-US</dc:language>
  <cp:lastModifiedBy>Windows 7</cp:lastModifiedBy>
  <dcterms:modified xsi:type="dcterms:W3CDTF">2012-11-27T15:41:34Z</dcterms:modified>
  <cp:revision>25</cp:revision>
  <dc:subject/>
  <dc:title>Здоровьесберегающие технологии в школе</dc:title>
</cp:coreProperties>
</file>