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CFC-8F11-405D-AE76-7EEDD72E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49F-76D9-42B1-94A6-DD4C13B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E96-6071-44E2-9D30-210A14D3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A4A-B84E-4513-A60E-2B28B2EC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5FD-8662-48CB-90B8-2D326E1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534-ECBC-4FB2-B387-6AE24181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D0B-C1CA-49A8-AF43-405FE582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ABD-65B9-446C-BDE4-44A69D38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E13-E51B-4E9E-A8D6-576F9BE7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6E7-430A-44D8-9B2F-07B9254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FD0-00D7-42BE-87D3-9737F46B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3E8-0A73-4023-A729-6453F784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B2FC-620D-47FA-AE53-B3649EED9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&#1076;&#1074;&#1077; &#1088;&#1091;&#1082;&#1080;\&#1060;&#1080;&#1079;&#1084;&#1080;&#1085;&#1091;&#1090;&#1082;&#1072; &#1076;&#1074;&#1077; &#1088;&#1091;&#1082;&#1080;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&#1091;&#1084;&#1085; &#1080; &#1076;&#1077;&#1083; &#1085;&#1072; 10 100 1000.ppt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3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&#1055;&#1077;&#1090;&#1077;&#1088;&#1089;&#1086;&#1085;-3-demo" TargetMode="External"/><Relationship Id="rId3" Type="http://schemas.openxmlformats.org/officeDocument/2006/relationships/hyperlink" Target="&#1055;&#1077;&#1090;&#1077;&#1088;&#1089;&#1086;&#1085;-3-demo" TargetMode="External"/><Relationship Id="rId4" Type="http://schemas.openxmlformats.org/officeDocument/2006/relationships/hyperlink" Target="&#1055;&#1077;&#1090;&#1077;&#1088;&#1089;&#1086;&#1085;-3-demo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3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&#1058;&#1072;&#1073;&#1083;&#1080;&#1094;&#1072; &#1091;&#1084;&#1085;&#1086;&#1078;&#1077;&#1085;&#1080;&#1103; &#1080; &#1076;&#1077;&#1083;&#1077;&#1085;&#1080;&#1103;.sw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64296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А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320" y="3886200"/>
            <a:ext cx="35715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МБОУ «Стрелецкая СОШ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еляева Ольга Борис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ычис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Блок-схема: узел 4"/>
          <p:cNvSpPr/>
          <p:nvPr/>
        </p:nvSpPr>
        <p:spPr>
          <a:xfrm>
            <a:off x="1857240" y="1285920"/>
            <a:ext cx="157176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5"/>
          <p:cNvSpPr/>
          <p:nvPr/>
        </p:nvSpPr>
        <p:spPr>
          <a:xfrm>
            <a:off x="1857240" y="2928960"/>
            <a:ext cx="1571760" cy="1357200"/>
          </a:xfrm>
          <a:prstGeom prst="flowChartConnector">
            <a:avLst/>
          </a:prstGeom>
          <a:solidFill>
            <a:srgbClr val="e62a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7"/>
          <p:cNvSpPr/>
          <p:nvPr/>
        </p:nvSpPr>
        <p:spPr>
          <a:xfrm>
            <a:off x="1857240" y="4572000"/>
            <a:ext cx="1571760" cy="135720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узел 8"/>
          <p:cNvSpPr/>
          <p:nvPr/>
        </p:nvSpPr>
        <p:spPr>
          <a:xfrm>
            <a:off x="5857920" y="1285920"/>
            <a:ext cx="157176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9"/>
          <p:cNvSpPr/>
          <p:nvPr/>
        </p:nvSpPr>
        <p:spPr>
          <a:xfrm>
            <a:off x="5857920" y="2928960"/>
            <a:ext cx="1571760" cy="1357200"/>
          </a:xfrm>
          <a:prstGeom prst="flowChartConnector">
            <a:avLst/>
          </a:prstGeom>
          <a:solidFill>
            <a:srgbClr val="e62a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узел 10"/>
          <p:cNvSpPr/>
          <p:nvPr/>
        </p:nvSpPr>
        <p:spPr>
          <a:xfrm>
            <a:off x="5857920" y="4572000"/>
            <a:ext cx="1571760" cy="135720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1"/>
          <p:cNvSpPr/>
          <p:nvPr/>
        </p:nvSpPr>
        <p:spPr>
          <a:xfrm>
            <a:off x="3929040" y="178596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2"/>
          <p:cNvSpPr/>
          <p:nvPr/>
        </p:nvSpPr>
        <p:spPr>
          <a:xfrm>
            <a:off x="3929040" y="342900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13"/>
          <p:cNvSpPr/>
          <p:nvPr/>
        </p:nvSpPr>
        <p:spPr>
          <a:xfrm>
            <a:off x="3929040" y="514368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3857760" y="26431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3857760" y="1071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3929040" y="4357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2286000" y="4572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2357280" y="3000240"/>
            <a:ext cx="57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2357280" y="128592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6000840" y="15001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6000840" y="307188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2"/>
          <p:cNvSpPr/>
          <p:nvPr/>
        </p:nvSpPr>
        <p:spPr>
          <a:xfrm>
            <a:off x="5857920" y="478620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делай вывод</a:t>
            </a:r>
            <a:br>
              <a:rPr sz="6000"/>
            </a:b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ак умножить число на 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500040" y="264312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два нуля, сколько их в числе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785960" y="53578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▪ 1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1763640" y="3000240"/>
            <a:ext cx="736560" cy="71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195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1835280" y="2857680"/>
            <a:ext cx="736560" cy="71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78035E-007 C -1.66667E-006 -0.20948 0.04045 -0.38289 0.08924 -0.38289 C 0.14063 -0.38289 0.1809 -0.20948 0.1809 5.78035E-007 C 0.1809 0.20971 0.22118 0.38243 0.26945 0.38243 C 0.3184 0.38243 0.35868 0.20971 0.35868 5.78035E-007 C 0.35868 -0.20948 0.39896 -0.38289 0.44792 -0.38289 C 0.49601 -0.38289 0.53629 -0.20948 0.53629 5.78035E-007 C 0.53629 0.20971 0.57674 0.38243 0.62795 0.38243 C 0.67743 0.38243 0.71667 0.20971 0.71667 5.78035E-007 C 0.71667 -0.20948 0.67743 -0.38289 0.62795 -0.38289 C 0.57674 -0.38289 0.53629 -0.20948 0.53629 5.78035E-007 C 0.53629 0.20971 0.49601 0.38243 0.44792 0.38243 C 0.39896 0.38243 0.35868 0.20971 0.35868 5.78035E-007 C 0.35868 -0.20948 0.3184 -0.38289 0.26945 -0.38289 C 0.22118 -0.38289 0.1809 -0.20948 0.1809 5.78035E-007 C 0.1809 0.20971 0.14063 0.38243 0.08924 0.38243 C 0.04045 0.38243 -1.66667E-006 0.20971 -1.66667E-006 5.78035E-007 Z">
                                      <p:cBhvr>
                                        <p:cTn id="208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2"/>
          <p:cNvSpPr/>
          <p:nvPr/>
        </p:nvSpPr>
        <p:spPr>
          <a:xfrm>
            <a:off x="8001000" y="3357720"/>
            <a:ext cx="81900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221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285840" y="428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. 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4572000" y="285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"/>
          <p:cNvSpPr/>
          <p:nvPr/>
        </p:nvSpPr>
        <p:spPr>
          <a:xfrm>
            <a:off x="1071720" y="1643040"/>
            <a:ext cx="142848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5"/>
          <p:cNvSpPr/>
          <p:nvPr/>
        </p:nvSpPr>
        <p:spPr>
          <a:xfrm>
            <a:off x="1071720" y="3357720"/>
            <a:ext cx="142848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6"/>
          <p:cNvSpPr/>
          <p:nvPr/>
        </p:nvSpPr>
        <p:spPr>
          <a:xfrm>
            <a:off x="1071720" y="4929120"/>
            <a:ext cx="142848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371484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650088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9"/>
          <p:cNvSpPr/>
          <p:nvPr/>
        </p:nvSpPr>
        <p:spPr>
          <a:xfrm>
            <a:off x="3714840" y="335772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0"/>
          <p:cNvSpPr/>
          <p:nvPr/>
        </p:nvSpPr>
        <p:spPr>
          <a:xfrm>
            <a:off x="6500880" y="328608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1"/>
          <p:cNvSpPr/>
          <p:nvPr/>
        </p:nvSpPr>
        <p:spPr>
          <a:xfrm>
            <a:off x="371484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2"/>
          <p:cNvSpPr/>
          <p:nvPr/>
        </p:nvSpPr>
        <p:spPr>
          <a:xfrm>
            <a:off x="650088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428840" y="178596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1428840" y="3429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1214280" y="5072040"/>
            <a:ext cx="12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6858000" y="171468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6929280" y="335772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6572160" y="5072040"/>
            <a:ext cx="12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3857760" y="178596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3857760" y="342900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3643200" y="5072040"/>
            <a:ext cx="171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право 22"/>
          <p:cNvSpPr/>
          <p:nvPr/>
        </p:nvSpPr>
        <p:spPr>
          <a:xfrm>
            <a:off x="264312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право 23"/>
          <p:cNvSpPr/>
          <p:nvPr/>
        </p:nvSpPr>
        <p:spPr>
          <a:xfrm>
            <a:off x="2643120" y="371484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право 24"/>
          <p:cNvSpPr/>
          <p:nvPr/>
        </p:nvSpPr>
        <p:spPr>
          <a:xfrm>
            <a:off x="2643120" y="53578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25"/>
          <p:cNvSpPr/>
          <p:nvPr/>
        </p:nvSpPr>
        <p:spPr>
          <a:xfrm>
            <a:off x="535788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26"/>
          <p:cNvSpPr/>
          <p:nvPr/>
        </p:nvSpPr>
        <p:spPr>
          <a:xfrm>
            <a:off x="5357880" y="378612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27"/>
          <p:cNvSpPr/>
          <p:nvPr/>
        </p:nvSpPr>
        <p:spPr>
          <a:xfrm>
            <a:off x="5429160" y="53578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8"/>
          <p:cNvSpPr/>
          <p:nvPr/>
        </p:nvSpPr>
        <p:spPr>
          <a:xfrm>
            <a:off x="2428920" y="10717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5143680" y="100008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285840" y="428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. 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643280" y="285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4"/>
          <p:cNvSpPr/>
          <p:nvPr/>
        </p:nvSpPr>
        <p:spPr>
          <a:xfrm>
            <a:off x="1071720" y="1643040"/>
            <a:ext cx="142848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5"/>
          <p:cNvSpPr/>
          <p:nvPr/>
        </p:nvSpPr>
        <p:spPr>
          <a:xfrm>
            <a:off x="1071720" y="3357720"/>
            <a:ext cx="142848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6"/>
          <p:cNvSpPr/>
          <p:nvPr/>
        </p:nvSpPr>
        <p:spPr>
          <a:xfrm>
            <a:off x="571680" y="4929120"/>
            <a:ext cx="142848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7"/>
          <p:cNvSpPr/>
          <p:nvPr/>
        </p:nvSpPr>
        <p:spPr>
          <a:xfrm>
            <a:off x="3714840" y="1643040"/>
            <a:ext cx="150012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8"/>
          <p:cNvSpPr/>
          <p:nvPr/>
        </p:nvSpPr>
        <p:spPr>
          <a:xfrm>
            <a:off x="650088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9"/>
          <p:cNvSpPr/>
          <p:nvPr/>
        </p:nvSpPr>
        <p:spPr>
          <a:xfrm>
            <a:off x="3714840" y="3357720"/>
            <a:ext cx="150012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"/>
          <p:cNvSpPr/>
          <p:nvPr/>
        </p:nvSpPr>
        <p:spPr>
          <a:xfrm>
            <a:off x="6500880" y="328608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"/>
          <p:cNvSpPr/>
          <p:nvPr/>
        </p:nvSpPr>
        <p:spPr>
          <a:xfrm>
            <a:off x="3357720" y="4929120"/>
            <a:ext cx="221436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2"/>
          <p:cNvSpPr/>
          <p:nvPr/>
        </p:nvSpPr>
        <p:spPr>
          <a:xfrm>
            <a:off x="671508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1428840" y="178596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1428840" y="3429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642960" y="507204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929280" y="171468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6858000" y="335772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6858000" y="507204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3643200" y="1714680"/>
            <a:ext cx="178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3643200" y="3429000"/>
            <a:ext cx="171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3429000" y="507204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право 22"/>
          <p:cNvSpPr/>
          <p:nvPr/>
        </p:nvSpPr>
        <p:spPr>
          <a:xfrm>
            <a:off x="264312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право 23"/>
          <p:cNvSpPr/>
          <p:nvPr/>
        </p:nvSpPr>
        <p:spPr>
          <a:xfrm>
            <a:off x="2643120" y="371484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24"/>
          <p:cNvSpPr/>
          <p:nvPr/>
        </p:nvSpPr>
        <p:spPr>
          <a:xfrm>
            <a:off x="2214720" y="5357880"/>
            <a:ext cx="928440" cy="357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право 25"/>
          <p:cNvSpPr/>
          <p:nvPr/>
        </p:nvSpPr>
        <p:spPr>
          <a:xfrm>
            <a:off x="535788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трелка вправо 26"/>
          <p:cNvSpPr/>
          <p:nvPr/>
        </p:nvSpPr>
        <p:spPr>
          <a:xfrm>
            <a:off x="5357880" y="378612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27"/>
          <p:cNvSpPr/>
          <p:nvPr/>
        </p:nvSpPr>
        <p:spPr>
          <a:xfrm>
            <a:off x="5715000" y="542916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2428920" y="107172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9"/>
          <p:cNvSpPr/>
          <p:nvPr/>
        </p:nvSpPr>
        <p:spPr>
          <a:xfrm>
            <a:off x="5143680" y="10000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714240" y="42876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нулей, 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285840" y="29289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  разделить   число, оканчивающееся нулями,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отброси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ько нул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1"/>
          <p:cNvSpPr/>
          <p:nvPr/>
        </p:nvSpPr>
        <p:spPr>
          <a:xfrm>
            <a:off x="6357960" y="1214280"/>
            <a:ext cx="2000160" cy="4786560"/>
          </a:xfrm>
          <a:prstGeom prst="rect">
            <a:avLst/>
          </a:prstGeom>
          <a:solidFill>
            <a:srgbClr val="f1b1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2"/>
          <p:cNvSpPr/>
          <p:nvPr/>
        </p:nvSpPr>
        <p:spPr>
          <a:xfrm>
            <a:off x="3714840" y="1214280"/>
            <a:ext cx="2357280" cy="4786560"/>
          </a:xfrm>
          <a:prstGeom prst="rect">
            <a:avLst/>
          </a:prstGeom>
          <a:solidFill>
            <a:srgbClr val="85ffb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0"/>
          <p:cNvSpPr/>
          <p:nvPr/>
        </p:nvSpPr>
        <p:spPr>
          <a:xfrm>
            <a:off x="428760" y="1214280"/>
            <a:ext cx="3000240" cy="478656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4"/>
          <p:cNvSpPr/>
          <p:nvPr/>
        </p:nvSpPr>
        <p:spPr>
          <a:xfrm>
            <a:off x="285840" y="14292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ние на выб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4357800" y="5000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500040" y="14288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6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428760" y="2071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50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428760" y="27860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5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357120" y="3429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5.80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57120" y="40719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600.00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3786120" y="142884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714840" y="20718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3714840" y="271476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90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3643200" y="342900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.00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3714840" y="407196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35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6715080" y="135720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72160" y="192888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6500880" y="2714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.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6429240" y="34290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5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6429240" y="40719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0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3080" y="714240"/>
            <a:ext cx="557208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С малой удачи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</a:t>
            </a:r>
            <a:br>
              <a:rPr sz="6600"/>
            </a:b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начинается</a:t>
            </a:r>
            <a:br>
              <a:rPr sz="6600"/>
            </a:b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   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большой успех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.</a:t>
            </a: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86080" y="1357200"/>
            <a:ext cx="22147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&amp;Zcy;&amp;acy;&amp;bcy;&amp;ocy;&amp;tcy;&amp;acy; &amp;ocy; &amp;zcy;&amp;dcy;&amp;ocy;&amp;rcy;&amp;ocy;&amp;vcy;&amp;softcy;&amp;iecy;. &amp;Rcy;&amp;ucy;&amp;kcy;&amp;icy; &amp;mcy;&amp;ocy;&amp;iecy;&amp;mcy; &amp;pcy;&amp;iecy;&amp;rcy;&amp;iecy;&amp;dcy; &amp;iecy;&amp;dcy;&amp;ocy;&amp;jcy;. &amp;Fcy;&amp;icy;&amp;zcy;&amp;mcy;&amp;icy;&amp;ncy;&amp;ucy;&amp;tcy;&amp;kcy;&amp;icy;."/>
          <p:cNvPicPr/>
          <p:nvPr/>
        </p:nvPicPr>
        <p:blipFill>
          <a:blip r:embed="rId3"/>
          <a:stretch/>
        </p:blipFill>
        <p:spPr>
          <a:xfrm>
            <a:off x="1285920" y="1214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1158840" y="1571760"/>
            <a:ext cx="44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0 х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3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(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6"/>
          <p:cNvSpPr/>
          <p:nvPr/>
        </p:nvSpPr>
        <p:spPr>
          <a:xfrm>
            <a:off x="2804400" y="3214800"/>
            <a:ext cx="52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0 х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3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(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ns2.onapp.xochew.ru/uploads/gallery/comthumb/39/food_1920x1080_017.jpg"/>
          <p:cNvPicPr/>
          <p:nvPr/>
        </p:nvPicPr>
        <p:blipFill>
          <a:blip r:embed="rId2"/>
          <a:stretch/>
        </p:blipFill>
        <p:spPr>
          <a:xfrm>
            <a:off x="2928960" y="4214880"/>
            <a:ext cx="3929040" cy="226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&amp;Scy;&amp;acy;&amp;khcy;&amp;acy;&amp;rcy;&amp;ncy;&amp;ycy;&amp;iecy; &amp;lcy;&amp;iecy;&amp;dcy;&amp;iecy;&amp;ncy;&amp;tscy;&amp;ycy;"/>
          <p:cNvPicPr/>
          <p:nvPr/>
        </p:nvPicPr>
        <p:blipFill>
          <a:blip r:embed="rId3"/>
          <a:stretch/>
        </p:blipFill>
        <p:spPr>
          <a:xfrm>
            <a:off x="6858000" y="4143240"/>
            <a:ext cx="1928880" cy="2411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&amp;Rcy;&amp;iecy;&amp;tscy;&amp;iecy;&amp;pcy;&amp;tcy; - &amp;Kcy;&amp;ocy;&amp;ncy;&amp;fcy;&amp;iecy;&amp;tcy;&amp;ycy; "/>
          <p:cNvPicPr/>
          <p:nvPr/>
        </p:nvPicPr>
        <p:blipFill>
          <a:blip r:embed="rId4"/>
          <a:stretch/>
        </p:blipFill>
        <p:spPr>
          <a:xfrm>
            <a:off x="642960" y="428616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9680" y="1714320"/>
            <a:ext cx="54291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) 4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: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40 (п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одержимое 5"/>
          <p:cNvSpPr/>
          <p:nvPr/>
        </p:nvSpPr>
        <p:spPr>
          <a:xfrm>
            <a:off x="357120" y="2571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0 порций мороже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ttp://go.mail.ru/imgpreview?key=http%3A//fitfan.ru/uploads/posts/2010-10/1286907129%5Ficecream.jpg&amp;mb=imgdb_preview_111&amp;q=90&amp;w=100"/>
          <p:cNvPicPr/>
          <p:nvPr/>
        </p:nvPicPr>
        <p:blipFill>
          <a:blip r:embed="rId2"/>
          <a:stretch/>
        </p:blipFill>
        <p:spPr>
          <a:xfrm>
            <a:off x="857160" y="3857760"/>
            <a:ext cx="1857600" cy="2600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go.mail.ru/imgpreview?key=http%3A//ist.cook-time.com/img0007/13/713%5F0159yz1%5F9117%5Fi.jpg&amp;mb=imgdb_preview_16&amp;q=90&amp;w=134"/>
          <p:cNvPicPr/>
          <p:nvPr/>
        </p:nvPicPr>
        <p:blipFill>
          <a:blip r:embed="rId3"/>
          <a:srcRect l="13568" t="0" r="8406" b="0"/>
          <a:stretch/>
        </p:blipFill>
        <p:spPr>
          <a:xfrm>
            <a:off x="3143160" y="4214880"/>
            <a:ext cx="2643120" cy="2529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&amp;Mcy;&amp;ocy;&amp;rcy;&amp;ocy;&amp;zhcy;&amp;iecy;&amp;ncy;&amp;ocy;&amp;iecy;"/>
          <p:cNvPicPr/>
          <p:nvPr/>
        </p:nvPicPr>
        <p:blipFill>
          <a:blip r:embed="rId4"/>
          <a:stretch/>
        </p:blipFill>
        <p:spPr>
          <a:xfrm>
            <a:off x="6000840" y="37861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ндивидуальная  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080" y="1357200"/>
            <a:ext cx="22147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тест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http://allforchildren.ru/pictures/school21_s/school2119.jpg"/>
          <p:cNvPicPr/>
          <p:nvPr/>
        </p:nvPicPr>
        <p:blipFill>
          <a:blip r:embed="rId3"/>
          <a:stretch/>
        </p:blipFill>
        <p:spPr>
          <a:xfrm>
            <a:off x="428760" y="3357720"/>
            <a:ext cx="2512800" cy="2428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allforchildren.ru/pictures/school21_s/school2149.jpg"/>
          <p:cNvPicPr/>
          <p:nvPr/>
        </p:nvPicPr>
        <p:blipFill>
          <a:blip r:embed="rId4"/>
          <a:stretch/>
        </p:blipFill>
        <p:spPr>
          <a:xfrm>
            <a:off x="3286080" y="2714760"/>
            <a:ext cx="2286000" cy="146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allforchildren.ru/pictures/school21_s/school2174.jpg"/>
          <p:cNvPicPr/>
          <p:nvPr/>
        </p:nvPicPr>
        <p:blipFill>
          <a:blip r:embed="rId5"/>
          <a:stretch/>
        </p:blipFill>
        <p:spPr>
          <a:xfrm>
            <a:off x="6215040" y="1500120"/>
            <a:ext cx="1865160" cy="2071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http://allforchildren.ru/pictures/school21_s/school2133.jpg"/>
          <p:cNvPicPr/>
          <p:nvPr/>
        </p:nvPicPr>
        <p:blipFill>
          <a:blip r:embed="rId6"/>
          <a:stretch/>
        </p:blipFill>
        <p:spPr>
          <a:xfrm>
            <a:off x="7786800" y="5214960"/>
            <a:ext cx="109512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http://allforchildren.ru/pictures/school25_s/school2513.jpg"/>
          <p:cNvPicPr/>
          <p:nvPr/>
        </p:nvPicPr>
        <p:blipFill>
          <a:blip r:embed="rId7"/>
          <a:stretch/>
        </p:blipFill>
        <p:spPr>
          <a:xfrm>
            <a:off x="714240" y="1357200"/>
            <a:ext cx="2249640" cy="1500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http://allforchildren.ru/pictures/school25_s/school2539.jpg"/>
          <p:cNvPicPr/>
          <p:nvPr/>
        </p:nvPicPr>
        <p:blipFill>
          <a:blip r:embed="rId8"/>
          <a:stretch/>
        </p:blipFill>
        <p:spPr>
          <a:xfrm>
            <a:off x="4214880" y="4572000"/>
            <a:ext cx="267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3"/>
          <p:cNvSpPr/>
          <p:nvPr/>
        </p:nvSpPr>
        <p:spPr>
          <a:xfrm>
            <a:off x="1142640" y="1714680"/>
            <a:ext cx="715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вторенье –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ь ученья»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1714320" y="57168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ЪЯСНИТЬ  ПОСЛОВ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381640"/>
            <a:ext cx="1071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285840" y="42876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нулей, 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285840" y="41432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  разделить   число, оканчивающееся нулями,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отброси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ько нул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99880" y="2571480"/>
            <a:ext cx="27291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071800" y="221436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то тяжеле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0 гусей или 100 у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http://miragro.com/sites/default/files/Gusi/romenskie.jpg"/>
          <p:cNvPicPr/>
          <p:nvPr/>
        </p:nvPicPr>
        <p:blipFill>
          <a:blip r:embed="rId2"/>
          <a:stretch/>
        </p:blipFill>
        <p:spPr>
          <a:xfrm>
            <a:off x="642960" y="714240"/>
            <a:ext cx="1787400" cy="2408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ttp://go1.imgsmail.ru/imgpreview?key=http%3A//forum.stalker-simbion.ru/uploads/gallery/album%5F14/gallery%5F1567%5F14%5F812314.jpg&amp;mb=imgdb_preview_100"/>
          <p:cNvPicPr/>
          <p:nvPr/>
        </p:nvPicPr>
        <p:blipFill>
          <a:blip r:embed="rId3"/>
          <a:stretch/>
        </p:blipFill>
        <p:spPr>
          <a:xfrm>
            <a:off x="6429240" y="1214280"/>
            <a:ext cx="2314800" cy="15717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5"/>
          <p:cNvSpPr/>
          <p:nvPr/>
        </p:nvSpPr>
        <p:spPr>
          <a:xfrm>
            <a:off x="2201400" y="178596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усь весит 12 к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4797000" y="178596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утка 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://go3.imgsmail.ru/imgpreview?key=http%3A//zhestokosti.net/abuse/images/bigimages/duck/duck-ff-02.jpg&amp;mb=imgdb_preview_92"/>
          <p:cNvPicPr/>
          <p:nvPr/>
        </p:nvPicPr>
        <p:blipFill>
          <a:blip r:embed="rId4"/>
          <a:stretch/>
        </p:blipFill>
        <p:spPr>
          <a:xfrm>
            <a:off x="4572000" y="3429000"/>
            <a:ext cx="3857760" cy="2948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://go4.imgsmail.ru/imgpreview?key=http%3A//belhuntclub.net/forums/uploads/gallery/gallery/album%5F3/gallery%5F1%5F3%5F1980.jpg&amp;mb=imgdb_preview_97"/>
          <p:cNvPicPr/>
          <p:nvPr/>
        </p:nvPicPr>
        <p:blipFill>
          <a:blip r:embed="rId5"/>
          <a:srcRect l="7493" t="0" r="21368" b="15010"/>
          <a:stretch/>
        </p:blipFill>
        <p:spPr>
          <a:xfrm>
            <a:off x="857160" y="3429000"/>
            <a:ext cx="3286080" cy="29401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9"/>
          <p:cNvSpPr/>
          <p:nvPr/>
        </p:nvSpPr>
        <p:spPr>
          <a:xfrm>
            <a:off x="857160" y="435780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▪ 10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5072040" y="428616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▪ 100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2857680" y="52149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143680" y="521496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4143240" y="500076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ндивидуальная  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286080" y="1357200"/>
            <a:ext cx="22147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тест </a:t>
            </a: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http://allforchildren.ru/pictures/school21_s/school2119.jpg"/>
          <p:cNvPicPr/>
          <p:nvPr/>
        </p:nvPicPr>
        <p:blipFill>
          <a:blip r:embed="rId5"/>
          <a:stretch/>
        </p:blipFill>
        <p:spPr>
          <a:xfrm>
            <a:off x="428760" y="3357720"/>
            <a:ext cx="2512800" cy="2428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allforchildren.ru/pictures/school21_s/school2149.jpg"/>
          <p:cNvPicPr/>
          <p:nvPr/>
        </p:nvPicPr>
        <p:blipFill>
          <a:blip r:embed="rId6"/>
          <a:stretch/>
        </p:blipFill>
        <p:spPr>
          <a:xfrm>
            <a:off x="3286080" y="2714760"/>
            <a:ext cx="2286000" cy="1463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http://allforchildren.ru/pictures/school21_s/school2174.jpg"/>
          <p:cNvPicPr/>
          <p:nvPr/>
        </p:nvPicPr>
        <p:blipFill>
          <a:blip r:embed="rId7"/>
          <a:stretch/>
        </p:blipFill>
        <p:spPr>
          <a:xfrm>
            <a:off x="6215040" y="1500120"/>
            <a:ext cx="1865160" cy="2071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http://allforchildren.ru/pictures/school21_s/school2133.jpg"/>
          <p:cNvPicPr/>
          <p:nvPr/>
        </p:nvPicPr>
        <p:blipFill>
          <a:blip r:embed="rId8"/>
          <a:stretch/>
        </p:blipFill>
        <p:spPr>
          <a:xfrm>
            <a:off x="7786800" y="5214960"/>
            <a:ext cx="1095120" cy="1428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http://allforchildren.ru/pictures/school25_s/school2513.jpg"/>
          <p:cNvPicPr/>
          <p:nvPr/>
        </p:nvPicPr>
        <p:blipFill>
          <a:blip r:embed="rId9"/>
          <a:stretch/>
        </p:blipFill>
        <p:spPr>
          <a:xfrm>
            <a:off x="714240" y="1357200"/>
            <a:ext cx="2249640" cy="1500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http://allforchildren.ru/pictures/school25_s/school2539.jpg"/>
          <p:cNvPicPr/>
          <p:nvPr/>
        </p:nvPicPr>
        <p:blipFill>
          <a:blip r:embed="rId10"/>
          <a:stretch/>
        </p:blipFill>
        <p:spPr>
          <a:xfrm>
            <a:off x="4214880" y="4572000"/>
            <a:ext cx="267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http://allforchildren.ru/pictures/school21_s/school2111.jpg"/>
          <p:cNvPicPr/>
          <p:nvPr/>
        </p:nvPicPr>
        <p:blipFill>
          <a:blip r:embed="rId2"/>
          <a:stretch/>
        </p:blipFill>
        <p:spPr>
          <a:xfrm>
            <a:off x="500040" y="1428840"/>
            <a:ext cx="3571920" cy="192888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4"/>
          <p:cNvSpPr/>
          <p:nvPr/>
        </p:nvSpPr>
        <p:spPr>
          <a:xfrm>
            <a:off x="1650960" y="1857240"/>
            <a:ext cx="151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79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4167360" y="192888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    и     № 7 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357120" y="3786120"/>
            <a:ext cx="865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№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и № 6 а) - выполнить все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№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  б) - по желанию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://school-ppt.3dn.ru/kartinki/school2/sch009.png"/>
          <p:cNvPicPr/>
          <p:nvPr/>
        </p:nvPicPr>
        <p:blipFill>
          <a:blip r:embed="rId2"/>
          <a:stretch/>
        </p:blipFill>
        <p:spPr>
          <a:xfrm>
            <a:off x="676440" y="0"/>
            <a:ext cx="77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абличное умножение и 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allforchildren.ru/pictures/school21_s/school2174.jpg"/>
          <p:cNvPicPr/>
          <p:nvPr/>
        </p:nvPicPr>
        <p:blipFill>
          <a:blip r:embed="rId3"/>
          <a:stretch/>
        </p:blipFill>
        <p:spPr>
          <a:xfrm>
            <a:off x="7715160" y="5373720"/>
            <a:ext cx="1143000" cy="127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school-ppt.3dn.ru/kartinki/school2/sch004.png"/>
          <p:cNvPicPr/>
          <p:nvPr/>
        </p:nvPicPr>
        <p:blipFill>
          <a:blip r:embed="rId4"/>
          <a:stretch/>
        </p:blipFill>
        <p:spPr>
          <a:xfrm>
            <a:off x="2500200" y="3143160"/>
            <a:ext cx="357192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Для шаблона использован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интернет ресур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Ученики  </a:t>
            </a:r>
            <a:r>
              <a:rPr b="0" lang="en-US" sz="1200" spc="-1" strike="noStrike">
                <a:solidFill>
                  <a:srgbClr val="ebf1de"/>
                </a:solidFill>
                <a:latin typeface="Book Antiqua"/>
              </a:rPr>
              <a:t>http://fotki.yandex.ru/users/bagira0401/view/415700/?page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Тетрадный лист  </a:t>
            </a:r>
            <a:r>
              <a:rPr b="0" lang="en-US" sz="1200" spc="-1" strike="noStrike">
                <a:solidFill>
                  <a:srgbClr val="ebf1de"/>
                </a:solidFill>
                <a:latin typeface="Book Antiqua"/>
              </a:rPr>
              <a:t>http://detsad-kitty.ru/shablon/klipart/34358-klipart-na-prozrachnom-fone-tetradnye-list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bf1de"/>
                </a:solidFill>
                <a:latin typeface="Book Antiqua"/>
              </a:rPr>
              <a:t>Все рисунки  с интернет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ebf1de"/>
                </a:solidFill>
                <a:uFillTx/>
                <a:latin typeface="Book Antiqua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Бобкова Ирина Валентин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bf1de"/>
                </a:solidFill>
                <a:latin typeface="Book Antiqua"/>
              </a:rPr>
              <a:t>учитель начальных классов ГКОУ СО «Богдановичская СКО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величь в 10 ра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9680" y="1071720"/>
            <a:ext cx="1500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право 5"/>
          <p:cNvSpPr/>
          <p:nvPr/>
        </p:nvSpPr>
        <p:spPr>
          <a:xfrm>
            <a:off x="2143080" y="14288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2000160"/>
            <a:ext cx="1500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500040" y="3000240"/>
            <a:ext cx="1857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571680" y="4143240"/>
            <a:ext cx="1857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3"/>
          <p:cNvSpPr/>
          <p:nvPr/>
        </p:nvSpPr>
        <p:spPr>
          <a:xfrm>
            <a:off x="2214720" y="242892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4"/>
          <p:cNvSpPr/>
          <p:nvPr/>
        </p:nvSpPr>
        <p:spPr>
          <a:xfrm>
            <a:off x="2357280" y="3357720"/>
            <a:ext cx="1000440" cy="2142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5"/>
          <p:cNvSpPr/>
          <p:nvPr/>
        </p:nvSpPr>
        <p:spPr>
          <a:xfrm>
            <a:off x="2357280" y="4572000"/>
            <a:ext cx="1000440" cy="2142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4071960" y="1143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м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= 10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2"/>
          <p:cNvSpPr/>
          <p:nvPr/>
        </p:nvSpPr>
        <p:spPr>
          <a:xfrm>
            <a:off x="4071960" y="2143080"/>
            <a:ext cx="45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м • 10 = 8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3786120" y="3143160"/>
            <a:ext cx="514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м • 10 = 1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3857760" y="4286160"/>
            <a:ext cx="50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см • 10 = 25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величь в 10 ра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28880" y="1285920"/>
            <a:ext cx="164304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м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 вправо 5"/>
          <p:cNvSpPr/>
          <p:nvPr/>
        </p:nvSpPr>
        <p:spPr>
          <a:xfrm>
            <a:off x="3929040" y="16430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одержимое 2"/>
          <p:cNvSpPr/>
          <p:nvPr/>
        </p:nvSpPr>
        <p:spPr>
          <a:xfrm>
            <a:off x="1928880" y="2500200"/>
            <a:ext cx="17859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1714680" y="3786120"/>
            <a:ext cx="214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14680" y="4786200"/>
            <a:ext cx="2000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3"/>
          <p:cNvSpPr/>
          <p:nvPr/>
        </p:nvSpPr>
        <p:spPr>
          <a:xfrm>
            <a:off x="3929040" y="292896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4"/>
          <p:cNvSpPr/>
          <p:nvPr/>
        </p:nvSpPr>
        <p:spPr>
          <a:xfrm>
            <a:off x="4000680" y="407196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15"/>
          <p:cNvSpPr/>
          <p:nvPr/>
        </p:nvSpPr>
        <p:spPr>
          <a:xfrm>
            <a:off x="4000680" y="50720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5429160" y="128592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5500800" y="2500200"/>
            <a:ext cx="20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5500800" y="378612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5500800" y="478620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29160"/>
            <a:ext cx="1101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К  УМНОЖИТЬ  НА 10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142800"/>
            <a:ext cx="69724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00 + 100 + 100 + 100 + 100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28760" y="428760"/>
            <a:ext cx="8229600" cy="128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Применить переместительный закон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442960" y="1857240"/>
            <a:ext cx="24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931120" y="2071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6217200" y="2071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014080" y="1857240"/>
            <a:ext cx="24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    5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7500960" y="3143160"/>
            <a:ext cx="1143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50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3367440" y="4357800"/>
            <a:ext cx="16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00040" y="3857760"/>
            <a:ext cx="650088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allforchildren.ru/pictures/school21_s/school2174.jpg"/>
          <p:cNvPicPr/>
          <p:nvPr/>
        </p:nvPicPr>
        <p:blipFill>
          <a:blip r:embed="rId3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множаем и делим на 10, 100, 1000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знания  о приёме увеличения чисел в 10, 100, 1000 ра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57200" y="185724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ять знания и умения в области нумерации многозначных чисе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 текстовых задач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торить и обобщить правила умножения, распространив их на более широкую обла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батывать навыки устных вычис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логическое мышление, грамотную математическую речь, память, внимание,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ес к урокам математ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ывать любовь к родному краю, бережное отношение к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500040" y="1571760"/>
            <a:ext cx="714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а</a:t>
            </a:r>
            <a:br>
              <a:rPr sz="8800"/>
            </a:b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a•(b•c)=(a•b)•c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28760" y="0"/>
            <a:ext cx="82263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Свойства умнож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1428840" y="242892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местительный    закон умн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1285920" y="521496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очетательный    закон умн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рельцы</cp:lastModifiedBy>
  <dcterms:modified xsi:type="dcterms:W3CDTF">2012-11-27T10:31:06Z</dcterms:modified>
  <cp:revision>159</cp:revision>
  <dc:subject/>
  <dc:title>Слайд 1</dc:title>
</cp:coreProperties>
</file>