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829-0D78-46F3-888B-A0538E3B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11A-1E0B-4E1B-80A2-AB6757F0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97C-FDD9-4BE9-8018-44C27851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425-9395-4787-B49C-2C48341E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7A0E-C54B-46B6-8CF6-6EA015E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8BD-3A0F-4C95-AD9D-0C51D47F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8B3-B112-45EE-8EBC-DE3733A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EAA9-F595-4458-B6C2-135C4F52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F776-1DB7-4377-A566-4CEC634C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2C9F-8D97-420C-AAD0-5806D963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ED7D-2707-4573-BEA5-15DA2E08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78E-1035-49B9-BB96-FDADB996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68B5-BC66-4545-B8DB-67A66744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577-84FE-4F55-B649-13BC3CA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B270-116D-4FF9-B1B0-4C7EC04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560-C03E-48D3-B1EC-BA30E4F4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7C4C-B3DD-47BF-A5A8-99C09CFD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9A3-5D92-4F67-BE3F-E18200F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640-4144-4795-A95C-43C3F018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AAA-0557-493D-A47C-16F6918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433-413C-4B24-95E0-0D50D557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034-C5F1-400B-A874-446BEF6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BD7-613E-475E-BF69-1811405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BEC-2CBE-4EE3-8A56-415A0BA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EDD-D57C-4FE5-BA62-CAD0526043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0AFD-29EE-41F2-9EFB-31A6629A803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АЛГОРИТМ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ПОСОБЫ ЗАПИСИ АЛГОРИТМ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248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ч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на сторона квадрата, найти площадь квадра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Сторона а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ти площадь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рона квадрата положительное число, поэтому если 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0, т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а</a:t>
            </a:r>
            <a:r>
              <a:rPr b="0" lang="ru-RU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, иначе решения н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105264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ример блок – схемы для разветвляющегося алгорит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844640"/>
            <a:ext cx="1654200" cy="358920"/>
          </a:xfrm>
          <a:prstGeom prst="flowChartTerminator">
            <a:avLst/>
          </a:prstGeom>
          <a:solidFill>
            <a:srgbClr val="ffffff"/>
          </a:solidFill>
          <a:ln w="2844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6237360"/>
            <a:ext cx="1584360" cy="357120"/>
          </a:xfrm>
          <a:prstGeom prst="flowChartTerminator">
            <a:avLst/>
          </a:prstGeom>
          <a:solidFill>
            <a:srgbClr val="ffffff"/>
          </a:solidFill>
          <a:ln w="2844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492280"/>
            <a:ext cx="1944720" cy="432000"/>
          </a:xfrm>
          <a:prstGeom prst="flowChartInputOutput">
            <a:avLst/>
          </a:prstGeom>
          <a:solidFill>
            <a:srgbClr val="ffffff"/>
          </a:solidFill>
          <a:ln w="2844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7280" y="5157720"/>
            <a:ext cx="1297080" cy="430200"/>
          </a:xfrm>
          <a:prstGeom prst="flowChartInputOutput">
            <a:avLst/>
          </a:prstGeom>
          <a:solidFill>
            <a:srgbClr val="ffffff"/>
          </a:solidFill>
          <a:ln w="2844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4221000"/>
            <a:ext cx="1295640" cy="50328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205000"/>
            <a:ext cx="0" cy="289080"/>
          </a:xfrm>
          <a:prstGeom prst="line">
            <a:avLst/>
          </a:prstGeom>
          <a:ln w="2844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2924280"/>
            <a:ext cx="0" cy="360360"/>
          </a:xfrm>
          <a:prstGeom prst="line">
            <a:avLst/>
          </a:prstGeom>
          <a:ln w="2844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724280"/>
            <a:ext cx="0" cy="433440"/>
          </a:xfrm>
          <a:prstGeom prst="line">
            <a:avLst/>
          </a:prstGeom>
          <a:ln w="28440">
            <a:solidFill>
              <a:srgbClr val="cc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60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Разветвляющийся алгорит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это алгоритм с условием. В блок – схеме для такого алгоритма обязательно будет блок «услов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5157720"/>
            <a:ext cx="2160360" cy="430200"/>
          </a:xfrm>
          <a:prstGeom prst="flowChartInputOutput">
            <a:avLst/>
          </a:prstGeom>
          <a:solidFill>
            <a:srgbClr val="ffffff"/>
          </a:solidFill>
          <a:ln w="2844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0360" y="3284640"/>
            <a:ext cx="1440000" cy="720720"/>
          </a:xfrm>
          <a:prstGeom prst="diamond">
            <a:avLst/>
          </a:prstGeom>
          <a:noFill/>
          <a:ln w="255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9" idx="3"/>
            <a:endCxn id="153" idx="0"/>
          </p:cNvCxnSpPr>
          <p:nvPr/>
        </p:nvCxnSpPr>
        <p:spPr>
          <a:xfrm>
            <a:off x="7392960" y="3644640"/>
            <a:ext cx="564480" cy="562680"/>
          </a:xfrm>
          <a:prstGeom prst="bentConnector2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1"/>
            <a:endCxn id="158" idx="1"/>
          </p:cNvCxnSpPr>
          <p:nvPr/>
        </p:nvCxnSpPr>
        <p:spPr>
          <a:xfrm flipV="1" rot="10800000">
            <a:off x="5508000" y="3643920"/>
            <a:ext cx="419760" cy="1499400"/>
          </a:xfrm>
          <a:prstGeom prst="bentConnector2">
            <a:avLst/>
          </a:prstGeom>
          <a:ln w="25560">
            <a:solidFill>
              <a:srgbClr val="cccc66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4"/>
            <a:endCxn id="150" idx="0"/>
          </p:cNvCxnSpPr>
          <p:nvPr/>
        </p:nvCxnSpPr>
        <p:spPr>
          <a:xfrm flipH="1" rot="16200000">
            <a:off x="5810400" y="5300280"/>
            <a:ext cx="621000" cy="1224720"/>
          </a:xfrm>
          <a:prstGeom prst="bentConnector3">
            <a:avLst>
              <a:gd name="adj1" fmla="val 49883"/>
            </a:avLst>
          </a:prstGeom>
          <a:ln w="25560">
            <a:solidFill>
              <a:srgbClr val="cccc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4"/>
            <a:endCxn id="150" idx="0"/>
          </p:cNvCxnSpPr>
          <p:nvPr/>
        </p:nvCxnSpPr>
        <p:spPr>
          <a:xfrm rot="5400000">
            <a:off x="7034040" y="5300640"/>
            <a:ext cx="621000" cy="1224720"/>
          </a:xfrm>
          <a:prstGeom prst="bentConnector3">
            <a:avLst>
              <a:gd name="adj1" fmla="val 49883"/>
            </a:avLst>
          </a:prstGeom>
          <a:ln w="25560">
            <a:solidFill>
              <a:srgbClr val="cccc66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521964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00"/>
                </a:solidFill>
                <a:latin typeface="Verdana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66"/>
                </a:solidFill>
                <a:latin typeface="Times New Roman"/>
              </a:rPr>
              <a:t>Алгоритм </a:t>
            </a:r>
            <a:r>
              <a:rPr b="0" lang="en-US" sz="2800" spc="-1" strike="noStrike">
                <a:solidFill>
                  <a:srgbClr val="9999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это точное и понятное предписание исполнителю выполнить конечную последовательность команд, приводящую от исходных данных к результату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136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Дискре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Определенность (понятность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Однознач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Результативность (конечность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Массов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28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войства алгорит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Исполнитель алгоритм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сполнитель – это некая абстрактная или реальная система (техническая, биологическая или биотехническая), способная выполнять действия, предписанные алгоритм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060640"/>
            <a:ext cx="83516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spcBef>
                <a:spcPts val="1250"/>
              </a:spcBef>
              <a:buClr>
                <a:srgbClr val="99cc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это место обитания исполн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250"/>
              </a:spcBef>
              <a:buClr>
                <a:srgbClr val="99cc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Система коман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каждый исполнитель понимает и может выполнить строго определенный набор команд (для каждой команды должны быть определены условия применимости и результаты выполнения коман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250"/>
              </a:spcBef>
              <a:buClr>
                <a:srgbClr val="99cc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Элементарное 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простое (для исполнителя) действие, которое он совершает выполняя коман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250"/>
              </a:spcBef>
              <a:buClr>
                <a:srgbClr val="99cc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Отк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от выполнения команды возникает, если она недопустима (не правильные условия выполнения или команда не определена для данного исполни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00280"/>
            <a:ext cx="6788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аждого исполнителя характериз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61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 правило исполнитель не знает о цели алгоритма. Он выполняет полученные команды, не задавая вопросов «почему» и «зачем»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Примеры исполнителей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1125360"/>
            <a:ext cx="5795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Обученная собака</a:t>
            </a:r>
            <a:r>
              <a:rPr b="0" lang="en-US" sz="2000" spc="-1" strike="noStrike">
                <a:solidFill>
                  <a:srgbClr val="996633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нимает набор команд, которым ее обуч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полняет команды, не задумываясь о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2016360" cy="1378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1833840" cy="698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87640" y="2349360"/>
            <a:ext cx="579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уществует набор военных команд (приказы),  которые он обязан выполнять не раздумы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26920" y="3716280"/>
            <a:ext cx="1873440" cy="1224000"/>
            <a:chOff x="826920" y="3716280"/>
            <a:chExt cx="1873440" cy="1224000"/>
          </a:xfrm>
        </p:grpSpPr>
        <p:sp>
          <p:nvSpPr>
            <p:cNvPr id="106" name=""/>
            <p:cNvSpPr/>
            <p:nvPr/>
          </p:nvSpPr>
          <p:spPr>
            <a:xfrm>
              <a:off x="826920" y="3716280"/>
              <a:ext cx="1873440" cy="1224000"/>
            </a:xfrm>
            <a:prstGeom prst="rect">
              <a:avLst/>
            </a:prstGeom>
            <a:solidFill>
              <a:srgbClr val="666600"/>
            </a:soli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1014120" y="3776760"/>
              <a:ext cx="1582560" cy="10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132000" y="3645000"/>
            <a:ext cx="579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Телеви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 современных телевизоров программное управление (можно управлять включением, выключением определенного канала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00000" y="51577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87640" y="5229360"/>
            <a:ext cx="597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Компью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 информатике универсальным исполнителем алгоритмов является компью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иды записи алгоритм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533160">
              <a:spcBef>
                <a:spcPts val="901"/>
              </a:spcBef>
              <a:buClr>
                <a:srgbClr val="000000"/>
              </a:buClr>
              <a:buSzPct val="75000"/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ловесная запис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92160" indent="533160">
              <a:spcBef>
                <a:spcPts val="901"/>
              </a:spcBef>
              <a:buClr>
                <a:srgbClr val="000000"/>
              </a:buClr>
              <a:buSzPct val="75000"/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Графическая запис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92160" indent="533160">
              <a:spcBef>
                <a:spcPts val="901"/>
              </a:spcBef>
              <a:buClr>
                <a:srgbClr val="000000"/>
              </a:buClr>
              <a:buSzPct val="75000"/>
              <a:buFont typeface="Wingdings 2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рограммная за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Словесная запись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ляет собой описание команд алгоритма в произвольном изложении на естественном язы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 (задача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шина едет со скоростью 200 км/ч. Какое расстояние она преодолеет за 3 ча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ение (алгоритм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= 200 км/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= 3 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тобы найти расстояние надо скорость умножить на врем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множим 200 км/ч * 3 ч = 600 к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вет: 600 к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Графическая запись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ляет собой последовательность связанных между собой функциональных блоков, каждый из которых соответствует выполнению одного или нескольких действ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ая запись называется блок – схем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лок – схема значительно облегчает процесс программир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уют пять основных видов блок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365720"/>
            <a:ext cx="1655640" cy="576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429000"/>
            <a:ext cx="1368360" cy="36036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89720"/>
            <a:ext cx="1439640" cy="64764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3429000"/>
            <a:ext cx="1944720" cy="792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4653000"/>
            <a:ext cx="1584360" cy="720720"/>
          </a:xfrm>
          <a:prstGeom prst="flowChartPreparation">
            <a:avLst/>
          </a:prstGeom>
          <a:solidFill>
            <a:srgbClr val="ffffff"/>
          </a:solidFill>
          <a:ln w="381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422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ввода / вывод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32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начало / конец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5445000"/>
            <a:ext cx="22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«процесс», в нем выполняются основные ра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3284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условия, в нем проверяется 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47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8920" y="573408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локи соединяются между собой стрелк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734080"/>
            <a:ext cx="0" cy="790560"/>
          </a:xfrm>
          <a:prstGeom prst="line">
            <a:avLst/>
          </a:prstGeom>
          <a:ln w="38160">
            <a:solidFill>
              <a:srgbClr val="cccc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248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 (задача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шина едет со скоростью 200 км/ч. Какое расстояние она преодолеет за 3 ча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е (алгоритм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рость = 200 км/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я = 3 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найти расстояние надо скорость умножить на врем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множи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0 км/ч * 3 ч = 600 к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: 600 к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260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мер блок – сх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867280" y="1700280"/>
            <a:ext cx="2017800" cy="4893840"/>
            <a:chOff x="5867280" y="1700280"/>
            <a:chExt cx="2017800" cy="4893840"/>
          </a:xfrm>
        </p:grpSpPr>
        <p:sp>
          <p:nvSpPr>
            <p:cNvPr id="132" name=""/>
            <p:cNvSpPr/>
            <p:nvPr/>
          </p:nvSpPr>
          <p:spPr>
            <a:xfrm>
              <a:off x="6013440" y="1700280"/>
              <a:ext cx="1871640" cy="50292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0360" y="6091200"/>
              <a:ext cx="1871640" cy="50292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40360" y="2708280"/>
              <a:ext cx="1944720" cy="50436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км/ч, 3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280" y="5083200"/>
              <a:ext cx="1944720" cy="50436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к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12000" y="3787560"/>
              <a:ext cx="1800000" cy="57600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*3=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48360" y="2203200"/>
              <a:ext cx="0" cy="504720"/>
            </a:xfrm>
            <a:prstGeom prst="line">
              <a:avLst/>
            </a:prstGeom>
            <a:ln w="28440">
              <a:solidFill>
                <a:srgbClr val="cc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48360" y="3227400"/>
              <a:ext cx="0" cy="559800"/>
            </a:xfrm>
            <a:prstGeom prst="line">
              <a:avLst/>
            </a:prstGeom>
            <a:ln w="28440">
              <a:solidFill>
                <a:srgbClr val="cc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48360" y="4363920"/>
              <a:ext cx="0" cy="718920"/>
            </a:xfrm>
            <a:prstGeom prst="line">
              <a:avLst/>
            </a:prstGeom>
            <a:ln w="28440">
              <a:solidFill>
                <a:srgbClr val="cc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8360" y="5587920"/>
              <a:ext cx="0" cy="504360"/>
            </a:xfrm>
            <a:prstGeom prst="line">
              <a:avLst/>
            </a:prstGeom>
            <a:ln w="28440">
              <a:solidFill>
                <a:srgbClr val="cc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9640" y="5805360"/>
            <a:ext cx="42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00"/>
                </a:solidFill>
                <a:latin typeface="Times New Roman"/>
              </a:rPr>
              <a:t>Примеч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00"/>
                </a:solidFill>
                <a:latin typeface="Times New Roman"/>
              </a:rPr>
              <a:t>эта блок – схема линей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Программная запись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ляет собой запись действий алгоритма на каком-либо языке программирования высокого уровня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, Pascal, Visual Basic, Borland Delphi, C++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т.д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ая запись называется программ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989000"/>
            <a:ext cx="4032000" cy="44643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Например (задач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Машина едет со скоростью 200 км/ч. Какое расстояние она преодолеет за 3 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Решение (алгоритм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Скорость = 200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Время = 3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  <a:ea typeface="Arial"/>
              </a:rPr>
              <a:t>Чтобы найти расстояние надо скорость умножить на вре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  <a:ea typeface="Arial"/>
              </a:rPr>
              <a:t>Перемн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  <a:ea typeface="Arial"/>
              </a:rPr>
              <a:t>200 км/ч * 3 ч = 600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  <a:ea typeface="Arial"/>
              </a:rPr>
              <a:t>Ответ: 6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989000"/>
            <a:ext cx="1800360" cy="28364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66"/>
                </a:solidFill>
                <a:uFillTx/>
                <a:latin typeface="Arial"/>
              </a:rPr>
              <a:t>Программа на </a:t>
            </a:r>
            <a:r>
              <a:rPr b="1" i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Basic</a:t>
            </a:r>
            <a:r>
              <a:rPr b="1" i="1" lang="ru-RU" sz="2000" spc="-1" strike="noStrike" u="sng">
                <a:solidFill>
                  <a:srgbClr val="cc0066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0 v=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20 t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30 s=v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0 print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1989000"/>
            <a:ext cx="1871640" cy="469116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рограмма на </a:t>
            </a:r>
            <a:r>
              <a:rPr b="1" i="1" lang="en-US" sz="2000" spc="-1" strike="noStrike" u="sng">
                <a:solidFill>
                  <a:srgbClr val="996633"/>
                </a:solidFill>
                <a:uFillTx/>
                <a:latin typeface="Arial"/>
              </a:rPr>
              <a:t>Pascal</a:t>
            </a: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Program pr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var v,t,s: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v:=2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: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s:=v*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write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1:24:41Z</dcterms:created>
  <dc:creator/>
  <dc:description/>
  <dc:language>en-US</dc:language>
  <cp:lastModifiedBy>USER</cp:lastModifiedBy>
  <dcterms:modified xsi:type="dcterms:W3CDTF">2008-08-23T00:17:53Z</dcterms:modified>
  <cp:revision>17</cp:revision>
  <dc:subject/>
  <dc:title>Алгоритм</dc:title>
</cp:coreProperties>
</file>