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wind.wav" ContentType="audio/x-wav"/>
  <Override PartName="/ppt/media/image7.jpeg" ContentType="image/jpeg"/>
  <Override PartName="/ppt/media/image1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F19D-2BC7-4389-9CED-F5CC32FDA4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ла О.Ю. Федорова . МБОУ СОШ № 2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63072-391B-439C-B137-AA8B5B475F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16B5-6055-4EBD-AA00-B30EF58D3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A618-2EE3-4DC4-982C-83CF4A93D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363C-0D5F-4E70-9298-8378B60A2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0BA8-6866-4BB7-BE41-2C681F834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23A0-7A78-4B75-ACC2-67C48B4D5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4E21-CA6C-41F8-8B03-AFCFBB4A4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CAE0-237D-45A2-9394-A999FA969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7EF8-AB57-4DD1-8730-88A205BA7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387C-5BEB-4F01-8099-D90AD97B4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637A-23A0-4587-BB57-2FE85309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8D1E-2E6C-4DC8-9359-58498063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ACC3-D02C-4AF4-B68A-A38B4D57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9F3A5-7158-41EA-AB28-6032B9057E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audio" Target="../media/wind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7"/>
          <p:cNvSpPr txBox="1"/>
          <p:nvPr/>
        </p:nvSpPr>
        <p:spPr>
          <a:xfrm>
            <a:off x="6732720" y="260280"/>
            <a:ext cx="198108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ЗДРАВПУНК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49" name="WordArt 8"/>
          <p:cNvSpPr txBox="1"/>
          <p:nvPr/>
        </p:nvSpPr>
        <p:spPr>
          <a:xfrm>
            <a:off x="684360" y="620640"/>
            <a:ext cx="291456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БЕЗ ПАНИ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50" name="WordArt 9"/>
          <p:cNvSpPr txBox="1"/>
          <p:nvPr/>
        </p:nvSpPr>
        <p:spPr>
          <a:xfrm>
            <a:off x="755640" y="4221000"/>
            <a:ext cx="7286760" cy="98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КАК УБЕРЕЧЬСЯ ОТ  А/Н1N1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pic>
        <p:nvPicPr>
          <p:cNvPr id="51" name="Picture 11" descr="205200"/>
          <p:cNvPicPr/>
          <p:nvPr/>
        </p:nvPicPr>
        <p:blipFill>
          <a:blip r:embed="rId3"/>
          <a:stretch/>
        </p:blipFill>
        <p:spPr>
          <a:xfrm>
            <a:off x="5292720" y="692280"/>
            <a:ext cx="3556080" cy="330192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checker dir="horz"/>
    <p:sndAc>
      <p:stSnd>
        <p:snd r:embed="rId4" name="win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500"/>
                            </p:stCondLst>
                            <p:childTnLst>
                              <p:par>
                                <p:cTn id="1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имптомы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знаки свиного гриппа ничем не отличаются от обыч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сильная головная бол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ыстрое нарастание температуры до высоких значен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омота в тел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ли в горл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зноб, слабос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тем кашел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ложенность носа и насмор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гут быть тошнота и даже рвот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70204"/>
          <p:cNvPicPr/>
          <p:nvPr/>
        </p:nvPicPr>
        <p:blipFill>
          <a:blip r:embed="rId1"/>
          <a:stretch/>
        </p:blipFill>
        <p:spPr>
          <a:xfrm>
            <a:off x="6300720" y="3284640"/>
            <a:ext cx="2381400" cy="238104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checker dir="horz"/>
    <p:sndAc>
      <p:stSnd>
        <p:snd r:embed="rId2" name="wind.wav"/>
      </p:stSnd>
    </p:sndAc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500"/>
                            </p:stCondLst>
                            <p:childTnLst>
                              <p:par>
                                <p:cTn id="4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450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0"/>
                            </p:stCondLst>
                            <p:childTnLst>
                              <p:par>
                                <p:cTn id="5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7000"/>
                            </p:stCondLst>
                            <p:childTnLst>
                              <p:par>
                                <p:cTn id="6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7500"/>
                            </p:stCondLst>
                            <p:childTnLst>
                              <p:par>
                                <p:cTn id="7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96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100"/>
                            </p:stCondLst>
                            <p:childTnLst>
                              <p:par>
                                <p:cTn id="8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21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2600"/>
                            </p:stCondLst>
                            <p:childTnLst>
                              <p:par>
                                <p:cTn id="9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Как вести себя, если заболе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843280" y="1268280"/>
            <a:ext cx="5843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болев, нужно оставаться в постели, не выходить из дома не менее неде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ократите контакты с домашними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Пейте побольше жидкости - чая с лимоном, морса, соков, бульона, компота и т.п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Чихайте, сморкайтесь и кашляйте в бумажный платок и сразу же выбрасывайте его в закрытую урну или пак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Н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используйте платки и салфетки из ткани, тем более повторно, - в них полно виру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70206"/>
          <p:cNvPicPr/>
          <p:nvPr/>
        </p:nvPicPr>
        <p:blipFill>
          <a:blip r:embed="rId2"/>
          <a:stretch/>
        </p:blipFill>
        <p:spPr>
          <a:xfrm>
            <a:off x="324000" y="2416320"/>
            <a:ext cx="2381040" cy="238104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checker dir="horz"/>
    <p:sndAc>
      <p:stSnd>
        <p:snd r:embed="rId3" name="wind.wav"/>
      </p:stSnd>
    </p:sndAc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" dur="1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6" dur="1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7" dur="1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5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8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4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4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9850"/>
                            </p:stCondLst>
                            <p:childTnLst>
                              <p:par>
                                <p:cTn id="147" nodeType="after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indefinite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0" descr="70205"/>
          <p:cNvPicPr/>
          <p:nvPr/>
        </p:nvPicPr>
        <p:blipFill>
          <a:blip r:embed="rId1"/>
          <a:stretch/>
        </p:blipFill>
        <p:spPr>
          <a:xfrm>
            <a:off x="395280" y="3933720"/>
            <a:ext cx="2381400" cy="244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70205"/>
          <p:cNvPicPr/>
          <p:nvPr/>
        </p:nvPicPr>
        <p:blipFill>
          <a:blip r:embed="rId2"/>
          <a:stretch/>
        </p:blipFill>
        <p:spPr>
          <a:xfrm>
            <a:off x="3059280" y="2133720"/>
            <a:ext cx="2381040" cy="2381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70205"/>
          <p:cNvPicPr/>
          <p:nvPr/>
        </p:nvPicPr>
        <p:blipFill>
          <a:blip r:embed="rId3"/>
          <a:stretch/>
        </p:blipFill>
        <p:spPr>
          <a:xfrm>
            <a:off x="6372360" y="333360"/>
            <a:ext cx="2381040" cy="23814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Как защититься</a:t>
            </a:r>
            <a:br>
              <a:rPr sz="4000"/>
            </a:b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Пока вакцины от свиного гриппа нет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Arial"/>
              </a:rPr>
              <a:t>Поэтому почаще мойте руки с мыло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ff"/>
                </a:solidFill>
                <a:latin typeface="Arial"/>
              </a:rPr>
              <a:t>особенно после того как выходили из дому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Если вы касались дверных руче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поручней в транспорте, прилавков в магазине и т.п.,  не дотрагивайтесь до лица - носа, рта, глаз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Arial"/>
              </a:rPr>
              <a:t>Помните: вирус сохраняется во внешней среде до 8 часов,  и его можно внести в себя и так, а не только воздушно-капельным пут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checker dir="horz"/>
    <p:sndAc>
      <p:stSnd>
        <p:snd r:embed="rId4" name="wind.wav"/>
      </p:stSnd>
    </p:sndAc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500"/>
                            </p:stCondLst>
                            <p:childTnLst>
                              <p:par>
                                <p:cTn id="1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500"/>
                            </p:stCondLst>
                            <p:childTnLst>
                              <p:par>
                                <p:cTn id="1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cc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70213"/>
          <p:cNvPicPr/>
          <p:nvPr/>
        </p:nvPicPr>
        <p:blipFill>
          <a:blip r:embed="rId1"/>
          <a:stretch/>
        </p:blipFill>
        <p:spPr>
          <a:xfrm>
            <a:off x="6588000" y="1989000"/>
            <a:ext cx="2381400" cy="23814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a50021"/>
                </a:solidFill>
                <a:latin typeface="Arial Black"/>
              </a:rPr>
              <a:t>Чем лечиться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качестве основных лекарств от свиного гриппа (как, впрочем, и от обычного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Всемирная организация здравоохранения (ВОЗ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комендовала два препарата - </a:t>
            </a:r>
            <a:r>
              <a:rPr b="1" i="1" lang="ru-RU" sz="3200" spc="-1" strike="noStrike" u="sng">
                <a:solidFill>
                  <a:srgbClr val="a50021"/>
                </a:solidFill>
                <a:uFillTx/>
                <a:latin typeface="Arial"/>
              </a:rPr>
              <a:t>"Тамифлю" и "Реленза"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ни очень дорогие, но считаются эффективны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checker dir="horz"/>
    <p:sndAc>
      <p:stSnd>
        <p:snd r:embed="rId2" name="wind.wav"/>
      </p:stSnd>
    </p:sndAc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93" dur="1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4" dur="1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2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1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06" dur="1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07" dur="1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500"/>
                            </p:stCondLst>
                            <p:childTnLst>
                              <p:par>
                                <p:cTn id="21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1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1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70213"/>
          <p:cNvPicPr/>
          <p:nvPr/>
        </p:nvPicPr>
        <p:blipFill>
          <a:blip r:embed="rId1"/>
          <a:stretch/>
        </p:blipFill>
        <p:spPr>
          <a:xfrm>
            <a:off x="395280" y="476280"/>
            <a:ext cx="2381400" cy="23814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a50021"/>
                </a:solidFill>
                <a:latin typeface="Arial Black"/>
              </a:rPr>
              <a:t>Чем лечитьс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916360" y="1628640"/>
            <a:ext cx="578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 гриппе любой формы  принимать в качеств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жаропонижающего и болеутоляющего лучше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арацетамол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а не аспирин (особенно не стоит           давать его детям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ши врачи рекомендую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ммуномодулятор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рбидо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стойку эхинаце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ливитамин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итамин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пли от насморка лучше выбрать на основе    масла  - они действуют мягч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checker dir="horz"/>
    <p:sndAc>
      <p:stSnd>
        <p:snd r:embed="rId2" name="wind.wav"/>
      </p:stSnd>
    </p:sndAc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path" presetID="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29 0.12122 L 0.125 0.12122 L 0.048 0.19582 L 0.077 0.31704 L 0 0.24244 L -0.077 0.31704 L -0.048 0.19582 L -0.125 0.12122 L -0.029 0.12122 L 0 0 Z">
                                      <p:cBhvr>
                                        <p:cTn id="228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1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mp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234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4000"/>
                            </p:stCondLst>
                            <p:childTnLst>
                              <p:par>
                                <p:cTn id="23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7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0"/>
                            </p:stCondLst>
                            <p:childTnLst>
                              <p:par>
                                <p:cTn id="23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0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6000"/>
                            </p:stCondLst>
                            <p:childTnLst>
                              <p:par>
                                <p:cTn id="24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3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7000"/>
                            </p:stCondLst>
                            <p:childTnLst>
                              <p:par>
                                <p:cTn id="24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6" dur="1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8000"/>
                            </p:stCondLst>
                            <p:childTnLst>
                              <p:par>
                                <p:cTn id="24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9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9000"/>
                            </p:stCondLst>
                            <p:childTnLst>
                              <p:par>
                                <p:cTn id="25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2" dur="10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5" dur="10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99cc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1S2FYCA0I32XNCA2CE067CAROLO1UCA9DE1YYCA9YV9L9CANH2VL0CAA3T48JCAIXID69CAE7MQ3RCA58FZ1RCAC3M0Z6CAER19NYCATQIFYZCAJSY4WMCADVOK15CA5WA91HCAGSYAQSCAUNM3W7CABSZLB6"/>
          <p:cNvPicPr/>
          <p:nvPr/>
        </p:nvPicPr>
        <p:blipFill>
          <a:blip r:embed="rId1"/>
          <a:stretch/>
        </p:blipFill>
        <p:spPr>
          <a:xfrm>
            <a:off x="250920" y="189000"/>
            <a:ext cx="1838160" cy="1838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9ACF2CACGMEW0CAASB5HCCAEJESLNCA6B9LO4CAMWRW0ECAJKLMU7CAN4DVPCCAP41ZTECATG3RC4CAKWV3YDCA9G3F8XCAMRT03VCA9EMX88CACLP5DNCAXGXCAJCANMJTL3CAMZ6FMMCAOM4G10CAOU1LWT"/>
          <p:cNvPicPr/>
          <p:nvPr/>
        </p:nvPicPr>
        <p:blipFill>
          <a:blip r:embed="rId2"/>
          <a:stretch/>
        </p:blipFill>
        <p:spPr>
          <a:xfrm>
            <a:off x="5003640" y="189000"/>
            <a:ext cx="3772080" cy="2262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AYTZLCA3IAC2HCARERPB4CAQLWSPICASATBXNCA13N5W8CA5N4NSCCAB0WXT9CAT72NBECAWV7ZU5CAN051XDCA2QIR9ACA27PNNJCAGDWOSKCAVSQFCVCAEBACP3CA80HQXJCADPJ9BUCAXJTECTCAEIU3I2"/>
          <p:cNvPicPr/>
          <p:nvPr/>
        </p:nvPicPr>
        <p:blipFill>
          <a:blip r:embed="rId3"/>
          <a:stretch/>
        </p:blipFill>
        <p:spPr>
          <a:xfrm>
            <a:off x="539640" y="4508640"/>
            <a:ext cx="3786120" cy="2109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EOVTUCAHBPBMBCAPBOHLNCA3YF4VLCAXXPWI1CA5RFZVVCA2MSXEZCAYQICW8CADEZDE4CA5NEDMOCAWNAC6ECAT4N4K6CAK6M29FCA2Y0XL1CA8YX0ADCAKBBW2ECAOFZUIGCAQ1C203CA7VAEIMCADN5KCU"/>
          <p:cNvPicPr/>
          <p:nvPr/>
        </p:nvPicPr>
        <p:blipFill>
          <a:blip r:embed="rId4"/>
          <a:stretch/>
        </p:blipFill>
        <p:spPr>
          <a:xfrm>
            <a:off x="5508720" y="4581360"/>
            <a:ext cx="2504880" cy="1879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J0G1LCAGLCCA7CAV90VBYCAQ0F8GDCAOFK1BNCAW05JSICA4KHUUFCA8BKIOGCAVCBLH3CAXQM6ZNCA9UI0SYCABH3P35CAE3MX5VCA3LE5BTCAL97HCHCAQ3T0BJCA2LFM9SCA4J9SLLCAQKCY1QCA946M23"/>
          <p:cNvPicPr/>
          <p:nvPr/>
        </p:nvPicPr>
        <p:blipFill>
          <a:blip r:embed="rId5"/>
          <a:stretch/>
        </p:blipFill>
        <p:spPr>
          <a:xfrm>
            <a:off x="1258920" y="1557360"/>
            <a:ext cx="2638440" cy="20797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0"/>
          <p:cNvSpPr/>
          <p:nvPr/>
        </p:nvSpPr>
        <p:spPr>
          <a:xfrm>
            <a:off x="4067280" y="2852640"/>
            <a:ext cx="552924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ff"/>
                </a:solidFill>
                <a:latin typeface="Arial"/>
              </a:rPr>
              <a:t>ОБЫЧНАЯ МАРЛЕВАЯ ПОВЯЗ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ff"/>
                </a:solidFill>
                <a:latin typeface="Arial"/>
              </a:rPr>
              <a:t>МНОГОКРАТНО СНИЖАЕТ РИСК </a:t>
            </a:r>
            <a:br>
              <a:rPr sz="2400"/>
            </a:br>
            <a:r>
              <a:rPr b="0" lang="ru-RU" sz="2400" spc="-1" strike="noStrike">
                <a:solidFill>
                  <a:srgbClr val="ff00ff"/>
                </a:solidFill>
                <a:latin typeface="Arial"/>
              </a:rPr>
              <a:t>ПОДЦЕПИТЬ ОПАСНУЮ ИНФЕК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checker dir="horz"/>
    <p:sndAc>
      <p:stSnd>
        <p:snd r:embed="rId6" name="wind.wav"/>
      </p:stSnd>
    </p:sndAc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8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9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9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9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9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4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9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9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9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9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8:07:09Z</dcterms:created>
  <dc:creator>User</dc:creator>
  <dc:description/>
  <dc:language>en-US</dc:language>
  <cp:lastModifiedBy>Admin</cp:lastModifiedBy>
  <dcterms:modified xsi:type="dcterms:W3CDTF">2012-11-28T20:18:36Z</dcterms:modified>
  <cp:revision>5</cp:revision>
  <dc:subject/>
  <dc:title>Слайд 1</dc:title>
</cp:coreProperties>
</file>