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24D-E65E-4523-B155-8CBEE5DD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93C-3C47-41CD-9D3A-E16CF101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4AB-8D49-473F-9C93-D6E25F7F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5C3-A96D-4887-860F-BF5DE7C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8715-EFFD-4E94-AFD1-3FA358E6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7302-DBDF-4636-9CA5-27ADEE4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B03E-0B13-4653-B4B2-04C76E65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2C1-8439-43BB-AE9C-897DE194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B992-7266-4AEE-8EE6-AF3BCCEE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C02E-D781-44DF-800D-E9F6CAA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D964-7F8E-4974-A318-60EAE72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6A5-F41C-4717-BF1D-C6290DD3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E0C-9490-47C3-A550-D6BE320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50FF-DE9E-48B7-9390-2BE89F9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9982-2323-48EA-A05E-A974B1C9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34B-0B94-4836-9330-265A433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C944-406C-4156-B4D1-855BAAF6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1CE-B5B4-4C2C-80ED-5A1EC37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D6B-6B89-4ECC-8E90-BD3DCF81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20F-2B74-489E-ABCF-EF48D90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9D-E8E7-492D-B642-DD373DCF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01F-EB0C-4F42-B377-E34B872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673-BE4C-4731-9226-85229A7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29A-D173-4CD4-B74B-FE78A42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17B-038C-405A-BA3A-B361967F467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9F79-4036-436C-BD1A-0C7376036E0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41280" y="1365120"/>
            <a:ext cx="8699400" cy="2109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Для детей и взросл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04760" cy="144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тарайтесь давать как можно меньше информации о себе в Интернет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бо в Интернете вы рискуете стать объектом мошенничества или запугивания как настоящих преступников, так и просто любителей «пошутить». 90% мошенничеств происходит из-за утечки информации по вине пользова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удьте осторожны при общении с незнакомыми людьми, они могут оказаться не теми, за кого себя выдаю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&amp;Zcy;&amp;iecy;&amp;rcy;&amp;kcy;&amp;acy;&amp;lcy;&amp;ocy; &amp;icy;&amp;zcy; &amp;lcy;&amp;yucy;&amp;dcy;&amp;iecy;&amp;jcy;, &amp;icy;&amp;lcy;&amp;icy; &amp;icy;&amp;zcy;&amp;dcy;&amp;iecy;&amp;vcy;&amp;kcy;&amp;icy; &amp;ncy;&amp;acy;&amp;dcy; &amp;ocy;&amp;bcy;&amp;ycy;&amp;chcy;&amp;ncy;&amp;ycy;&amp;mcy;&amp;icy; &amp;lcy;&amp;yucy;&amp;dcy;&amp;softcy;&amp;mcy;&amp;icy; (34 &amp;fcy;&amp;ocy;&amp;tcy;&amp;ocy;)"/>
          <p:cNvPicPr/>
          <p:nvPr/>
        </p:nvPicPr>
        <p:blipFill>
          <a:blip r:embed="rId3"/>
          <a:stretch/>
        </p:blipFill>
        <p:spPr>
          <a:xfrm>
            <a:off x="1692360" y="2924280"/>
            <a:ext cx="6337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042560" y="1267920"/>
            <a:ext cx="71391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тупайте и пишите в Сети так, как поступили/сказали в реальной жизни и как хотели бы, чтобы поступали с вами. Помните    - все, что вы сделаете в Интернете, будет иметь последствия в реальной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&amp;ocy;&amp;ncy; &amp;ucy;&amp;mcy;&amp;iecy;&amp;iecy;&amp;tcy; &amp;scy;&amp;lcy;&amp;ucy;&amp;shcy;&amp;acy;&amp;tcy;&amp;softcy;..."/>
          <p:cNvPicPr/>
          <p:nvPr/>
        </p:nvPicPr>
        <p:blipFill>
          <a:blip r:embed="rId3"/>
          <a:stretch/>
        </p:blipFill>
        <p:spPr>
          <a:xfrm>
            <a:off x="2627280" y="3933720"/>
            <a:ext cx="4286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учше всего не вступать в переписку со «спамерами» и подозрительными личностями, отправляющими ссылки. Попытки их пристыдить успехом не увенчаются, только зря потратите свое время. Хотя бы просто потому, что рассылкой обычно занимается робот, совестью пока не обладающ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искованно отправлять свои фотографии сетевым знакомым. Среди них существует немало шутников, которые способны выложить их на сайтах сомнительного содержания и доставить вам немало морального вреда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24360" y="4581360"/>
            <a:ext cx="1990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 надо думать, что все обитатели Интернета являются нехорошими людьми, пытающимися вам навредить , среди них есть много интересных отзывчивых людей, которые могут стать настоящими друзьями. Просто для Интернета более чем характерен старый принцип «Доверяй, но проверяй» - и следование ему обычно окупается сторицей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6761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8:14:46Z</dcterms:created>
  <dc:creator>User</dc:creator>
  <dc:description/>
  <dc:language>en-US</dc:language>
  <cp:lastModifiedBy>User</cp:lastModifiedBy>
  <dcterms:modified xsi:type="dcterms:W3CDTF">2012-10-23T14:25:49Z</dcterms:modified>
  <cp:revision>14</cp:revision>
  <dc:subject/>
  <dc:title>Безопасность общения в Социальных Сетях</dc:title>
</cp:coreProperties>
</file>