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462-9F9C-4C1F-886D-6B1C4779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B8C-AEB6-4B25-A7A1-3CB979B4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084-27EE-4603-862D-790AB0FE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DF6-EB70-44B3-A294-6090FC4B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3DDAB-8073-49C8-B361-7862202D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6F8CF-823A-4716-A276-ADCACCB2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D8972-FC91-425E-9420-0A0C1A75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1EE66-8400-4678-AD77-0CD83CC2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2B0AA-093D-4942-8598-F5A8BA14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90F74-B0F9-4292-835B-6DA79354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A0A83-9391-4E9A-8380-7F4300D1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463-513D-4D2F-B6BD-58FD290A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EC993-1512-4677-840D-F9AA0EB1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C4C4F-134D-45EF-BF3F-D1093709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4660D-EE64-417A-B190-B461FF98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E28BC-754A-40F4-9702-022AC0ED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2FB05-CFDA-4BD5-B686-43084443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95E46-F84C-43D4-AB88-81A37AFF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8F2F-6CD2-4406-B3B3-CC161C2E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C7587-C2EF-4242-AECF-1D3EF47B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5070-CD82-4A95-A2A2-E2A8798A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7A604-3DD1-4BA2-8D8F-8257EBC9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614-E832-4AD4-8ACF-33D3FEC1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79C27-AEB6-4D43-9659-6C7553B8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00D0B-D50D-4E38-952A-8669727A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9B457-1366-4966-B5BF-01268A91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472B3-985E-47F6-9682-81E7DF57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CDC7D-F9B2-4331-9B50-5DCA3833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97982-81D9-40BE-8ECD-911B3C47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345AD-5CC1-4C40-9C4F-D1472F5B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333A42-EC75-4C50-8B84-D7148808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12054-A2FB-4747-97BF-1555A17C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A2BF26-5CF0-4254-A78A-7568CE93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143-07D9-4BF4-9E62-0BE7FDA5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E8277-B84F-45C5-850A-A70D8D0F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460682-C2C5-4842-BBE6-4A92623C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D2E64A-EFA4-4381-AA52-1AF68396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8196EA-80D2-4299-8D73-52298363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63E43-D81B-4AC9-BC2B-7C33E190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753934-E75E-41BA-8FD9-586BA039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9879FC-8086-4F8A-960D-F0D2783D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1D7B1D-60B1-47F1-AF06-195B261E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3BBDB9-3C4B-4D45-A5AB-576DAA5D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29DAF-B2B5-4455-B260-880274E9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0D5-C4A9-4CCE-AD56-0610A4FB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B945C-33F6-4413-BF0A-DCDAB4B2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0AE8D-6D7C-49A0-A6D7-ABB06B35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32411D-0F12-4078-BB81-716931E4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EDC23-DF31-4A7B-AC57-D0B477BC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B9CEF-849D-4AF5-AA2E-C7061FAE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2B529-3C0B-43C7-BB9A-5F808518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3AE5F-E22F-41A6-B985-7A0E8E29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B13505-B8EE-4498-A5EE-79F182DC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012C7-573D-47A5-92FA-1B3A6C45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B5426-C4A3-46F6-98E6-E474CE04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136-7F54-4466-994B-184A1E33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87C0F-377F-4ADB-95CA-72022C0B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40C58-9875-460C-AD5A-B8E8C550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E46013-13ED-44B7-9E04-87A9C2F1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48A3F-1E99-4E22-BB51-437B7E21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292CB-4200-4973-B512-92E9FDC1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C1428-2CA6-481B-BED9-ABC2AF3C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A7E505-0899-434A-A939-E249A355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F0468F-D1E1-4FD9-BBF4-CF87593D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B2D8B-83A8-4596-94B8-3EB18F3A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2556E-DE94-4B96-B7CB-B0ACB761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C28-59D5-4413-9192-9E382588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C6620-9F3E-4AFD-A086-C5850FA0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62BA6F-3845-438D-99FC-585BAC3F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3E1FE-4F57-4723-8540-52E6B907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237-7D2F-493A-919A-3E1B7E70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C7E-0FEE-402A-A9A7-0EEE529F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A3C7-0FC6-4FD0-8EA1-9DB34D6FC69B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C94C-2FB7-449F-A119-F89F3701FBA6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5811-6F5E-41A5-B324-11775B06490B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1226-FD90-4CAB-BB3B-8ACEA5E6D992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5719-EAE4-4EC7-B3EA-4D38EFB66DEA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405D-B5EF-4B99-825C-FF9EFB5252A8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e/e4/Leningrad_bread_ration_stamp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http://i027.radikal.ru/0801/82/40fbb4e2eeb5.jpg"/>
          <p:cNvPicPr/>
          <p:nvPr/>
        </p:nvPicPr>
        <p:blipFill>
          <a:blip r:embed="rId1"/>
          <a:stretch/>
        </p:blipFill>
        <p:spPr>
          <a:xfrm>
            <a:off x="324000" y="115920"/>
            <a:ext cx="2952720" cy="4613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http://www.mr7.ru/netcat_files/Image/2(11).jpg"/>
          <p:cNvPicPr/>
          <p:nvPr/>
        </p:nvPicPr>
        <p:blipFill>
          <a:blip r:embed="rId2"/>
          <a:stretch/>
        </p:blipFill>
        <p:spPr>
          <a:xfrm>
            <a:off x="3419640" y="1844640"/>
            <a:ext cx="5524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http://blokada.otrok.ru/library/koval/ph/s8.gif"/>
          <p:cNvPicPr/>
          <p:nvPr/>
        </p:nvPicPr>
        <p:blipFill>
          <a:blip r:embed="rId1"/>
          <a:stretch/>
        </p:blipFill>
        <p:spPr>
          <a:xfrm>
            <a:off x="2050920" y="0"/>
            <a:ext cx="557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://t3.gstatic.com/images?q=tbn:ANd9GcQkXrc-4qBp1ik-UuqNwKtbf4asFx1uZgulYqh41BoP2hDY3xIpfA"/>
          <p:cNvPicPr/>
          <p:nvPr/>
        </p:nvPicPr>
        <p:blipFill>
          <a:blip r:embed="rId1"/>
          <a:stretch/>
        </p:blipFill>
        <p:spPr>
          <a:xfrm>
            <a:off x="468360" y="476280"/>
            <a:ext cx="82659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://www.molgvardia.ru/files/news/leningrad-2701.jpg"/>
          <p:cNvPicPr/>
          <p:nvPr/>
        </p:nvPicPr>
        <p:blipFill>
          <a:blip r:embed="rId1"/>
          <a:stretch/>
        </p:blipFill>
        <p:spPr>
          <a:xfrm>
            <a:off x="179280" y="115920"/>
            <a:ext cx="74358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http://www.tonnel.ru/calendar/207161100_tonnel.gif"/>
          <p:cNvPicPr/>
          <p:nvPr/>
        </p:nvPicPr>
        <p:blipFill>
          <a:blip r:embed="rId1"/>
          <a:stretch/>
        </p:blipFill>
        <p:spPr>
          <a:xfrm>
            <a:off x="158760" y="115920"/>
            <a:ext cx="8650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4"/>
          <p:cNvSpPr/>
          <p:nvPr/>
        </p:nvSpPr>
        <p:spPr>
          <a:xfrm>
            <a:off x="0" y="763560"/>
            <a:ext cx="914400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екретная директива немецко-фашистского военно-морского штаба № 1-а 1601/41 от 22 сентября 1941 г. «О будущности города Петербурга»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1f20"/>
                </a:solidFill>
                <a:latin typeface="Tahoma"/>
                <a:ea typeface="Tahoma"/>
              </a:rPr>
              <a:t>«</a:t>
            </a:r>
            <a:r>
              <a:rPr b="1" lang="ru-RU" sz="2800" spc="-1" strike="noStrike">
                <a:solidFill>
                  <a:srgbClr val="231f20"/>
                </a:solidFill>
                <a:latin typeface="Tahoma"/>
                <a:ea typeface="Tahoma"/>
              </a:rPr>
              <a:t>Фюрер решил стереть город Петербург с лица земли. После поражения советской России нет никакого интереса для дальнейшего существования этого большого населенного пункта… Предложено тесно блокировать город и путем обстрела из артиллерии всех калибров и беспрерывной бомбежки с воздуха сровнять его с землей... Если вследствие создавшегося в городе положения будут заявлены просьбы о сдаче, они будут отвергнуты</a:t>
            </a:r>
            <a:r>
              <a:rPr b="0" lang="ru-RU" sz="2800" spc="-1" strike="noStrike">
                <a:solidFill>
                  <a:srgbClr val="231f20"/>
                </a:solidFill>
                <a:latin typeface="Tahoma"/>
                <a:ea typeface="Tahoma"/>
              </a:rPr>
              <a:t>...»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http://img0.liveinternet.ru/images/attach/c/1/54/296/54296145_8000ea2e230f40d16cfbf404b4a4e509_full1.jpg"/>
          <p:cNvPicPr/>
          <p:nvPr/>
        </p:nvPicPr>
        <p:blipFill>
          <a:blip r:embed="rId1"/>
          <a:stretch/>
        </p:blipFill>
        <p:spPr>
          <a:xfrm>
            <a:off x="3276720" y="2933640"/>
            <a:ext cx="5715000" cy="3924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://www.compatriotsru.com/media/kartinki-k-novostjam/dsc_0001_blokada1.jpg"/>
          <p:cNvPicPr/>
          <p:nvPr/>
        </p:nvPicPr>
        <p:blipFill>
          <a:blip r:embed="rId2"/>
          <a:stretch/>
        </p:blipFill>
        <p:spPr>
          <a:xfrm>
            <a:off x="0" y="0"/>
            <a:ext cx="445788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://9m.ucoz.com/logo/2.jpg"/>
          <p:cNvPicPr/>
          <p:nvPr/>
        </p:nvPicPr>
        <p:blipFill>
          <a:blip r:embed="rId1"/>
          <a:stretch/>
        </p:blipFill>
        <p:spPr>
          <a:xfrm>
            <a:off x="206280" y="260280"/>
            <a:ext cx="8775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 (500x620, 30Kb)"/>
          <p:cNvPicPr/>
          <p:nvPr/>
        </p:nvPicPr>
        <p:blipFill>
          <a:blip r:embed="rId1"/>
          <a:stretch/>
        </p:blipFill>
        <p:spPr>
          <a:xfrm>
            <a:off x="0" y="0"/>
            <a:ext cx="553068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Файл:Leningrad bread ration stam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189000"/>
            <a:ext cx="2843280" cy="45180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5580000" y="472428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бочие – 250 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лужащие, иждивенцы, дети до 12 лет – 125 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ttp://www.tonnel.ru/calendar/207161100_tonnel.gif"/>
          <p:cNvPicPr/>
          <p:nvPr/>
        </p:nvPicPr>
        <p:blipFill>
          <a:blip r:embed="rId1"/>
          <a:stretch/>
        </p:blipFill>
        <p:spPr>
          <a:xfrm>
            <a:off x="158760" y="115920"/>
            <a:ext cx="8650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http://gazeta.aif.ru/data/mags/kids/90/pics/de20_02_00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38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http://blokada900.narod.ru/6a.jpg"/>
          <p:cNvPicPr/>
          <p:nvPr/>
        </p:nvPicPr>
        <p:blipFill>
          <a:blip r:embed="rId2"/>
          <a:stretch/>
        </p:blipFill>
        <p:spPr>
          <a:xfrm>
            <a:off x="4284720" y="3141720"/>
            <a:ext cx="4713120" cy="34560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3"/>
          <p:cNvSpPr/>
          <p:nvPr/>
        </p:nvSpPr>
        <p:spPr>
          <a:xfrm>
            <a:off x="5219640" y="189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ОРОГА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63360" y="-136440"/>
            <a:ext cx="52959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http://trassa.narod.ru/piter/liferoad/tsvetok.jpg"/>
          <p:cNvPicPr/>
          <p:nvPr/>
        </p:nvPicPr>
        <p:blipFill>
          <a:blip r:embed="rId1"/>
          <a:stretch/>
        </p:blipFill>
        <p:spPr>
          <a:xfrm>
            <a:off x="0" y="0"/>
            <a:ext cx="5715000" cy="384804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6"/>
          <p:cNvSpPr/>
          <p:nvPr/>
        </p:nvSpPr>
        <p:spPr>
          <a:xfrm>
            <a:off x="63360" y="-136440"/>
            <a:ext cx="645804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8" descr="http://free2go.ru/pics/piter/doroga_zhizni.jpg"/>
          <p:cNvPicPr/>
          <p:nvPr/>
        </p:nvPicPr>
        <p:blipFill>
          <a:blip r:embed="rId2"/>
          <a:stretch/>
        </p:blipFill>
        <p:spPr>
          <a:xfrm>
            <a:off x="4211640" y="3570120"/>
            <a:ext cx="4932360" cy="328788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10"/>
          <p:cNvSpPr/>
          <p:nvPr/>
        </p:nvSpPr>
        <p:spPr>
          <a:xfrm>
            <a:off x="63360" y="-136440"/>
            <a:ext cx="57150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12" descr="http://tushinec.ru/tushinka/gallery/album/archive/4746/mini_07.jpg"/>
          <p:cNvPicPr/>
          <p:nvPr/>
        </p:nvPicPr>
        <p:blipFill>
          <a:blip r:embed="rId3"/>
          <a:stretch/>
        </p:blipFill>
        <p:spPr>
          <a:xfrm>
            <a:off x="250920" y="4076640"/>
            <a:ext cx="3579840" cy="26370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8"/>
          <p:cNvSpPr/>
          <p:nvPr/>
        </p:nvSpPr>
        <p:spPr>
          <a:xfrm>
            <a:off x="6156360" y="476280"/>
            <a:ext cx="266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ЗЕЛЕ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Я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ЛА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1:54:10Z</dcterms:created>
  <dc:creator>Ira</dc:creator>
  <dc:description/>
  <dc:language>en-US</dc:language>
  <cp:lastModifiedBy>Ira</cp:lastModifiedBy>
  <dcterms:modified xsi:type="dcterms:W3CDTF">2011-01-25T23:10:23Z</dcterms:modified>
  <cp:revision>8</cp:revision>
  <dc:subject/>
  <dc:title>Слайд 1</dc:title>
</cp:coreProperties>
</file>