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327-2E35-43C1-B873-BBF717E1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481-96E8-446A-AA3E-E2442DAA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817-2E3D-4FFD-BCEB-F05F824E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75D-BF49-42C7-A2C7-39DA2BC6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8818D-5F85-4661-8BB7-B99A351D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8F541-7228-4C4D-9A44-3658E184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9EA6E-455E-4E23-B81F-9C4CF01D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04B9E-F3E0-43CC-A356-C7F3609D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2D8DF-FD34-4965-BE48-0CF3A05F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240D4-AFD3-4DE0-ADA0-463EB39C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3FC45-EE29-470E-BF5C-876D7647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089-8859-45DA-B8D8-E773E462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CEC1A-CE3B-4412-AF37-B5C1767F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7D69E-1D69-40DE-95ED-11BC7CF5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234D1-EB01-4C1C-B4BB-4E50917E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A5266-7B50-4AB7-9EE2-3057F007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E1801-7E06-4758-B1EC-FE82E02B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978A9-AD65-4F49-AC5C-73FD005F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1B3B-4F06-4F31-BCE6-6C4567A9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7AEE-3393-485E-9815-7B597EAE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E954E-8FF7-46F4-A7E2-BE8482A6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E78E2-B74C-4AE8-8A02-EC2AA353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284-6EE5-46EF-B069-28B7BDBE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352B-EDFA-4AAC-85DB-8D87E3A9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4A13E-B984-4504-9923-74312FEF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6A85-6ED2-49A3-9C20-4F35D0D7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A0CD-B60C-4B17-B197-332CB1F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CC5C6-6895-4CEE-B0EA-E6CA71D5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2497-B798-44C6-9781-734824FE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724C-93B7-4111-A794-07F87BBA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54A1E-E6BC-47F3-9B68-C9B5F17A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46C90-8CD9-4FDB-9242-E55E04E4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59735-2DB9-4AF6-AA47-359DD817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85A-2532-4D0B-860C-E4D9C3B4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8A42C-D871-4B91-9EE1-0E0F0708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CBA19-FBF4-42AC-913C-329D6B80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5E2726-9C2E-4CAB-931C-6B397ACB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5DE49-F72C-4957-823E-152EFC7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0762E-5758-4222-8609-7FB76224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1D74BE-7A92-4DC0-89BA-811F11B8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6F7BBA-AD42-43B2-9D8D-79B732F5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07D813-FA2D-423B-930B-C8E8C3F7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A1B05-9797-4953-A017-DD65D4B8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9C5DE-94D8-4042-BCC2-7AC70DA0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2CC-1B80-424C-A4E7-57F0CE89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7603F-B4AD-4451-A3B7-351DEB19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1C9AB-CBF1-42E8-A730-F4D22C85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53D9D-5FAD-49E2-9599-A0073571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AA189-8846-4CED-A81F-CBBD7A0C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4AD43-5CF0-43EC-88DF-723655B5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10948-2DDA-4019-9CAC-F027DBC0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076BB-3E3C-4E5C-AFD8-EF7049CD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16BCA-4799-4D31-91B3-C3B895B7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AF028-4FAB-464C-969E-6885DF50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223E9-4246-48E0-A355-11F3A554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D5D-C7D1-4D8F-8EEA-F1662A49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6B871-DF50-4513-A16A-1D26FD00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6A1CA-BFA7-47AE-A396-AF847549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0D22C-C8BF-4166-936A-8BC3227D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9C97F-1F8B-4F33-ADA9-427B086F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3536E-14F4-49B7-BFF2-17C92D83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C2E29-F752-4C1A-B3A7-1B5F3E33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65193-9DAB-4C7D-B75F-1EB7633C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928CA-3C70-4F3A-9140-F63AA36A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EB945-ED66-47EB-B06C-09EE09EF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46828-74C2-4951-9BD5-49CF8139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273-CB90-4654-A8D0-BA6D0A40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2A841-909A-4BCB-8F5D-108BC2D9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8B349-531D-4FAD-B5D9-EF6FC39D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F1D31-1D6C-4333-9BA1-F08BD91F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203-CE04-45B4-A0F8-0E954F71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05F-F084-44C7-AFFD-6A4589DF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6D88-7809-491A-B711-11EB9FE2EF1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AA62-704E-460C-B9BE-403BF7CBFBA0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84F6-FDEF-463B-BDAE-EBD2984297ED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328D-3FEA-482E-9479-1CFA31981088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A75F-94EF-420F-BF7F-E1461A5D8BBC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9F62-B9A7-445D-8FD9-557C60A165E0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e/e4/Leningrad_bread_ration_stamp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http://i027.radikal.ru/0801/82/40fbb4e2eeb5.jpg"/>
          <p:cNvPicPr/>
          <p:nvPr/>
        </p:nvPicPr>
        <p:blipFill>
          <a:blip r:embed="rId1"/>
          <a:stretch/>
        </p:blipFill>
        <p:spPr>
          <a:xfrm>
            <a:off x="324000" y="115920"/>
            <a:ext cx="2952720" cy="4613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http://www.mr7.ru/netcat_files/Image/2(11).jpg"/>
          <p:cNvPicPr/>
          <p:nvPr/>
        </p:nvPicPr>
        <p:blipFill>
          <a:blip r:embed="rId2"/>
          <a:stretch/>
        </p:blipFill>
        <p:spPr>
          <a:xfrm>
            <a:off x="3419640" y="1844640"/>
            <a:ext cx="5524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http://blokada.otrok.ru/library/koval/ph/s8.gif"/>
          <p:cNvPicPr/>
          <p:nvPr/>
        </p:nvPicPr>
        <p:blipFill>
          <a:blip r:embed="rId1"/>
          <a:stretch/>
        </p:blipFill>
        <p:spPr>
          <a:xfrm>
            <a:off x="2050920" y="0"/>
            <a:ext cx="557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t3.gstatic.com/images?q=tbn:ANd9GcQkXrc-4qBp1ik-UuqNwKtbf4asFx1uZgulYqh41BoP2hDY3xIpfA"/>
          <p:cNvPicPr/>
          <p:nvPr/>
        </p:nvPicPr>
        <p:blipFill>
          <a:blip r:embed="rId1"/>
          <a:stretch/>
        </p:blipFill>
        <p:spPr>
          <a:xfrm>
            <a:off x="468360" y="476280"/>
            <a:ext cx="82659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://www.molgvardia.ru/files/news/leningrad-2701.jpg"/>
          <p:cNvPicPr/>
          <p:nvPr/>
        </p:nvPicPr>
        <p:blipFill>
          <a:blip r:embed="rId1"/>
          <a:stretch/>
        </p:blipFill>
        <p:spPr>
          <a:xfrm>
            <a:off x="179280" y="115920"/>
            <a:ext cx="74358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http://www.tonnel.ru/calendar/207161100_tonnel.gif"/>
          <p:cNvPicPr/>
          <p:nvPr/>
        </p:nvPicPr>
        <p:blipFill>
          <a:blip r:embed="rId1"/>
          <a:stretch/>
        </p:blipFill>
        <p:spPr>
          <a:xfrm>
            <a:off x="158760" y="115920"/>
            <a:ext cx="8650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4"/>
          <p:cNvSpPr/>
          <p:nvPr/>
        </p:nvSpPr>
        <p:spPr>
          <a:xfrm>
            <a:off x="0" y="763560"/>
            <a:ext cx="914400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екретная директива немецко-фашистского военно-морского штаба № 1-а 1601/41 от 22 сентября 1941 г. «О будущности города Петербурга»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f20"/>
                </a:solidFill>
                <a:latin typeface="Tahoma"/>
                <a:ea typeface="Tahoma"/>
              </a:rPr>
              <a:t>«</a:t>
            </a:r>
            <a:r>
              <a:rPr b="1" lang="ru-RU" sz="2800" spc="-1" strike="noStrike">
                <a:solidFill>
                  <a:srgbClr val="231f20"/>
                </a:solidFill>
                <a:latin typeface="Tahoma"/>
                <a:ea typeface="Tahoma"/>
              </a:rPr>
              <a:t>Фюрер решил стереть город Петербург с лица земли. После поражения советской России нет никакого интереса для дальнейшего существования этого большого населенного пункта… Предложено тесно блокировать город и путем обстрела из артиллерии всех калибров и беспрерывной бомбежки с воздуха сровнять его с землей... Если вследствие создавшегося в городе положения будут заявлены просьбы о сдаче, они будут отвергнуты</a:t>
            </a:r>
            <a:r>
              <a:rPr b="0" lang="ru-RU" sz="2800" spc="-1" strike="noStrike">
                <a:solidFill>
                  <a:srgbClr val="231f20"/>
                </a:solidFill>
                <a:latin typeface="Tahoma"/>
                <a:ea typeface="Tahoma"/>
              </a:rPr>
              <a:t>...»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http://img0.liveinternet.ru/images/attach/c/1/54/296/54296145_8000ea2e230f40d16cfbf404b4a4e509_full1.jpg"/>
          <p:cNvPicPr/>
          <p:nvPr/>
        </p:nvPicPr>
        <p:blipFill>
          <a:blip r:embed="rId1"/>
          <a:stretch/>
        </p:blipFill>
        <p:spPr>
          <a:xfrm>
            <a:off x="3276720" y="2933640"/>
            <a:ext cx="5715000" cy="3924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www.compatriotsru.com/media/kartinki-k-novostjam/dsc_0001_blokada1.jpg"/>
          <p:cNvPicPr/>
          <p:nvPr/>
        </p:nvPicPr>
        <p:blipFill>
          <a:blip r:embed="rId2"/>
          <a:stretch/>
        </p:blipFill>
        <p:spPr>
          <a:xfrm>
            <a:off x="0" y="0"/>
            <a:ext cx="445788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9m.ucoz.com/logo/2.jpg"/>
          <p:cNvPicPr/>
          <p:nvPr/>
        </p:nvPicPr>
        <p:blipFill>
          <a:blip r:embed="rId1"/>
          <a:stretch/>
        </p:blipFill>
        <p:spPr>
          <a:xfrm>
            <a:off x="206280" y="260280"/>
            <a:ext cx="8775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 (500x620, 30Kb)"/>
          <p:cNvPicPr/>
          <p:nvPr/>
        </p:nvPicPr>
        <p:blipFill>
          <a:blip r:embed="rId1"/>
          <a:stretch/>
        </p:blipFill>
        <p:spPr>
          <a:xfrm>
            <a:off x="0" y="0"/>
            <a:ext cx="553068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Файл:Leningrad bread ration stam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189000"/>
            <a:ext cx="2843280" cy="45180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5580000" y="472428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чие – 250 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лужащие, иждивенцы, дети до 12 лет – 125 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www.tonnel.ru/calendar/207161100_tonnel.gif"/>
          <p:cNvPicPr/>
          <p:nvPr/>
        </p:nvPicPr>
        <p:blipFill>
          <a:blip r:embed="rId1"/>
          <a:stretch/>
        </p:blipFill>
        <p:spPr>
          <a:xfrm>
            <a:off x="158760" y="115920"/>
            <a:ext cx="8650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ttp://gazeta.aif.ru/data/mags/kids/90/pics/de20_02_00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38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http://blokada900.narod.ru/6a.jpg"/>
          <p:cNvPicPr/>
          <p:nvPr/>
        </p:nvPicPr>
        <p:blipFill>
          <a:blip r:embed="rId2"/>
          <a:stretch/>
        </p:blipFill>
        <p:spPr>
          <a:xfrm>
            <a:off x="4284720" y="3141720"/>
            <a:ext cx="4713120" cy="34560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3"/>
          <p:cNvSpPr/>
          <p:nvPr/>
        </p:nvSpPr>
        <p:spPr>
          <a:xfrm>
            <a:off x="5219640" y="189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ОРОГА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63360" y="-136440"/>
            <a:ext cx="52959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http://trassa.narod.ru/piter/liferoad/tsvetok.jpg"/>
          <p:cNvPicPr/>
          <p:nvPr/>
        </p:nvPicPr>
        <p:blipFill>
          <a:blip r:embed="rId1"/>
          <a:stretch/>
        </p:blipFill>
        <p:spPr>
          <a:xfrm>
            <a:off x="0" y="0"/>
            <a:ext cx="5715000" cy="384804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6"/>
          <p:cNvSpPr/>
          <p:nvPr/>
        </p:nvSpPr>
        <p:spPr>
          <a:xfrm>
            <a:off x="63360" y="-136440"/>
            <a:ext cx="645804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8" descr="http://free2go.ru/pics/piter/doroga_zhizni.jpg"/>
          <p:cNvPicPr/>
          <p:nvPr/>
        </p:nvPicPr>
        <p:blipFill>
          <a:blip r:embed="rId2"/>
          <a:stretch/>
        </p:blipFill>
        <p:spPr>
          <a:xfrm>
            <a:off x="4211640" y="3570120"/>
            <a:ext cx="4932360" cy="328788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0"/>
          <p:cNvSpPr/>
          <p:nvPr/>
        </p:nvSpPr>
        <p:spPr>
          <a:xfrm>
            <a:off x="63360" y="-136440"/>
            <a:ext cx="57150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12" descr="http://tushinec.ru/tushinka/gallery/album/archive/4746/mini_07.jpg"/>
          <p:cNvPicPr/>
          <p:nvPr/>
        </p:nvPicPr>
        <p:blipFill>
          <a:blip r:embed="rId3"/>
          <a:stretch/>
        </p:blipFill>
        <p:spPr>
          <a:xfrm>
            <a:off x="250920" y="4076640"/>
            <a:ext cx="3579840" cy="2637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8"/>
          <p:cNvSpPr/>
          <p:nvPr/>
        </p:nvSpPr>
        <p:spPr>
          <a:xfrm>
            <a:off x="6156360" y="476280"/>
            <a:ext cx="266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ЕЛЕ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Я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ЛА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1:54:10Z</dcterms:created>
  <dc:creator>Ira</dc:creator>
  <dc:description/>
  <dc:language>en-US</dc:language>
  <cp:lastModifiedBy>Ira</cp:lastModifiedBy>
  <dcterms:modified xsi:type="dcterms:W3CDTF">2011-01-25T23:10:23Z</dcterms:modified>
  <cp:revision>8</cp:revision>
  <dc:subject/>
  <dc:title>Слайд 1</dc:title>
</cp:coreProperties>
</file>