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1.jpeg" ContentType="image/jpe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1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64C0-A255-47AD-97CF-C065E2297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2EAB-4540-4508-AC29-70B92B1EC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D3BD-5A60-472C-8E57-893A5D0B6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E9AF-419A-4B1B-8582-0B486E6F4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BBB9E-DCBB-4FD2-81F4-FA5CFD09F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5C5CC-64EA-4AC2-BD53-8E410D8DB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6C764-4142-450A-98A6-13C082C82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0972C-C030-4F0E-8143-0394619B4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0CC72-DA30-4D4A-9A31-E060B4C57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C33BA-38BB-482F-917D-21EDE9985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3C844-147D-49D6-A7C6-6053267A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3481-0721-4A58-9230-D712A571A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DD1DF-ED9F-439B-93FE-C2780145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1ABFB-BCB3-45F3-88D0-D809BA810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15827-B39D-43A0-8DF7-0F3DF4F76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54516-A973-4D8C-BCB0-4CC39A4DA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51975-1C9D-40BB-B9D3-3230166C0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8BDB-7E95-4674-9F26-79F9E518F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E27F-1CE0-4938-8184-5C4973325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5F2E-8C77-4A7C-A91F-905A81BC0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0E67-0B7F-44BC-9B59-0B9651624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20F9-6754-4F79-B393-406C26460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924A-9476-456D-B48A-AAEFB504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909F-961F-4E2E-9A02-DB2D526CD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EFE72-BB01-429A-A010-6D6F603E954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DFA5B-D130-42EA-931D-880553E54EB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Franklin Gothic Book"/>
              </a:rPr>
              <a:t>В огне войны сгорело детство,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Franklin Gothic Book"/>
              </a:rPr>
              <a:t>Но не прошло бесследно, нет,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Franklin Gothic Book"/>
              </a:rPr>
              <a:t>И носим мы в себе наследство –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Franklin Gothic Book"/>
              </a:rPr>
              <a:t>И боль, и радость прошлых лет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Их принимали в армейские роты!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028880" y="1600200"/>
            <a:ext cx="2893680" cy="44956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648320" y="2460600"/>
            <a:ext cx="403848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7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756108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4319640" cy="35704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076720" y="1844640"/>
            <a:ext cx="35467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ahoma"/>
              </a:rPr>
              <a:t>Дети сироты!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4038480" cy="35290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716360" y="2637000"/>
            <a:ext cx="4038840" cy="36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826920" y="836640"/>
            <a:ext cx="7704360" cy="51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8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ahoma"/>
              </a:rPr>
              <a:t>В бомбоубежище.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851040" y="1600200"/>
            <a:ext cx="3249360" cy="44956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32767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Franklin Gothic Book"/>
              </a:rPr>
              <a:t>Герои Советского Союз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588000" y="4365720"/>
            <a:ext cx="2016360" cy="2016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340000" y="3860640"/>
            <a:ext cx="2131920" cy="2664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50920" y="4724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Валя Кот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539640" y="1197000"/>
            <a:ext cx="2087640" cy="24969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700360" y="1857240"/>
            <a:ext cx="136692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Лен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Голи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4067280" y="1125360"/>
            <a:ext cx="2449440" cy="24861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856560" y="1773360"/>
            <a:ext cx="145080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З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Портн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898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771640" y="907920"/>
            <a:ext cx="332928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1" dur="2000" fill="hold"/>
                                        <p:tgtEl>
                                          <p:spTgt spid="12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Tahoma"/>
              </a:rPr>
              <a:t>Военное детство!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643280" y="2997360"/>
            <a:ext cx="4038840" cy="28335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941400" y="1600200"/>
            <a:ext cx="30686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5148360" y="4365720"/>
            <a:ext cx="527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3600360" cy="4248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140360" y="3573360"/>
            <a:ext cx="5003640" cy="30196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003640" y="2781360"/>
            <a:ext cx="37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Бригада слесар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8360" y="5661000"/>
            <a:ext cx="35272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Фрезеровщ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Коля Мартын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60280"/>
            <a:ext cx="53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Franklin Gothic Book"/>
              </a:rPr>
              <a:t>В тылу как на войн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56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1" dur="5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4" dur="5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Franklin Gothic Book"/>
              </a:rPr>
              <a:t>22 июня 1941 год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476360" y="1125360"/>
            <a:ext cx="62341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" dur="2000" fill="hold"/>
                                        <p:tgtEl>
                                          <p:spTgt spid="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ПОМОЩЬ ФРОНТУ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4038480" cy="3116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859280" y="3141720"/>
            <a:ext cx="4038480" cy="33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4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9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ahoma"/>
              </a:rPr>
              <a:t>Юные девочки в белых халатах!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116000" y="1844640"/>
            <a:ext cx="7128000" cy="46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77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4" dur="770" fill="hold"/>
                                        <p:tgtEl>
                                          <p:spTgt spid="1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6" dur="77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8" dur="77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ahoma"/>
              </a:rPr>
              <a:t>За партой!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648320" y="2398680"/>
            <a:ext cx="4038480" cy="34066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4360" y="1628640"/>
            <a:ext cx="323208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39640" y="274680"/>
            <a:ext cx="8064720" cy="58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68360" y="98064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Наша страна потеряла в этой страшной войн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27 миллионов челове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Эти жертвы не были напрасными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Иначе, не было бы нас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Franklin Gothic Book"/>
              </a:rPr>
              <a:t>Вставай, страна огромная…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484360" y="1197000"/>
            <a:ext cx="395928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Глаза моего дет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видели стольк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смертей, стольк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жестокостей войны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что, казалос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должны они опусте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55640" y="836640"/>
            <a:ext cx="4032360" cy="5288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Franklin Gothic Book"/>
              </a:rPr>
              <a:t>Блокадный Ленинград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1258920" y="5661000"/>
            <a:ext cx="70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«Дорога жизни…» Дорога смерти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258920" y="1341360"/>
            <a:ext cx="711180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11280" y="549360"/>
            <a:ext cx="784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996633"/>
                </a:solidFill>
                <a:latin typeface="Franklin Gothic Book"/>
              </a:rPr>
              <a:t>125 </a:t>
            </a:r>
            <a:r>
              <a:rPr b="1" lang="en-US" sz="9600" spc="-1" strike="noStrike">
                <a:solidFill>
                  <a:srgbClr val="996633"/>
                </a:solidFill>
                <a:latin typeface="Edwardian Script ITC"/>
              </a:rPr>
              <a:t>граммов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4360" y="2349360"/>
            <a:ext cx="795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996633"/>
                </a:solidFill>
                <a:latin typeface="Edwardian Script ITC"/>
              </a:rPr>
              <a:t>блокадного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00000" y="3860640"/>
            <a:ext cx="4681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996633"/>
                </a:solidFill>
                <a:latin typeface="Edwardian Script ITC"/>
              </a:rPr>
              <a:t>хлеба …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000"/>
                            </p:stCondLst>
                            <p:childTnLst>
                              <p:par>
                                <p:cTn id="89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0" dur="5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3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6" dur="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Franklin Gothic Book"/>
              </a:rPr>
              <a:t>Март 1943 г.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Franklin Gothic Book"/>
              </a:rPr>
              <a:t>Белоруссия. Деревня Хатынь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Franklin Gothic Book"/>
              </a:rPr>
              <a:t>Дети в концлагере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6912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ВОЕННОЕ ДЕТСТВО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484280" y="1600200"/>
            <a:ext cx="6174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4T11:03:19Z</dcterms:created>
  <dc:creator>Home</dc:creator>
  <dc:description/>
  <cp:keywords>ДЕТИ-ВОЙНЫ</cp:keywords>
  <dc:language>en-US</dc:language>
  <cp:lastModifiedBy>Teacher</cp:lastModifiedBy>
  <dcterms:modified xsi:type="dcterms:W3CDTF">2012-11-28T10:00:36Z</dcterms:modified>
  <cp:revision>53</cp:revision>
  <dc:subject/>
  <dc:title>Слайд 1</dc:title>
</cp:coreProperties>
</file>