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844-5FEA-4643-A010-61014323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DB1-C4E5-4106-981D-40ECF449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AEF-D046-43EF-A0A7-65FACD10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A25-2F4D-4469-88AE-08DDAFAF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C2D5-11F2-480C-81AE-7CA048D1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4380-B725-45F4-AF15-5300AC9C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66CC-6A7A-485D-94A2-1011B138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E45B-FCCB-41AF-B9B4-06AA32E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A10E-FBA3-46F0-90D8-1F03A3C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0BEA-B4B9-4E3A-8E51-F4D1A911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851A-F38F-4AF9-ABE1-FA35F5F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F72-12F1-4AB3-B322-78B34D5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D4E-0A25-4CF0-B92F-0A44AAF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B787-D0BC-4545-AC7D-2617484D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C624-B579-4EF7-96BE-93A6B434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8530-F522-4607-95FA-1A0BEFFF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3F96-6A50-451D-AB18-8B6EE102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1B9-6566-45A2-86C1-D26E90D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1BC-52CF-4D72-9605-EF8822DE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A70-8704-4C84-9698-D94FB18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D48-894C-4787-9AFA-39CEB63A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71F-ACC7-4C71-AC95-FE9DAA2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654-B192-4493-9596-DFA4883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117-F95F-4615-924C-B289F50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4DB7-4366-44EF-9AC3-D59C1E7E81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E47-4FB2-4FD7-BF79-834C3A3E40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В огне войны сгорело детство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Но не прошло бесследно, нет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И носим мы в себе наследств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И боль, и радость прошлых лет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х принимали в армейские роты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289368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2460600"/>
            <a:ext cx="403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5610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319640" cy="3570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54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Дети сироты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8480" cy="35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403884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7043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В бомбоубежище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51040" y="1600200"/>
            <a:ext cx="3249360" cy="4495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27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Герои Советского Союз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213192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Валя Ко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1197000"/>
            <a:ext cx="2087640" cy="2496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00360" y="1857240"/>
            <a:ext cx="13669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Ле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Гол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067280" y="1125360"/>
            <a:ext cx="2449440" cy="248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6560" y="1773360"/>
            <a:ext cx="1450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Портн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329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Военное детство!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038840" cy="2833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41400" y="1600200"/>
            <a:ext cx="306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148360" y="4365720"/>
            <a:ext cx="52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600360" cy="42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40360" y="3573360"/>
            <a:ext cx="5003640" cy="301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03640" y="278136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Бригада слеса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5661000"/>
            <a:ext cx="3527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Фрезеров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Коля Марты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60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В тылу как на вой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Book"/>
              </a:rPr>
              <a:t>22 июня 1941 г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234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ОМОЩЬ ФРОНТУ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38480" cy="3116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40384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Юные девочки в белых халатах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12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За партой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2398680"/>
            <a:ext cx="4038480" cy="3406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232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74680"/>
            <a:ext cx="8064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ша страна потеряла в этой страшной вой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7 миллионов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и жертвы не были напрасным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аче, не было бы нас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ranklin Gothic Book"/>
              </a:rPr>
              <a:t>Вставай, страна огромная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3959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Глаза моего дет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видели столь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смертей, столь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жестокостей войн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что, каза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должны они опусте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4032360" cy="52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Book"/>
              </a:rPr>
              <a:t>Блокадный Ленингр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6610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«Дорога жизни…» Дорога смерт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71118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5493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Franklin Gothic Book"/>
              </a:rPr>
              <a:t>125 </a:t>
            </a:r>
            <a:r>
              <a:rPr b="1" lang="en-US" sz="9600" spc="-1" strike="noStrike">
                <a:solidFill>
                  <a:srgbClr val="996633"/>
                </a:solidFill>
                <a:latin typeface="Edwardian Script ITC"/>
              </a:rPr>
              <a:t>граммо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349360"/>
            <a:ext cx="79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Edwardian Script ITC"/>
              </a:rPr>
              <a:t>блокадного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860640"/>
            <a:ext cx="46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Edwardian Script ITC"/>
              </a:rPr>
              <a:t>хлеба 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Март 1943 г.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Белоруссия. Деревня Хаты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Book"/>
              </a:rPr>
              <a:t>Дети в концлагер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ВОЕННОЕ ДЕТСТВ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17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11:03:19Z</dcterms:created>
  <dc:creator>Home</dc:creator>
  <dc:description/>
  <cp:keywords>ДЕТИ-ВОЙНЫ</cp:keywords>
  <dc:language>en-US</dc:language>
  <cp:lastModifiedBy>Teacher</cp:lastModifiedBy>
  <dcterms:modified xsi:type="dcterms:W3CDTF">2012-11-28T10:00:36Z</dcterms:modified>
  <cp:revision>53</cp:revision>
  <dc:subject/>
  <dc:title>Слайд 1</dc:title>
</cp:coreProperties>
</file>