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D7F-09FD-4035-A752-EFFAEFAF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E36-46E6-4342-9B5D-2C1B432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25B-5B90-4143-8277-3AC26616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B2F-D90F-4CCE-84E6-2F5D31EC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475E-178E-449C-BEC9-A2140AD4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9EF-CF51-48F6-A796-FCC09F13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B999-740C-43CF-B76A-4BE450FF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81A-D978-4652-A939-3F79DBEB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CB9-E634-4725-904A-035E418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9757-F126-4793-94D4-280E60B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580-C33D-44A2-ACCE-24F8A41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69C-78C0-43CB-B3E8-FBBC3556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50EB-DA91-457C-9C41-1EABE62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AAE1-1FA6-4007-98A7-9897B28A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529C-ABC1-4B97-A916-3A75723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528-49E2-421A-A0E5-5C1F044F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D4A1-DD71-49C0-86FC-469DAE5E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0FF-1509-4075-9E3D-D0D4398B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A63-6C85-449E-88D9-5CD5614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C7A-51F1-43DC-B633-DAF4B0B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C70-E85A-4A93-B764-EA4A332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6F4-74D7-4BF1-88BE-7AB4D6B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1E9-16B1-436A-938D-5CDFA02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1C7-FE53-4B56-A330-C66DB86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705-F8A1-43C5-9C4E-E49EF552B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D46-F69F-4121-A9F7-E484B8822F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333000"/>
            <a:ext cx="7910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Я верю, что женщина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Чудо зем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Какого на Млечном пути не сыскат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И если «женщина»- слово свято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То трижды священное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ЖЕНЩИНА-МАТ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38440" y="595440"/>
            <a:ext cx="5667120" cy="56671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0000" cy="34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80000" y="2798640"/>
            <a:ext cx="5016240" cy="3762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5592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744720" cy="358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780000" y="3860640"/>
            <a:ext cx="5148000" cy="28069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81560" cy="554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573360" cy="476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3400560" cy="39052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029200" cy="360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531400">
            <a:off x="3780000" y="2204640"/>
            <a:ext cx="4848120" cy="363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11320" y="260280"/>
            <a:ext cx="5369040" cy="6408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2:33:33Z</dcterms:created>
  <dc:creator>User</dc:creator>
  <dc:description/>
  <dc:language>en-US</dc:language>
  <cp:lastModifiedBy>User</cp:lastModifiedBy>
  <dcterms:modified xsi:type="dcterms:W3CDTF">2011-11-21T13:08:30Z</dcterms:modified>
  <cp:revision>4</cp:revision>
  <dc:subject/>
  <dc:title>Слайд 1</dc:title>
</cp:coreProperties>
</file>