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0.gif" ContentType="image/gif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79BF-9E66-426F-8B3A-496535E44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3463-8F1E-45F0-94C2-3B7F1F199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D82A-1DF4-42A0-90C8-2F08AE331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6B5F-77ED-4641-8A17-681B09900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E5070-352A-4F99-B3B2-36A79651C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B6F2C-AC1A-44FA-994A-38A4D426D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C5C30-C219-43E3-9443-E23B5B20F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C1908-DA03-459B-9011-A17240C4E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DD128-C1F9-4F37-9A23-49FBBAB21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410C8-D67B-4863-94BF-28241D1F3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6B6A6-3D7F-40E7-BAEE-AC34C6B2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497D-767C-4D3F-8DF9-EEF93732A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47CF7-DF6A-4C39-8A73-B3D40C1C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75322-053C-4E39-A73B-8BF85CC2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51145-0BB2-4014-AEA8-DC60933FE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83416-B94D-46A0-AE83-1B9B86793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266F1-FD79-4444-BA72-129A94558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D271-AD59-4E2F-88BD-DAEA383E6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D8B1-F9F9-44F4-B91B-47400205C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12CA-4028-41FE-8EBE-4CCA6D0D0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25A6-22FC-408E-97C9-DE21CD546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16F9-5FE9-4528-8CEC-A92815182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9ACA-9529-4D94-9B72-D4B31BEC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98ED-6B3E-4693-8A10-29EFF18F5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BDE72-84FE-4FD0-8299-466A01E750C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F0BFD-80E6-4D4A-9B21-641A4856431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333000"/>
            <a:ext cx="791064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ff"/>
                </a:solidFill>
                <a:latin typeface="Arial"/>
              </a:rPr>
              <a:t>Я верю, что женщина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ff"/>
                </a:solidFill>
                <a:latin typeface="Arial"/>
              </a:rPr>
              <a:t>Чудо земно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ff"/>
                </a:solidFill>
                <a:latin typeface="Arial"/>
              </a:rPr>
              <a:t>Какого на Млечном пути не сыскать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ff"/>
                </a:solidFill>
                <a:latin typeface="Arial"/>
              </a:rPr>
              <a:t>И если «женщина»- слово святое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ff"/>
                </a:solidFill>
                <a:latin typeface="Arial"/>
              </a:rPr>
              <a:t>То трижды священное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ff"/>
                </a:solidFill>
                <a:latin typeface="Arial"/>
              </a:rPr>
              <a:t>ЖЕНЩИНА-МАТЬ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600200" y="457200"/>
            <a:ext cx="5943600" cy="594360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738440" y="595440"/>
            <a:ext cx="5667120" cy="566712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4680000" cy="34146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780000" y="2798640"/>
            <a:ext cx="5016240" cy="376236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3355920" cy="5029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427640" y="189000"/>
            <a:ext cx="3744720" cy="35812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3780000" y="3860640"/>
            <a:ext cx="5148000" cy="280692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4381560" cy="55436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857840" y="2571840"/>
            <a:ext cx="4286160" cy="428616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3573360" cy="47642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435640" y="692280"/>
            <a:ext cx="3400560" cy="390528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5029200" cy="36018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 rot="20531400">
            <a:off x="3780000" y="2204640"/>
            <a:ext cx="4848120" cy="363060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011320" y="260280"/>
            <a:ext cx="5369040" cy="640872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9T12:33:33Z</dcterms:created>
  <dc:creator>User</dc:creator>
  <dc:description/>
  <dc:language>en-US</dc:language>
  <cp:lastModifiedBy>User</cp:lastModifiedBy>
  <dcterms:modified xsi:type="dcterms:W3CDTF">2011-11-21T13:08:30Z</dcterms:modified>
  <cp:revision>4</cp:revision>
  <dc:subject/>
  <dc:title>Слайд 1</dc:title>
</cp:coreProperties>
</file>