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A40-4975-4C23-87E6-6185273C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16E-7594-4910-8B99-D49D4EFF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B71-257E-4770-9282-F111BC09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A0A-FAF6-44FB-A371-9B228F9E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165F-4D71-4F3F-A3A5-CC21ED44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E9F-4C43-44A1-92C7-883C089A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83B9-F0D6-46D7-829A-2DBF1A3D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B9E8-2BCC-4CB8-9AE7-365618F8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B005-292C-47A9-9CED-5E3A8B7D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D1F-047D-4414-8D3B-8E4579AD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A146-61A7-41EE-814A-C4B7FC05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FEC-7A60-4695-8851-F88F64F3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F010-286E-463F-9B93-4FA43D4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E85A-F35A-4B6C-8EF0-41F4C2F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4BD1-0AAE-4A78-B704-F9A41BB8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5BE8-C009-4068-8AD4-9A84D246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2F6D-A28C-47D6-A50D-83EC0812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113-E928-4770-99D7-9FB3D604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0F0-6863-4A45-ACBC-B632EBB6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FEE-5E3B-4F89-9211-013F32A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C90-810E-45BC-9D22-FEEBB377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F55-0A01-4483-B5AA-0707511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D1C-6795-403A-8C72-2CC2B7B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FA2-4BA9-4FC9-B392-10C12B97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075-F585-44F8-92B8-919B3194F6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016-7B78-492D-81B8-54AB9E51E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9b3"/>
          <p:cNvPicPr/>
          <p:nvPr/>
        </p:nvPicPr>
        <p:blipFill>
          <a:blip r:embed="rId1"/>
          <a:stretch/>
        </p:blipFill>
        <p:spPr>
          <a:xfrm>
            <a:off x="3174840" y="3429000"/>
            <a:ext cx="2590920" cy="3124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ское занятие во 2 класс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 тебе пришли гост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КОУ РО школы-интерната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вида г. Зерноград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сьминина Ирина Сергеев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22"/>
          <p:cNvPicPr/>
          <p:nvPr/>
        </p:nvPicPr>
        <p:blipFill>
          <a:blip r:embed="rId2"/>
          <a:stretch/>
        </p:blipFill>
        <p:spPr>
          <a:xfrm>
            <a:off x="380880" y="380880"/>
            <a:ext cx="10861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родная мудрос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дёжке встречают, по уму провож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 пустой стол гостей не саж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рогому гостю и хозяин ра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асному гостю красное мест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л в гости звать, умей гостей встреч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стю почёт – хозяину че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брое слово и кошке прият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орог обед, дорог прив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красна изба углами – красна пирог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ля того в гости едут, что дома нечего обед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то гостю рад, тот и собачку его корм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4"/>
          <p:cNvPicPr/>
          <p:nvPr/>
        </p:nvPicPr>
        <p:blipFill>
          <a:blip r:embed="rId1"/>
          <a:stretch/>
        </p:blipFill>
        <p:spPr>
          <a:xfrm>
            <a:off x="7620120" y="4952880"/>
            <a:ext cx="1190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чем люди ходят друг к другу в гости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Новый рисунок (10)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ятно, когда, увидев тебя, кто-нибудь обрадуется и тепло улыбнё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гостях собираются разные люди поговорить о том о сём – и всем польза: узнали новости, обсудили события, обменялись сведениями – и все стали немножко богаче, ум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ди делятся друг с другом хорошим. Родился, например, в семье сын – зовут гостей разделить рад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4" descr="Новый рисунок (12)"/>
          <p:cNvPicPr/>
          <p:nvPr/>
        </p:nvPicPr>
        <p:blipFill>
          <a:blip r:embed="rId1"/>
          <a:stretch/>
        </p:blipFill>
        <p:spPr>
          <a:xfrm>
            <a:off x="5105520" y="1752480"/>
            <a:ext cx="380052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37920" y="3429000"/>
            <a:ext cx="624852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вести себя хозяину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вести себя гостю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0d1"/>
          <p:cNvPicPr/>
          <p:nvPr/>
        </p:nvPicPr>
        <p:blipFill>
          <a:blip r:embed="rId1"/>
          <a:stretch/>
        </p:blipFill>
        <p:spPr>
          <a:xfrm>
            <a:off x="1219320" y="1371600"/>
            <a:ext cx="14954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пер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лёша возвращался из школы с друзьями. По дороге спорили о том, кто быстрее всех бегает. Саша утверждал, что гепард, Витя говорил – антилопа. Доспорить не успели, а уже и дом Алёши. Расставаться не хотелось. Алёша предложил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Пошли, ребята, ко мне. У меня «Жизнь животных» есть. И поедим, а то здорово есть хочетс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А мама ругаться не будет? – спросил Вит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Ну что ты! Она у меня не такая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льчикам открыла мама Алёши. Она была в стареньком платье, в фартуке. Из-под косынки выбились волосы. В руках мокрая тряпка, в ванной работала стиральная машинка, а в комнате вся мебель была сдвинута. Видно, началась большая убор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ы уж извините, ребята, у нас беспорядок. Я сейчас приготовлю вам чего-нибудь перекуси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льчики стали отказываться, порывались уйти домой. Хозяева уговаривали их остаться всем было неловко, нехорош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Verdana"/>
              </a:rPr>
              <a:t>Кто виноват в эт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втор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дверь постучали. Сергей, продолжая есть, крикнул: «Входите, открыто!» на пороге появилась … одноклассница Марина. Это было полной неожиданностью. Что надо сделать прежде всего? Как быть с ужином: продолжать есть или оставить? Можно ли спросить, зачем пришла Марина? Если ей срочно нужна книжка, которую придётся долго искать на стеллаже в соседней комнате, как следует поступ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n311"/>
          <p:cNvPicPr/>
          <p:nvPr/>
        </p:nvPicPr>
        <p:blipFill>
          <a:blip r:embed="rId1"/>
          <a:stretch/>
        </p:blipFill>
        <p:spPr>
          <a:xfrm>
            <a:off x="8305920" y="5334120"/>
            <a:ext cx="571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трет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ро в школу. Уроки ещё не сделаны. А мама просила начистить картошку и протереть пол влажной тряпкой. Но Игорь никак не возьмётся за дело. Ребята всё не уходят. Играли в настольный хоккей. Тренировали на задержание преступника болонку Тусю. Отрабатывали на ковре приёмы самбо. Опустошили вазочку с конфетами. Потом нашли песенник и стали петь пес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ой их отправить? А как же с долгом хозяина? Выполнить долг хозяина – а уроки? А мамина просьб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3300"/>
                </a:solidFill>
                <a:latin typeface="Verdana"/>
              </a:rPr>
              <a:t>Как быть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d20"/>
          <p:cNvPicPr/>
          <p:nvPr/>
        </p:nvPicPr>
        <p:blipFill>
          <a:blip r:embed="rId1"/>
          <a:stretch/>
        </p:blipFill>
        <p:spPr>
          <a:xfrm>
            <a:off x="8229600" y="5410080"/>
            <a:ext cx="7142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итуация четвёрт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на с мамой готовились ко дню рождения тщательно: напекли пирожков, приготовили торт, купили мороженое и даже молочный коктейль сделали. Пришли ребята из класса, засыпали Лену подарками, чинно уселись за стол, довольно быстро управились с угощением и … заскучали. Девочки сбились на диване, листали книжку, смеялись, шушукались. Мальчики в другом углу играли в шаш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на принесла ещё один большой торт: «Ешьте, ребята, ну ешьте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есть уже никто не хоте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Айда, ребята, шайбу погоняем, - сказал кто-то. И мальчишки заторопились. Следом за ними разошлись и подруж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гда мама, которую Лена попросила уйти часа на два к соседям, вернулась домой, виновница торжества в полном одиночестве горько плакала в неприбранной кух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Как вы думаете, почему не получился день рождения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Почему он не стал настоящим весёлым праздник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4" descr="31"/>
          <p:cNvPicPr/>
          <p:nvPr/>
        </p:nvPicPr>
        <p:blipFill>
          <a:blip r:embed="rId1"/>
          <a:stretch/>
        </p:blipFill>
        <p:spPr>
          <a:xfrm>
            <a:off x="8001000" y="4800600"/>
            <a:ext cx="1143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44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амятка гостеприимств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приветливым хозяи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душно встретить гостя, помочь ему раздеться, пригласить в лучшую комнату, усадить поудобнее, чем-нибудь занять и развлечь 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нимательным хозяи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еть всех своих друзей сразу и каждого в отдельности, найти время поговорить со всеми понемног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предупредительным хозяин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нее подумать не только над тем, чем вы угостите своих друзей, но и чем их займёте, предугадать желания г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хозяином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жалеть для гостей книг, игрушек, угощения, а также времени, стараний и усил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бескорыстным хозяином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требовать благодарности за то, что вы сделали для гостя, не жаловаться на трудности и заботы, связанные с его приход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тактичным хозяин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замечать невольных промахов и ошибок гостя, не затевать разговоров на неприятную для него тему, не устраивать таких развлечений, в которых гость будет выглядеть неумехо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оспитанным хозяин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ыть вежливым, радушным хозяином, и что бы не случилось не показывать плохого настро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Новый рисунок (13)"/>
          <p:cNvPicPr/>
          <p:nvPr/>
        </p:nvPicPr>
        <p:blipFill>
          <a:blip r:embed="rId1"/>
          <a:stretch/>
        </p:blipFill>
        <p:spPr>
          <a:xfrm>
            <a:off x="5867280" y="1066680"/>
            <a:ext cx="2828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11-28T07:17:0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