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A68-D794-48F8-A50B-E0AA2362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1D8-C159-459D-A4F5-5ED39905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749-68E0-4BB6-AB8B-960D4E56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737-23F3-4BB6-BC81-A7FCE039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246F-F568-441D-AAF9-957E4AF3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CA91-A735-4813-9307-8B4B28B4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CCBA-D766-46CA-A13A-AEE5A821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AA09-FAB7-4395-812C-576E3A68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F1C6-CCAB-4757-90D6-81D28215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C30E-992E-40AD-82E8-8D1B8022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E5C1-5BB9-404C-9F06-18190974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3C7-5949-4E2C-86D5-23CE371C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AE0B-BC48-4D2F-AB61-0DB95915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052A-8840-4261-947A-A6BC8AEF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E168-14B0-435C-BDB4-8059BCAD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0DFD-3235-42F0-8E0C-E7D9D482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B378-0226-4820-A5C3-0282114E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705-BE5D-4335-9315-38CAC039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311-3FC8-4B78-91AE-E4D05DBD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FE2-6A5F-49C8-AAF7-F52406BB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594-423E-4A5C-B966-A78B746C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9F6-66B5-4C49-8725-CA2C829F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B0D-64BB-4303-903D-FC19F67F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D03-05A6-4F54-A2C8-17DCCA25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D479-543B-4015-A696-09F6EAE87E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E8AE-A7AE-4094-998F-15AF278D0E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9b3"/>
          <p:cNvPicPr/>
          <p:nvPr/>
        </p:nvPicPr>
        <p:blipFill>
          <a:blip r:embed="rId1"/>
          <a:stretch/>
        </p:blipFill>
        <p:spPr>
          <a:xfrm>
            <a:off x="3174840" y="3429000"/>
            <a:ext cx="2590920" cy="3124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ское занятие во 2 класс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 тебе пришли гости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ГКОУ РО школы-интерната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вида г. Зерноград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сьминина Ирина Сергеев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22"/>
          <p:cNvPicPr/>
          <p:nvPr/>
        </p:nvPicPr>
        <p:blipFill>
          <a:blip r:embed="rId2"/>
          <a:stretch/>
        </p:blipFill>
        <p:spPr>
          <a:xfrm>
            <a:off x="380880" y="380880"/>
            <a:ext cx="108612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ародная мудрост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дёжке встречают, по уму провожаю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 пустой стол гостей не сажаю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рогому гостю и хозяин ра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асному гостю красное мест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л в гости звать, умей гостей встреч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стю почёт – хозяину че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брое слово и кошке прият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дорог обед, дорог прив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красна изба углами – красна пирог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для того в гости едут, что дома нечего обед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то гостю рад, тот и собачку его корми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4" descr="4"/>
          <p:cNvPicPr/>
          <p:nvPr/>
        </p:nvPicPr>
        <p:blipFill>
          <a:blip r:embed="rId1"/>
          <a:stretch/>
        </p:blipFill>
        <p:spPr>
          <a:xfrm>
            <a:off x="7620120" y="4952880"/>
            <a:ext cx="11905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Зачем люди ходят друг к другу в гости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Новый рисунок (10)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4648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ятно, когда, увидев тебя, кто-нибудь обрадуется и тепло улыбнё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гостях собираются разные люди поговорить о том о сём – и всем польза: узнали новости, обсудили события, обменялись сведениями – и все стали немножко богаче, ум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юди делятся друг с другом хорошим. Родился, например, в семье сын – зовут гостей разделить рад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4" descr="Новый рисунок (12)"/>
          <p:cNvPicPr/>
          <p:nvPr/>
        </p:nvPicPr>
        <p:blipFill>
          <a:blip r:embed="rId1"/>
          <a:stretch/>
        </p:blipFill>
        <p:spPr>
          <a:xfrm>
            <a:off x="5105520" y="1752480"/>
            <a:ext cx="380052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437920" y="3429000"/>
            <a:ext cx="6248520" cy="26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 вести себя хозяину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 вести себя гостю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4" descr="0d1"/>
          <p:cNvPicPr/>
          <p:nvPr/>
        </p:nvPicPr>
        <p:blipFill>
          <a:blip r:embed="rId1"/>
          <a:stretch/>
        </p:blipFill>
        <p:spPr>
          <a:xfrm>
            <a:off x="1219320" y="1371600"/>
            <a:ext cx="14954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440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итуация пер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лёша возвращался из школы с друзьями. По дороге спорили о том, кто быстрее всех бегает. Саша утверждал, что гепард, Витя говорил – антилопа. Доспорить не успели, а уже и дом Алёши. Расставаться не хотелось. Алёша предложил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Пошли, ребята, ко мне. У меня «Жизнь животных» есть. И поедим, а то здорово есть хочетс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А мама ругаться не будет? – спросил Вит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Ну что ты! Она у меня не такая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альчикам открыла мама Алёши. Она была в стареньком платье, в фартуке. Из-под косынки выбились волосы. В руках мокрая тряпка, в ванной работала стиральная машинка, а в комнате вся мебель была сдвинута. Видно, началась большая убор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Вы уж извините, ребята, у нас беспорядок. Я сейчас приготовлю вам чего-нибудь перекусит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альчики стали отказываться, порывались уйти домой. Хозяева уговаривали их остаться всем было неловко, нехорош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Verdana"/>
              </a:rPr>
              <a:t>Кто виноват в это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440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итуация втор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дверь постучали. Сергей, продолжая есть, крикнул: «Входите, открыто!» на пороге появилась … одноклассница Марина. Это было полной неожиданностью. Что надо сделать прежде всего? Как быть с ужином: продолжать есть или оставить? Можно ли спросить, зачем пришла Марина? Если ей срочно нужна книжка, которую придётся долго искать на стеллаже в соседней комнате, как следует поступ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4" descr="n311"/>
          <p:cNvPicPr/>
          <p:nvPr/>
        </p:nvPicPr>
        <p:blipFill>
          <a:blip r:embed="rId1"/>
          <a:stretch/>
        </p:blipFill>
        <p:spPr>
          <a:xfrm>
            <a:off x="8305920" y="5334120"/>
            <a:ext cx="5713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440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итуация трет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коро в школу. Уроки ещё не сделаны. А мама просила начистить картошку и протереть пол влажной тряпкой. Но Игорь никак не возьмётся за дело. Ребята всё не уходят. Играли в настольный хоккей. Тренировали на задержание преступника болонку Тусю. Отрабатывали на ковре приёмы самбо. Опустошили вазочку с конфетами. Потом нашли песенник и стали петь пес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ой их отправить? А как же с долгом хозяина? Выполнить долг хозяина – а уроки? А мамина просьб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00"/>
                </a:solidFill>
                <a:latin typeface="Verdana"/>
              </a:rPr>
              <a:t>Как быть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4" descr="d20"/>
          <p:cNvPicPr/>
          <p:nvPr/>
        </p:nvPicPr>
        <p:blipFill>
          <a:blip r:embed="rId1"/>
          <a:stretch/>
        </p:blipFill>
        <p:spPr>
          <a:xfrm>
            <a:off x="8229600" y="5410080"/>
            <a:ext cx="7142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440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итуация четвёрт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на с мамой готовились ко дню рождения тщательно: напекли пирожков, приготовили торт, купили мороженое и даже молочный коктейль сделали. Пришли ребята из класса, засыпали Лену подарками, чинно уселись за стол, довольно быстро управились с угощением и … заскучали. Девочки сбились на диване, листали книжку, смеялись, шушукались. Мальчики в другом углу играли в шаш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на принесла ещё один большой торт: «Ешьте, ребята, ну ешьте!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есть уже никто не хоте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Айда, ребята, шайбу погоняем, - сказал кто-то. И мальчишки заторопились. Следом за ними разошлись и подруж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гда мама, которую Лена попросила уйти часа на два к соседям, вернулась домой, виновница торжества в полном одиночестве горько плакала в неприбранной кухн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Verdana"/>
              </a:rPr>
              <a:t>Как вы думаете, почему не получился день рождения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Verdana"/>
              </a:rPr>
              <a:t>Почему он не стал настоящим весёлым празднико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4" descr="31"/>
          <p:cNvPicPr/>
          <p:nvPr/>
        </p:nvPicPr>
        <p:blipFill>
          <a:blip r:embed="rId1"/>
          <a:stretch/>
        </p:blipFill>
        <p:spPr>
          <a:xfrm>
            <a:off x="8001000" y="4800600"/>
            <a:ext cx="1143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44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амятка гостеприимств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5105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приветливым хозяин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адушно встретить гостя, помочь ему раздеться, пригласить в лучшую комнату, усадить поудобнее, чем-нибудь занять и развлечь 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внимательным хозяин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еть всех своих друзей сразу и каждого в отдельности, найти время поговорить со всеми понемног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предупредительным хозяин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ранее подумать не только над тем, чем вы угостите своих друзей, но и чем их займёте, предугадать желания гост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щедрым хозяином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 жалеть для гостей книг, игрушек, угощения, а также времени, стараний и усил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бескорыстным хозяином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 требовать благодарности за то, что вы сделали для гостя, не жаловаться на трудности и заботы, связанные с его приходо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тактичным хозяин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 замечать невольных промахов и ошибок гостя, не затевать разговоров на неприятную для него тему, не устраивать таких развлечений, в которых гость будет выглядеть неумехо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воспитанным хозяин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ыть вежливым, радушным хозяином, и что бы не случилось не показывать плохого настро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Новый рисунок (13)"/>
          <p:cNvPicPr/>
          <p:nvPr/>
        </p:nvPicPr>
        <p:blipFill>
          <a:blip r:embed="rId1"/>
          <a:stretch/>
        </p:blipFill>
        <p:spPr>
          <a:xfrm>
            <a:off x="5867280" y="1066680"/>
            <a:ext cx="28288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2-11-28T07:17:0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