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5EF-0886-4818-B2D0-89EBEF23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E2B-5A51-4155-8119-D1C69D1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0A4-25A7-42DA-88D0-4CCFB0F6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641-A059-4EBA-AE43-B55B4091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B1EB-8E74-42D0-9450-0D2911C5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1A3E-9DDC-41FE-BC74-47CB7CD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502-90DD-4D43-BDCA-99E407F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D63-62D8-4B78-AC9C-03B928F1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282A-E96B-4996-BF4D-677DEC2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D43-2A72-45B0-8FCC-39853C9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823-21F2-46AA-91C7-FBCB0FD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AAA-2EF3-4F99-969A-A09120E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7DB3-E0E1-4E14-B56C-890E3E9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159D-0849-4AB2-9117-8F2FA99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68F4-4791-41E7-8CDD-DB195F9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323-AD0E-4510-A7B0-9508513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DD22-C7CB-4CDF-98D5-D5CBF5D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5FB-6BC8-4B3C-BE66-12A3571A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592-36C7-4EBD-B01A-7E8B638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C32-12F4-4135-B4F0-86CBA0E7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E70-6807-4DD7-A305-2A82E46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85A-0316-4186-AED8-F7B59E3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570-782B-4CE5-AB01-A4439DF7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CC2-F782-459F-83B2-22BCA644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DDD-66C0-47ED-908E-DF81C1E64C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BBF-7149-46AF-992B-B8069B764D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Ференц Лист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удышкина Оксана 9 А клас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итель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арсуков О.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56000" y="692280"/>
            <a:ext cx="4092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Творческая деятельность Ференца Листа была на редкость многогранной.  Смелый новатор,  Лист  обогатил  музыку  новыми   идеями, новыми   выразительными средствами. Он широко использовал программность в музыке как  жанр,  несущий в себе элементы демократизма; постоянно обращался к народу как  к  источнику жизненной  силы  искусства.  Лист  настойчиво  стремился  познать   характер народной жизни, быта своей родины, ее музыкального богатств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53755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383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2517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0297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71640" y="476280"/>
            <a:ext cx="3908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 родился в 1811 г. в поместье князя Эстергази. С детства полюбил венгерские народные песни и песни венгерских цыган. В 9 лет играл перед меценатами. Он поразил их своей игрой. Меценаты дали Листу деньги, на которые он вместе с отцом в 1820-м году поехал учиться в Вену. Там он занимается частным образом. По фортепиано – у Черни, а по композиции у Сальери. Там Лист познакомился с Бетховеном, который его благословил. Первое произведение Листа - “вариации на тему вальса Диабелли”, которое он написал в 11 л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Ф. Лист"/>
          <p:cNvPicPr/>
          <p:nvPr/>
        </p:nvPicPr>
        <p:blipFill>
          <a:blip r:embed="rId2"/>
          <a:stretch/>
        </p:blipFill>
        <p:spPr>
          <a:xfrm>
            <a:off x="2556000" y="549360"/>
            <a:ext cx="376704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827 г. у Листа умер отец. Лист занялся самообразованием. Давал много концертов. В 30 г. горячо воспринял революцию. Гастролировал в Англии, Швейцарии, Франции. После революции увлекался утопическим и православным социализмом. Лист встречался со многими знаменитостями. Особое влияние оказали Берлиоз, Шопен (после его смерти Лист написал книгу о Шопене) и Паганини, который поразил Листа как исполнитель. Лист написал фантазию на тему “Кампанеллы”, а позже транскрипции каприсов и этюдов Пагани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44244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конца 30-х гг. до 1847 Лист гастролировал с большим триумфом по всем странам Европы, в т. ч. в Венгрии, где его чествовали как национального героя (в 1838–40 дал ряд благотворительных концертов в помощь пострадавшим от наводнения в Венгрии), в 1842, 1843 и 1847 в России, где познакомился с М. И. Глинкой, Мих. Ю. Виельгорским, В. Ф. Одоевским, В. В. Стасовым, А. Н. Серовым и др.  В 1848, оставив карьеру пианиста-виртуоза, Лист поселился в Веймаре, с которым связан расцвет его творческой и музыкально-просветительской деятельности. В 1848–61 были созданы самые значительные произведения Листа, в т. ч. 2 симфонии, 12 симфонических поэм, 2 фортепианных концерта, соната h-moll, Этюды высшего исполнительского мастерства, «Фантазия на венгерские народные темы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11280" y="189000"/>
            <a:ext cx="46008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 конца жизни Лист продолжал бесплатные занятия с учениками, воспитав свыше 300 пианистов из разных стран. Среди учеников: Э. д’Альбер, Э. Зауэр, А. Рейзенауэр, А. И. Зилоти, В. В. Тиманова; его советами пользовались многие композиторы.  Многогранная творческая деятельность Листа — яркого представителя романтизма — сыграла огромную роль в становлении венгерской национальной музыкальной школы (композиторской и исполнительской) и в развитии мировой музыкальной культуры. В его произведениях возник органический сплав народно-венгерских истоков (вербункош) и достижений европейской профессиональной музыки («Венгерские рапсодии», «Героический марш в венгерском стиле», «Погребальное шествие» для фортепиано, симфонические поэмы, оратории, мессы и другие сочинения). Непреходящее значение творчества Листа — в демократизме и действенном гуманизме идейного содержания, его главными темами являются борьба человека за высокие идеалы, стремление к свету, свободе, счасть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35:50Z</dcterms:created>
  <dc:creator>1</dc:creator>
  <dc:description/>
  <dc:language>en-US</dc:language>
  <cp:lastModifiedBy>Teacher</cp:lastModifiedBy>
  <dcterms:modified xsi:type="dcterms:W3CDTF">2012-11-28T12:59:04Z</dcterms:modified>
  <cp:revision>5</cp:revision>
  <dc:subject/>
  <dc:title>Ференц Лист</dc:title>
</cp:coreProperties>
</file>