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AC2-A865-4CBE-9323-4D3CE4594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314-C3B4-440C-BF9C-784788E6B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на вопрос появляется при щелчке на управляющую клавишу СВЕДЕНИЯ появляется определение площади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ДАЛЕЕ появляется форму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E17B-5DB2-459C-BFE6-FF98D06B0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СВЕДЕНИЯ появляется определение периметр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ДАЛЕЕ появляется форму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2FB-6FD7-439E-B562-0A2191EEA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онный эффект появляется при щелчке на управляющую клавишу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CF9E-AA38-45BB-A3B3-E49CFF38B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онный эффект появляется при щелчке на управляющую клавишу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28E7-54D7-458C-8FAD-A566A4747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5D1-5AF5-4056-97E1-DC3CA95F3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е формулы осуществляется щелчком на соответствующий е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появляются последов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8F94-199E-4B7E-A81A-32AB364EB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содержания домашнего задания осуществляется щелчком по прямоугольнику «ДОМАШНЕЕ ЗА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F34C-E47E-4687-891B-BBED3FB19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оезда осуществляется щелчком по управляющим кнопкам. Ответ вводится с клавиатуры в текстовое п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91C-0F35-4983-A49D-DBCA9BE69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материалу первого задания осуществляется щелчком по прямоугольнику «НАЧНЕМ УРОК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B5E-0E3D-4B00-A927-EEFE4E969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задания необходимо щелкнуть мышкой по объ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явления названий каждого вида выражений необходимо щелкнуть мышкой по прямоугольнику с вопросом «</a:t>
            </a:r>
            <a:r>
              <a:rPr b="0" lang="ru-RU" sz="1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ак называются эти выражения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194-EC67-42F4-ABEB-E12F00490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оезда осуществляется щелчком по управляющим кнопкам. Ответ вводится с клавиатуры в текстовое п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107-E438-42CF-83F9-953ED5ECF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ответа осуществляется щелчком по прямоугольнику «За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3EF-B9FF-499C-A9EB-93D254CAD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ответа осуществляется щелчком по прямоугольнику «Что же такое ФОРМУЛ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137-7565-4285-8738-2FCFFCEF0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содержания задания осуществляется щелчком по прямоугольнику «ПРОВЕРИМ, КАК ВЫ ПОНЯЛИ МАТЕРИ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оявляются после щелчка по названию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244-3FA0-4149-A06C-291196484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DF1-3124-4033-8A2D-8545660E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1E9-78B9-46E1-834B-3903704B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2A8-99AD-42C2-8937-B6695990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B18-1751-4122-9032-CF4832DD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F52-2931-4149-A4D2-6EE6FBAB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BC2-B6A9-4B86-B798-950BE50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2D3-C945-4FE8-915B-2EBDA8D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C90-B061-483A-B565-303F286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CAC-7112-4B99-AFD6-EEC3D5D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010B-21BA-4FBC-8C07-6749DFE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D34-8833-4494-9023-BC9B7FE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16F-2013-4BC5-BB62-55144FC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BE3-2DB5-4A81-BFF4-13819E4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123-B3AD-44D8-A6E1-384C251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3D4-3288-4B72-813F-831EC8D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FAF-D20E-406C-B792-762808CA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197E-AA82-42F6-BA0C-0DEEEC14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ACD5-4E1C-4914-9D69-B0E34612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DF7A-E378-48E9-BDAF-7A7526CC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5337-469A-4257-8DC3-537612AB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75C5-98F7-46D2-8A3B-3E99610F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7072-5BAE-4491-AEAF-77281C7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BB0-BAC4-465A-A86B-F85CD585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B3B3-F60F-4E3A-8AE0-53FF197D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DD36-38D2-4259-A362-31F0647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D31D-4753-49AA-A986-E2382F4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216F-EF3A-473D-B746-410EA5E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B02A-B7A6-4D12-8585-C0690E43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F51E-A1A4-4B72-A309-A19BFDB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9C52-B57E-441D-96F8-91F44755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14A7-E08B-4CBF-898B-8EB99386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F5CA-D095-439F-8B55-3B517D5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DBC6-8BC8-4679-AA1D-DCCAAF7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876-D589-43F0-9B88-3BFC524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D41B-9BB1-4AAB-A2CD-387164E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9A67-3708-458E-86A6-B67F6F2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4CE0-513D-4985-A260-694046C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CC16-E260-4ECE-887D-A0A0A38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5D30-5F0B-40B3-8DBE-88C3410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C3DA-BE09-4897-BECC-E79416A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78C8-4E3C-4C89-9DCD-888E5777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E7080-1B03-4273-9D11-0E1B3D4C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9275-2D01-4CD2-836F-EF39D566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B251-5B80-4E8A-B962-BC7FDE9D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4AF-172F-4217-A97D-10BA677A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B6C3-87EC-4EB9-9958-2B5A605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5C4D-C451-49F1-BB47-1EF0932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A6A9-6F2C-4F35-AF7F-08E8113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06C1-BD2C-4BC1-BD5A-67639C7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5747-13D6-4A97-91EB-4B85A54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2565-600F-4EA1-8E4B-2D62205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4963-7AE5-416E-937E-FAC78E7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8E81-A7A9-4756-9336-AE23681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BFE6-38B2-4ED4-8DD0-6509349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9503-B2A5-40BE-AAE5-958F2482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5B7-B93E-4784-AF6A-9E912BD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726FE-C322-452B-9B49-B8F97E61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E63-B29B-4BF1-8AE9-0935D142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607-8A79-4C7D-8699-3483EAA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E86-5BF7-4250-8E09-40A1566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60A-0F72-4A9D-9D31-79A25F02FE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D3E-A5B8-4759-BB27-12E1ED7847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1CF-335A-4A0A-B884-F2291E8BDF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744-C8BE-4BEA-A8E8-F76B640936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5FD-50E9-4EDC-866A-39517EC673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0.png"/><Relationship Id="rId6" Type="http://schemas.openxmlformats.org/officeDocument/2006/relationships/image" Target="../media/image36.png"/><Relationship Id="rId7" Type="http://schemas.openxmlformats.org/officeDocument/2006/relationships/image" Target="../media/image31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8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37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571840" y="7142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редняя общеобразовательная школа № 47 г.о.Сам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4000680" y="4714920"/>
            <a:ext cx="47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атегории Котико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214720" y="6143760"/>
            <a:ext cx="47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а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627280" y="1755720"/>
            <a:ext cx="4516560" cy="11034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2571840" y="3000240"/>
            <a:ext cx="47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МАТИКА, 5 КЛА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49"/>
          <p:cNvSpPr/>
          <p:nvPr/>
        </p:nvSpPr>
        <p:spPr>
          <a:xfrm>
            <a:off x="500040" y="5286240"/>
            <a:ext cx="4714920" cy="1285920"/>
          </a:xfrm>
          <a:prstGeom prst="rect">
            <a:avLst/>
          </a:prstGeom>
          <a:solidFill>
            <a:srgbClr val="dac19b">
              <a:alpha val="34000"/>
            </a:srgbClr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домой 20">
            <a:hlinkClick r:id="" action="ppaction://hlinkshowjump?jump=endshow"/>
          </p:cNvPr>
          <p:cNvSpPr/>
          <p:nvPr/>
        </p:nvSpPr>
        <p:spPr>
          <a:xfrm>
            <a:off x="8143920" y="50004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781200" y="2419200"/>
            <a:ext cx="517320" cy="58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4065480" y="4492800"/>
            <a:ext cx="635040" cy="371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4"/>
          <a:stretch/>
        </p:blipFill>
        <p:spPr>
          <a:xfrm>
            <a:off x="1352520" y="5778360"/>
            <a:ext cx="652320" cy="555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4091040" y="4498920"/>
            <a:ext cx="633240" cy="371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6"/>
          <a:stretch/>
        </p:blipFill>
        <p:spPr>
          <a:xfrm>
            <a:off x="798480" y="242568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415" name="Управляющая кнопка: сведения 47"/>
          <p:cNvSpPr/>
          <p:nvPr/>
        </p:nvSpPr>
        <p:spPr>
          <a:xfrm>
            <a:off x="8143920" y="1357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8" descr=""/>
          <p:cNvPicPr/>
          <p:nvPr/>
        </p:nvPicPr>
        <p:blipFill>
          <a:blip r:embed="rId7"/>
          <a:stretch/>
        </p:blipFill>
        <p:spPr>
          <a:xfrm>
            <a:off x="3139920" y="5778360"/>
            <a:ext cx="389160" cy="513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9" descr=""/>
          <p:cNvPicPr/>
          <p:nvPr/>
        </p:nvPicPr>
        <p:blipFill>
          <a:blip r:embed="rId8"/>
          <a:stretch/>
        </p:blipFill>
        <p:spPr>
          <a:xfrm>
            <a:off x="566640" y="5492880"/>
            <a:ext cx="725760" cy="88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8"/>
          <p:cNvSpPr/>
          <p:nvPr/>
        </p:nvSpPr>
        <p:spPr>
          <a:xfrm>
            <a:off x="1714680" y="2214720"/>
            <a:ext cx="5286240" cy="82548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ощадь прямоугольн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произведение двух его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H="1" flipV="1">
            <a:off x="1428840" y="4357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6"/>
          <p:cNvSpPr/>
          <p:nvPr/>
        </p:nvSpPr>
        <p:spPr>
          <a:xfrm flipV="1">
            <a:off x="1426320" y="9284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Штриховая стрелка вправо 18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1"/>
          <p:cNvSpPr/>
          <p:nvPr/>
        </p:nvSpPr>
        <p:spPr>
          <a:xfrm>
            <a:off x="1714680" y="1785960"/>
            <a:ext cx="5286240" cy="1571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ЛОЩАДЬ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0.20764 0.19583 E">
                                      <p:cBhvr>
                                        <p:cTn id="17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0.34705 0.48218 E">
                                      <p:cBhvr>
                                        <p:cTn id="19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4"/>
          <p:cNvSpPr/>
          <p:nvPr/>
        </p:nvSpPr>
        <p:spPr>
          <a:xfrm flipH="1" flipV="1">
            <a:off x="1428840" y="4357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6"/>
          <p:cNvSpPr/>
          <p:nvPr/>
        </p:nvSpPr>
        <p:spPr>
          <a:xfrm flipV="1">
            <a:off x="1426320" y="9284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7"/>
          <p:cNvSpPr/>
          <p:nvPr/>
        </p:nvSpPr>
        <p:spPr>
          <a:xfrm>
            <a:off x="7286760" y="928800"/>
            <a:ext cx="1440" cy="342900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8"/>
          <p:cNvSpPr/>
          <p:nvPr/>
        </p:nvSpPr>
        <p:spPr>
          <a:xfrm flipH="1" flipV="1">
            <a:off x="1428840" y="928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домой 20">
            <a:hlinkClick r:id="" action="ppaction://hlinkshowjump?jump=endshow"/>
          </p:cNvPr>
          <p:cNvSpPr/>
          <p:nvPr/>
        </p:nvSpPr>
        <p:spPr>
          <a:xfrm>
            <a:off x="8143920" y="50004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"/>
          <p:cNvPicPr/>
          <p:nvPr/>
        </p:nvPicPr>
        <p:blipFill>
          <a:blip r:embed="rId1"/>
          <a:stretch/>
        </p:blipFill>
        <p:spPr>
          <a:xfrm>
            <a:off x="3925800" y="353880"/>
            <a:ext cx="633600" cy="365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781200" y="2419200"/>
            <a:ext cx="517320" cy="586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3"/>
          <a:stretch/>
        </p:blipFill>
        <p:spPr>
          <a:xfrm>
            <a:off x="4065480" y="4492800"/>
            <a:ext cx="635040" cy="371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4"/>
          <a:stretch/>
        </p:blipFill>
        <p:spPr>
          <a:xfrm>
            <a:off x="7424640" y="2639880"/>
            <a:ext cx="519120" cy="5796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5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"/>
          <p:cNvPicPr/>
          <p:nvPr/>
        </p:nvPicPr>
        <p:blipFill>
          <a:blip r:embed="rId6"/>
          <a:stretch/>
        </p:blipFill>
        <p:spPr>
          <a:xfrm>
            <a:off x="633240" y="5492880"/>
            <a:ext cx="659160" cy="931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"/>
          <p:cNvPicPr/>
          <p:nvPr/>
        </p:nvPicPr>
        <p:blipFill>
          <a:blip r:embed="rId7"/>
          <a:stretch/>
        </p:blipFill>
        <p:spPr>
          <a:xfrm>
            <a:off x="1352520" y="5778360"/>
            <a:ext cx="652320" cy="555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8"/>
          <a:stretch/>
        </p:blipFill>
        <p:spPr>
          <a:xfrm>
            <a:off x="3139920" y="5778360"/>
            <a:ext cx="536760" cy="513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"/>
          <p:cNvPicPr/>
          <p:nvPr/>
        </p:nvPicPr>
        <p:blipFill>
          <a:blip r:embed="rId9"/>
          <a:stretch/>
        </p:blipFill>
        <p:spPr>
          <a:xfrm>
            <a:off x="4780080" y="5778360"/>
            <a:ext cx="541080" cy="51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"/>
          <p:cNvPicPr/>
          <p:nvPr/>
        </p:nvPicPr>
        <p:blipFill>
          <a:blip r:embed="rId10"/>
          <a:stretch/>
        </p:blipFill>
        <p:spPr>
          <a:xfrm>
            <a:off x="6351480" y="5778360"/>
            <a:ext cx="542880" cy="51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11"/>
          <a:stretch/>
        </p:blipFill>
        <p:spPr>
          <a:xfrm>
            <a:off x="3943440" y="353880"/>
            <a:ext cx="635040" cy="371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12"/>
          <a:stretch/>
        </p:blipFill>
        <p:spPr>
          <a:xfrm>
            <a:off x="4091040" y="4498920"/>
            <a:ext cx="633240" cy="371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"/>
          <p:cNvPicPr/>
          <p:nvPr/>
        </p:nvPicPr>
        <p:blipFill>
          <a:blip r:embed="rId13"/>
          <a:stretch/>
        </p:blipFill>
        <p:spPr>
          <a:xfrm>
            <a:off x="7443720" y="2639880"/>
            <a:ext cx="517680" cy="584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14"/>
          <a:stretch/>
        </p:blipFill>
        <p:spPr>
          <a:xfrm>
            <a:off x="798480" y="242568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445" name="Управляющая кнопка: сведения 47"/>
          <p:cNvSpPr/>
          <p:nvPr/>
        </p:nvSpPr>
        <p:spPr>
          <a:xfrm>
            <a:off x="8143920" y="1357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8"/>
          <p:cNvSpPr/>
          <p:nvPr/>
        </p:nvSpPr>
        <p:spPr>
          <a:xfrm>
            <a:off x="1714680" y="2214720"/>
            <a:ext cx="5286240" cy="82548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иметр прямоугольн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сумма длин всех его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9"/>
          <p:cNvSpPr/>
          <p:nvPr/>
        </p:nvSpPr>
        <p:spPr>
          <a:xfrm>
            <a:off x="500040" y="5286240"/>
            <a:ext cx="7429680" cy="1285920"/>
          </a:xfrm>
          <a:prstGeom prst="rect">
            <a:avLst/>
          </a:prstGeom>
          <a:solidFill>
            <a:srgbClr val="dac19b">
              <a:alpha val="34000"/>
            </a:srgbClr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Штриховая стрелка вправо 27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1714680" y="1785960"/>
            <a:ext cx="5286240" cy="1571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ЕРИМЕТР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0.20764 0.19583 E">
                                      <p:cBhvr>
                                        <p:cTn id="23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0.34705 0.48218 E">
                                      <p:cBhvr>
                                        <p:cTn id="25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17795 0.8 E">
                                      <p:cBhvr>
                                        <p:cTn id="268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2517 0.45093 E">
                                      <p:cBhvr>
                                        <p:cTn id="28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451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571680" y="1071720"/>
            <a:ext cx="4214520" cy="29289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и, используя известные фор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7"/>
          <p:cNvSpPr/>
          <p:nvPr/>
        </p:nvSpPr>
        <p:spPr>
          <a:xfrm>
            <a:off x="1428840" y="22860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H="1" flipV="1">
            <a:off x="1428840" y="57150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6"/>
          <p:cNvSpPr/>
          <p:nvPr/>
        </p:nvSpPr>
        <p:spPr>
          <a:xfrm flipV="1">
            <a:off x="1426320" y="22856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Управляющая кнопка: далее 19"/>
          <p:cNvSpPr/>
          <p:nvPr/>
        </p:nvSpPr>
        <p:spPr>
          <a:xfrm>
            <a:off x="800100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1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"/>
          <p:cNvSpPr/>
          <p:nvPr/>
        </p:nvSpPr>
        <p:spPr>
          <a:xfrm>
            <a:off x="642960" y="647280"/>
            <a:ext cx="7715160" cy="11912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а волейбольной площадки 18 м, а ее ширина - 9 м. Чему равна площадь волейбольной площадк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8"/>
          <p:cNvSpPr/>
          <p:nvPr/>
        </p:nvSpPr>
        <p:spPr>
          <a:xfrm>
            <a:off x="3786120" y="58579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5000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Рисунок 30" descr="волейбол.gif"/>
          <p:cNvPicPr/>
          <p:nvPr/>
        </p:nvPicPr>
        <p:blipFill>
          <a:blip r:embed="rId2"/>
          <a:stretch/>
        </p:blipFill>
        <p:spPr>
          <a:xfrm>
            <a:off x="7407360" y="1785960"/>
            <a:ext cx="1373040" cy="1428840"/>
          </a:xfrm>
          <a:prstGeom prst="rect">
            <a:avLst/>
          </a:prstGeom>
          <a:ln w="0">
            <a:noFill/>
          </a:ln>
        </p:spPr>
      </p:pic>
      <p:sp>
        <p:nvSpPr>
          <p:cNvPr id="462" name="TextBox 10"/>
          <p:cNvSpPr/>
          <p:nvPr/>
        </p:nvSpPr>
        <p:spPr>
          <a:xfrm>
            <a:off x="1500120" y="2341440"/>
            <a:ext cx="5715000" cy="32637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a *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* 9 = 162 (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площадь волейбольной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162 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Управляющая кнопка: сведения 11"/>
          <p:cNvSpPr/>
          <p:nvPr/>
        </p:nvSpPr>
        <p:spPr>
          <a:xfrm>
            <a:off x="721512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Штриховая стрелка вправо 12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7"/>
          <p:cNvSpPr/>
          <p:nvPr/>
        </p:nvSpPr>
        <p:spPr>
          <a:xfrm>
            <a:off x="1500120" y="2857680"/>
            <a:ext cx="5857920" cy="285732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14"/>
          <p:cNvSpPr/>
          <p:nvPr/>
        </p:nvSpPr>
        <p:spPr>
          <a:xfrm flipH="1" flipV="1">
            <a:off x="1500120" y="57150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16"/>
          <p:cNvSpPr/>
          <p:nvPr/>
        </p:nvSpPr>
        <p:spPr>
          <a:xfrm flipV="1">
            <a:off x="1498680" y="2857320"/>
            <a:ext cx="1440" cy="285876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17"/>
          <p:cNvSpPr/>
          <p:nvPr/>
        </p:nvSpPr>
        <p:spPr>
          <a:xfrm>
            <a:off x="7358040" y="2857680"/>
            <a:ext cx="1440" cy="285732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8"/>
          <p:cNvSpPr/>
          <p:nvPr/>
        </p:nvSpPr>
        <p:spPr>
          <a:xfrm flipH="1" flipV="1">
            <a:off x="1571400" y="2857680"/>
            <a:ext cx="578628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1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"/>
          <p:cNvSpPr/>
          <p:nvPr/>
        </p:nvSpPr>
        <p:spPr>
          <a:xfrm>
            <a:off x="428760" y="436320"/>
            <a:ext cx="8286480" cy="1922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рк окружен прямоугольной оградой со сторонами 760 м и 530 м. Каждое утро спортсмен пробегает по тропинке вокруг п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расстояние пробегает по утрам спортсм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9"/>
          <p:cNvSpPr/>
          <p:nvPr/>
        </p:nvSpPr>
        <p:spPr>
          <a:xfrm>
            <a:off x="3786120" y="5857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0"/>
          <p:cNvSpPr/>
          <p:nvPr/>
        </p:nvSpPr>
        <p:spPr>
          <a:xfrm>
            <a:off x="357120" y="3786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50" descr="бег.gif"/>
          <p:cNvPicPr/>
          <p:nvPr/>
        </p:nvPicPr>
        <p:blipFill>
          <a:blip r:embed="rId2"/>
          <a:stretch/>
        </p:blipFill>
        <p:spPr>
          <a:xfrm>
            <a:off x="7500960" y="2357280"/>
            <a:ext cx="1270080" cy="143352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2"/>
          <p:cNvSpPr/>
          <p:nvPr/>
        </p:nvSpPr>
        <p:spPr>
          <a:xfrm>
            <a:off x="1500120" y="2928960"/>
            <a:ext cx="5857920" cy="27151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= 2*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* (530 + 75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560 (м) – расстояние, которое пробегает 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 2560 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Управляющая кнопка: сведения 13"/>
          <p:cNvSpPr/>
          <p:nvPr/>
        </p:nvSpPr>
        <p:spPr>
          <a:xfrm>
            <a:off x="721512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Штриховая стрелка вправо 1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642960" y="837720"/>
            <a:ext cx="7715160" cy="2288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 время путешествия первую часть пути турист шел со скоростью 6 км/ч в течение 4 часов. Следующие 10 км он двигался со скоростью 5 км/ч. Какое расстояние преодолел турист? Сколько времени он был в пу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4" descr="турист.gif"/>
          <p:cNvPicPr/>
          <p:nvPr/>
        </p:nvPicPr>
        <p:blipFill>
          <a:blip r:embed="rId1"/>
          <a:stretch/>
        </p:blipFill>
        <p:spPr>
          <a:xfrm>
            <a:off x="6519960" y="2928960"/>
            <a:ext cx="2332080" cy="2857320"/>
          </a:xfrm>
          <a:prstGeom prst="rect">
            <a:avLst/>
          </a:prstGeom>
          <a:ln w="0">
            <a:noFill/>
          </a:ln>
        </p:spPr>
      </p:pic>
      <p:sp>
        <p:nvSpPr>
          <p:cNvPr id="481" name="TextBox 3"/>
          <p:cNvSpPr/>
          <p:nvPr/>
        </p:nvSpPr>
        <p:spPr>
          <a:xfrm>
            <a:off x="714240" y="3571920"/>
            <a:ext cx="5786640" cy="27151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V *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*4= 24 (км) – пройдено за 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+ 10 = 34 (км) – весь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: 5 = 2 (ч) – время, за которое пройдено 1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+ 2 = 6 (ч) – время в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весь путь – 34 км, время в пути – 6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Управляющая кнопка: сведения 4"/>
          <p:cNvSpPr/>
          <p:nvPr/>
        </p:nvSpPr>
        <p:spPr>
          <a:xfrm>
            <a:off x="800100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Штриховая стрелка вправо 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ОДВЕД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2"/>
          <p:cNvSpPr/>
          <p:nvPr/>
        </p:nvSpPr>
        <p:spPr>
          <a:xfrm>
            <a:off x="714240" y="57168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тояние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714240" y="178596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8"/>
          <p:cNvSpPr/>
          <p:nvPr/>
        </p:nvSpPr>
        <p:spPr>
          <a:xfrm>
            <a:off x="714240" y="407196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0"/>
          <p:cNvSpPr/>
          <p:nvPr/>
        </p:nvSpPr>
        <p:spPr>
          <a:xfrm>
            <a:off x="714240" y="528624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метр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1"/>
          <p:cNvSpPr/>
          <p:nvPr/>
        </p:nvSpPr>
        <p:spPr>
          <a:xfrm>
            <a:off x="714240" y="3071880"/>
            <a:ext cx="3143520" cy="70344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2"/>
          <p:cNvSpPr/>
          <p:nvPr/>
        </p:nvSpPr>
        <p:spPr>
          <a:xfrm>
            <a:off x="5357880" y="5357880"/>
            <a:ext cx="3143160" cy="10083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t * V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S :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4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S :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2*(a +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357880" y="5357880"/>
            <a:ext cx="3143160" cy="10083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 * b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Двойная стрелка влево/вправо 17"/>
          <p:cNvSpPr/>
          <p:nvPr/>
        </p:nvSpPr>
        <p:spPr>
          <a:xfrm>
            <a:off x="4143240" y="92880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Двойная стрелка влево/вправо 18"/>
          <p:cNvSpPr/>
          <p:nvPr/>
        </p:nvSpPr>
        <p:spPr>
          <a:xfrm>
            <a:off x="4143240" y="2214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Двойная стрелка влево/вправо 19"/>
          <p:cNvSpPr/>
          <p:nvPr/>
        </p:nvSpPr>
        <p:spPr>
          <a:xfrm>
            <a:off x="4143240" y="3357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Двойная стрелка влево/вправо 20"/>
          <p:cNvSpPr/>
          <p:nvPr/>
        </p:nvSpPr>
        <p:spPr>
          <a:xfrm>
            <a:off x="4143240" y="4500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Двойная стрелка влево/вправо 21"/>
          <p:cNvSpPr/>
          <p:nvPr/>
        </p:nvSpPr>
        <p:spPr>
          <a:xfrm>
            <a:off x="4214880" y="571500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Штриховая стрелка вправо 22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3996E-006 L 0.00226 -0.71161 E">
                                      <p:cBhvr>
                                        <p:cTn id="397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3987E-006 L 0.00157 -0.3742 E">
                                      <p:cBhvr>
                                        <p:cTn id="408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3784E-006 L 0.00017 -0.17854 E">
                                      <p:cBhvr>
                                        <p:cTn id="419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93987E-006 L 0.00104 -0.54186 E">
                                      <p:cBhvr>
                                        <p:cTn id="43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1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орвал с прохожего шляпу и покатил ее по тротуару со скоростью 3 м/с. Прохожий побежал за ней.  В тот момент расстояние до щляпы было 8 м, а скорость прохожего 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колько секун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гонит шляп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4"/>
          <p:cNvSpPr/>
          <p:nvPr/>
        </p:nvSpPr>
        <p:spPr>
          <a:xfrm>
            <a:off x="500040" y="1357200"/>
            <a:ext cx="5786640" cy="3857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ДОМАШ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правляющая кнопка: домой 4">
            <a:hlinkClick r:id="" action="ppaction://hlinkshowjump?jump=endshow"/>
          </p:cNvPr>
          <p:cNvSpPr/>
          <p:nvPr/>
        </p:nvSpPr>
        <p:spPr>
          <a:xfrm>
            <a:off x="8072280" y="42876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Группа 31"/>
          <p:cNvGrpSpPr/>
          <p:nvPr/>
        </p:nvGrpSpPr>
        <p:grpSpPr>
          <a:xfrm>
            <a:off x="-1097280" y="3357720"/>
            <a:ext cx="10766520" cy="2738520"/>
            <a:chOff x="-1097280" y="3357720"/>
            <a:chExt cx="10766520" cy="2738520"/>
          </a:xfrm>
        </p:grpSpPr>
        <p:grpSp>
          <p:nvGrpSpPr>
            <p:cNvPr id="234" name="Прямоугольник 27"/>
            <p:cNvGrpSpPr/>
            <p:nvPr/>
          </p:nvGrpSpPr>
          <p:grpSpPr>
            <a:xfrm>
              <a:off x="-564840" y="3371040"/>
              <a:ext cx="1051200" cy="1289520"/>
              <a:chOff x="-564840" y="3371040"/>
              <a:chExt cx="1051200" cy="1289520"/>
            </a:xfrm>
          </p:grpSpPr>
          <p:pic>
            <p:nvPicPr>
              <p:cNvPr id="235" name="Прямоугольник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-564840" y="33710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7524000">
                <a:off x="-691200" y="390564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Прямоугольник 28"/>
            <p:cNvGrpSpPr/>
            <p:nvPr/>
          </p:nvGrpSpPr>
          <p:grpSpPr>
            <a:xfrm>
              <a:off x="252720" y="3490200"/>
              <a:ext cx="1045080" cy="1277640"/>
              <a:chOff x="252720" y="3490200"/>
              <a:chExt cx="1045080" cy="1277640"/>
            </a:xfrm>
          </p:grpSpPr>
          <p:pic>
            <p:nvPicPr>
              <p:cNvPr id="238" name="Прямоугольник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720" y="349020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 rot="7524000">
                <a:off x="124920" y="40186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Прямоугольник 29"/>
            <p:cNvGrpSpPr/>
            <p:nvPr/>
          </p:nvGrpSpPr>
          <p:grpSpPr>
            <a:xfrm>
              <a:off x="1064160" y="3597480"/>
              <a:ext cx="1051200" cy="1289520"/>
              <a:chOff x="1064160" y="3597480"/>
              <a:chExt cx="1051200" cy="1289520"/>
            </a:xfrm>
          </p:grpSpPr>
          <p:pic>
            <p:nvPicPr>
              <p:cNvPr id="241" name="Прямоугольник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4160" y="359748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 rot="7524000">
                <a:off x="937080" y="41320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Прямоугольник 30"/>
            <p:cNvGrpSpPr/>
            <p:nvPr/>
          </p:nvGrpSpPr>
          <p:grpSpPr>
            <a:xfrm>
              <a:off x="1882080" y="3717360"/>
              <a:ext cx="1045080" cy="1277640"/>
              <a:chOff x="1882080" y="3717360"/>
              <a:chExt cx="1045080" cy="1277640"/>
            </a:xfrm>
          </p:grpSpPr>
          <p:pic>
            <p:nvPicPr>
              <p:cNvPr id="244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2080" y="371736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 rot="7524000">
                <a:off x="1754280" y="42454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Прямоугольник 22"/>
            <p:cNvGrpSpPr/>
            <p:nvPr/>
          </p:nvGrpSpPr>
          <p:grpSpPr>
            <a:xfrm>
              <a:off x="2693880" y="3890160"/>
              <a:ext cx="1051200" cy="1277640"/>
              <a:chOff x="2693880" y="3890160"/>
              <a:chExt cx="1051200" cy="1277640"/>
            </a:xfrm>
          </p:grpSpPr>
          <p:pic>
            <p:nvPicPr>
              <p:cNvPr id="247" name="Прямоугольник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3880" y="38901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 rot="7524000">
                <a:off x="2568960" y="441684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Прямоугольник 23"/>
            <p:cNvGrpSpPr/>
            <p:nvPr/>
          </p:nvGrpSpPr>
          <p:grpSpPr>
            <a:xfrm>
              <a:off x="3505320" y="3997800"/>
              <a:ext cx="1051200" cy="1289520"/>
              <a:chOff x="3505320" y="3997800"/>
              <a:chExt cx="1051200" cy="1289520"/>
            </a:xfrm>
          </p:grpSpPr>
          <p:pic>
            <p:nvPicPr>
              <p:cNvPr id="250" name="Прямоугольник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5320" y="399780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7524000">
                <a:off x="3381120" y="453060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Прямоугольник 24"/>
            <p:cNvGrpSpPr/>
            <p:nvPr/>
          </p:nvGrpSpPr>
          <p:grpSpPr>
            <a:xfrm>
              <a:off x="4323240" y="4170600"/>
              <a:ext cx="1051200" cy="1277640"/>
              <a:chOff x="4323240" y="4170600"/>
              <a:chExt cx="1051200" cy="1277640"/>
            </a:xfrm>
          </p:grpSpPr>
          <p:pic>
            <p:nvPicPr>
              <p:cNvPr id="253" name="Прямоугольник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4323240" y="417060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7524000">
                <a:off x="4198320" y="46987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Прямоугольник 25"/>
            <p:cNvGrpSpPr/>
            <p:nvPr/>
          </p:nvGrpSpPr>
          <p:grpSpPr>
            <a:xfrm>
              <a:off x="5048640" y="4278240"/>
              <a:ext cx="1051200" cy="1289520"/>
              <a:chOff x="5048640" y="4278240"/>
              <a:chExt cx="1051200" cy="1289520"/>
            </a:xfrm>
          </p:grpSpPr>
          <p:pic>
            <p:nvPicPr>
              <p:cNvPr id="256" name="Прямоугольник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048640" y="42782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 rot="7524000">
                <a:off x="4919760" y="48124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Прямоугольник 20"/>
            <p:cNvGrpSpPr/>
            <p:nvPr/>
          </p:nvGrpSpPr>
          <p:grpSpPr>
            <a:xfrm>
              <a:off x="5860440" y="4397760"/>
              <a:ext cx="1051200" cy="1277640"/>
              <a:chOff x="5860440" y="4397760"/>
              <a:chExt cx="1051200" cy="1277640"/>
            </a:xfrm>
          </p:grpSpPr>
          <p:pic>
            <p:nvPicPr>
              <p:cNvPr id="259" name="Прямоугольник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0440" y="43977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7524000">
                <a:off x="5736960" y="49255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рямоугольник 21"/>
            <p:cNvGrpSpPr/>
            <p:nvPr/>
          </p:nvGrpSpPr>
          <p:grpSpPr>
            <a:xfrm>
              <a:off x="6727320" y="4551840"/>
              <a:ext cx="1051200" cy="1277640"/>
              <a:chOff x="6727320" y="4551840"/>
              <a:chExt cx="1051200" cy="1277640"/>
            </a:xfrm>
          </p:grpSpPr>
          <p:pic>
            <p:nvPicPr>
              <p:cNvPr id="262" name="Прямоугольник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7320" y="455184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7524000">
                <a:off x="6604200" y="50788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Прямоугольник 19"/>
            <p:cNvGrpSpPr/>
            <p:nvPr/>
          </p:nvGrpSpPr>
          <p:grpSpPr>
            <a:xfrm>
              <a:off x="7551360" y="4699080"/>
              <a:ext cx="1051200" cy="1277640"/>
              <a:chOff x="7551360" y="4699080"/>
              <a:chExt cx="1051200" cy="1277640"/>
            </a:xfrm>
          </p:grpSpPr>
          <p:pic>
            <p:nvPicPr>
              <p:cNvPr id="265" name="Прямоугольник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1360" y="469908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 rot="7524000">
                <a:off x="7428240" y="522576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Прямоугольник 18"/>
            <p:cNvGrpSpPr/>
            <p:nvPr/>
          </p:nvGrpSpPr>
          <p:grpSpPr>
            <a:xfrm>
              <a:off x="8461440" y="4806720"/>
              <a:ext cx="1045080" cy="1289520"/>
              <a:chOff x="8461440" y="4806720"/>
              <a:chExt cx="1045080" cy="1289520"/>
            </a:xfrm>
          </p:grpSpPr>
          <p:pic>
            <p:nvPicPr>
              <p:cNvPr id="268" name="Прямоугольник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461440" y="4806720"/>
                <a:ext cx="104508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7524000">
                <a:off x="8331120" y="533952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Прямоугольник 17"/>
            <p:cNvGrpSpPr/>
            <p:nvPr/>
          </p:nvGrpSpPr>
          <p:grpSpPr>
            <a:xfrm>
              <a:off x="-651960" y="3357720"/>
              <a:ext cx="10321200" cy="2212200"/>
              <a:chOff x="-651960" y="3357720"/>
              <a:chExt cx="10321200" cy="2212200"/>
            </a:xfrm>
          </p:grpSpPr>
          <p:pic>
            <p:nvPicPr>
              <p:cNvPr id="271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51960" y="3357720"/>
                <a:ext cx="1032120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rot="666600">
                <a:off x="-694080" y="4410720"/>
                <a:ext cx="1041012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Прямоугольник 16"/>
            <p:cNvGrpSpPr/>
            <p:nvPr/>
          </p:nvGrpSpPr>
          <p:grpSpPr>
            <a:xfrm>
              <a:off x="-1097280" y="3810960"/>
              <a:ext cx="10308960" cy="2212200"/>
              <a:chOff x="-1097280" y="3810960"/>
              <a:chExt cx="10308960" cy="2212200"/>
            </a:xfrm>
          </p:grpSpPr>
          <p:pic>
            <p:nvPicPr>
              <p:cNvPr id="274" name="Прямоугольник 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-1097280" y="3810960"/>
                <a:ext cx="1030896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 rot="666600">
                <a:off x="-1143000" y="4863600"/>
                <a:ext cx="1040400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6" name="Picture 6" descr="C:\Users\Mama\AppData\Local\Microsoft\Windows\Temporary Internet Files\Content.IE5\IR0II7RP\MCj03985290000[1].wmf"/>
          <p:cNvPicPr/>
          <p:nvPr/>
        </p:nvPicPr>
        <p:blipFill>
          <a:blip r:embed="rId15"/>
          <a:stretch/>
        </p:blipFill>
        <p:spPr>
          <a:xfrm flipH="1">
            <a:off x="-142920" y="2571840"/>
            <a:ext cx="2928960" cy="1869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2"/>
          <p:cNvSpPr/>
          <p:nvPr/>
        </p:nvSpPr>
        <p:spPr>
          <a:xfrm>
            <a:off x="285840" y="5000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йденный пу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3429000" y="428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1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4"/>
          <p:cNvSpPr/>
          <p:nvPr/>
        </p:nvSpPr>
        <p:spPr>
          <a:xfrm>
            <a:off x="285840" y="1785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Arial"/>
              </a:rPr>
              <a:t>Скорость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5"/>
          <p:cNvSpPr/>
          <p:nvPr/>
        </p:nvSpPr>
        <p:spPr>
          <a:xfrm>
            <a:off x="3286080" y="10000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правляющая кнопка: далее 36"/>
          <p:cNvSpPr/>
          <p:nvPr/>
        </p:nvSpPr>
        <p:spPr>
          <a:xfrm>
            <a:off x="928800" y="6143760"/>
            <a:ext cx="428400" cy="28548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назад 37"/>
          <p:cNvSpPr/>
          <p:nvPr/>
        </p:nvSpPr>
        <p:spPr>
          <a:xfrm>
            <a:off x="35712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285840" y="114300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движен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34" descr="фломастре1.gif"/>
          <p:cNvPicPr/>
          <p:nvPr/>
        </p:nvPicPr>
        <p:blipFill>
          <a:blip r:embed="rId16"/>
          <a:stretch/>
        </p:blipFill>
        <p:spPr>
          <a:xfrm>
            <a:off x="8358120" y="1857240"/>
            <a:ext cx="566640" cy="525600"/>
          </a:xfrm>
          <a:prstGeom prst="rect">
            <a:avLst/>
          </a:prstGeom>
          <a:ln w="0">
            <a:noFill/>
          </a:ln>
        </p:spPr>
      </p:pic>
      <p:sp>
        <p:nvSpPr>
          <p:cNvPr id="285" name="Правая фигурная скобка 35"/>
          <p:cNvSpPr/>
          <p:nvPr/>
        </p:nvSpPr>
        <p:spPr>
          <a:xfrm rot="5981400">
            <a:off x="4215240" y="1389600"/>
            <a:ext cx="357120" cy="842004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420040"/>
              <a:gd name="textAreaBottom" fmla="*/ 8411040 h 842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"/>
                  <a:pt x="10800" y="76"/>
                </a:cubicBezTo>
                <a:lnTo>
                  <a:pt x="10800" y="10724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8"/>
                  <a:pt x="10800" y="10876"/>
                </a:cubicBezTo>
                <a:lnTo>
                  <a:pt x="10800" y="21524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3643200" y="5857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Штриховая стрелка вправо 31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0.604 0.14629 E">
                                      <p:cBhvr>
                                        <p:cTn id="6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4 0.14629 L 0.00556 -0.0007 E">
                                      <p:cBhvr>
                                        <p:cTn id="2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428760" y="1143000"/>
            <a:ext cx="5929200" cy="3429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орвал с прохожего шляпу и покатил ее по тротуару. Прохожий побежал за 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колько секун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гонит шляп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28760" y="1143000"/>
            <a:ext cx="5929200" cy="3429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НАЧНЕМ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428760" y="428760"/>
            <a:ext cx="5786280" cy="928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рите ли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TextBox 2"/>
          <p:cNvGrpSpPr/>
          <p:nvPr/>
        </p:nvGrpSpPr>
        <p:grpSpPr>
          <a:xfrm>
            <a:off x="414360" y="2200320"/>
            <a:ext cx="1811160" cy="665280"/>
            <a:chOff x="414360" y="2200320"/>
            <a:chExt cx="1811160" cy="665280"/>
          </a:xfrm>
        </p:grpSpPr>
        <p:pic>
          <p:nvPicPr>
            <p:cNvPr id="294" name="TextBox 2" descr=""/>
            <p:cNvPicPr/>
            <p:nvPr/>
          </p:nvPicPr>
          <p:blipFill>
            <a:blip r:embed="rId1"/>
            <a:stretch/>
          </p:blipFill>
          <p:spPr>
            <a:xfrm>
              <a:off x="414360" y="2200320"/>
              <a:ext cx="18111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4"/>
            <p:cNvSpPr/>
            <p:nvPr/>
          </p:nvSpPr>
          <p:spPr>
            <a:xfrm>
              <a:off x="50004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TextBox 3"/>
          <p:cNvGrpSpPr/>
          <p:nvPr/>
        </p:nvGrpSpPr>
        <p:grpSpPr>
          <a:xfrm>
            <a:off x="2414520" y="2200320"/>
            <a:ext cx="1809720" cy="665280"/>
            <a:chOff x="2414520" y="2200320"/>
            <a:chExt cx="1809720" cy="665280"/>
          </a:xfrm>
        </p:grpSpPr>
        <p:pic>
          <p:nvPicPr>
            <p:cNvPr id="297" name="TextBox 3" descr=""/>
            <p:cNvPicPr/>
            <p:nvPr/>
          </p:nvPicPr>
          <p:blipFill>
            <a:blip r:embed="rId2"/>
            <a:stretch/>
          </p:blipFill>
          <p:spPr>
            <a:xfrm>
              <a:off x="2414520" y="2200320"/>
              <a:ext cx="1809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7"/>
            <p:cNvSpPr/>
            <p:nvPr/>
          </p:nvSpPr>
          <p:spPr>
            <a:xfrm>
              <a:off x="250020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 *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TextBox 4"/>
          <p:cNvGrpSpPr/>
          <p:nvPr/>
        </p:nvGrpSpPr>
        <p:grpSpPr>
          <a:xfrm>
            <a:off x="4413240" y="2200320"/>
            <a:ext cx="1811520" cy="665280"/>
            <a:chOff x="4413240" y="2200320"/>
            <a:chExt cx="1811520" cy="665280"/>
          </a:xfrm>
        </p:grpSpPr>
        <p:pic>
          <p:nvPicPr>
            <p:cNvPr id="300" name="TextBox 4" descr=""/>
            <p:cNvPicPr/>
            <p:nvPr/>
          </p:nvPicPr>
          <p:blipFill>
            <a:blip r:embed="rId3"/>
            <a:stretch/>
          </p:blipFill>
          <p:spPr>
            <a:xfrm>
              <a:off x="4413240" y="2200320"/>
              <a:ext cx="1811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0"/>
            <p:cNvSpPr/>
            <p:nvPr/>
          </p:nvSpPr>
          <p:spPr>
            <a:xfrm>
              <a:off x="450072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 +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TextBox 5"/>
          <p:cNvGrpSpPr/>
          <p:nvPr/>
        </p:nvGrpSpPr>
        <p:grpSpPr>
          <a:xfrm>
            <a:off x="6413400" y="2200320"/>
            <a:ext cx="1809720" cy="665280"/>
            <a:chOff x="6413400" y="2200320"/>
            <a:chExt cx="1809720" cy="665280"/>
          </a:xfrm>
        </p:grpSpPr>
        <p:pic>
          <p:nvPicPr>
            <p:cNvPr id="303" name="TextBox 5" descr=""/>
            <p:cNvPicPr/>
            <p:nvPr/>
          </p:nvPicPr>
          <p:blipFill>
            <a:blip r:embed="rId4"/>
            <a:stretch/>
          </p:blipFill>
          <p:spPr>
            <a:xfrm>
              <a:off x="6413400" y="2200320"/>
              <a:ext cx="1809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3"/>
            <p:cNvSpPr/>
            <p:nvPr/>
          </p:nvSpPr>
          <p:spPr>
            <a:xfrm>
              <a:off x="650088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x + 3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Box 6"/>
          <p:cNvGrpSpPr/>
          <p:nvPr/>
        </p:nvGrpSpPr>
        <p:grpSpPr>
          <a:xfrm>
            <a:off x="2414520" y="2914560"/>
            <a:ext cx="1809720" cy="663840"/>
            <a:chOff x="2414520" y="2914560"/>
            <a:chExt cx="1809720" cy="663840"/>
          </a:xfrm>
        </p:grpSpPr>
        <p:pic>
          <p:nvPicPr>
            <p:cNvPr id="306" name="TextBox 6" descr=""/>
            <p:cNvPicPr/>
            <p:nvPr/>
          </p:nvPicPr>
          <p:blipFill>
            <a:blip r:embed="rId5"/>
            <a:stretch/>
          </p:blipFill>
          <p:spPr>
            <a:xfrm>
              <a:off x="2414520" y="2914560"/>
              <a:ext cx="180972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6"/>
            <p:cNvSpPr/>
            <p:nvPr/>
          </p:nvSpPr>
          <p:spPr>
            <a:xfrm>
              <a:off x="250020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*(a +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TextBox 7"/>
          <p:cNvGrpSpPr/>
          <p:nvPr/>
        </p:nvGrpSpPr>
        <p:grpSpPr>
          <a:xfrm>
            <a:off x="4462560" y="2914560"/>
            <a:ext cx="1852560" cy="663840"/>
            <a:chOff x="4462560" y="2914560"/>
            <a:chExt cx="1852560" cy="663840"/>
          </a:xfrm>
        </p:grpSpPr>
        <p:pic>
          <p:nvPicPr>
            <p:cNvPr id="309" name="TextBox 7" descr=""/>
            <p:cNvPicPr/>
            <p:nvPr/>
          </p:nvPicPr>
          <p:blipFill>
            <a:blip r:embed="rId6"/>
            <a:stretch/>
          </p:blipFill>
          <p:spPr>
            <a:xfrm>
              <a:off x="4462560" y="2914560"/>
              <a:ext cx="185256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9"/>
            <p:cNvSpPr/>
            <p:nvPr/>
          </p:nvSpPr>
          <p:spPr>
            <a:xfrm>
              <a:off x="457200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x + y) :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TextBox 8"/>
          <p:cNvGrpSpPr/>
          <p:nvPr/>
        </p:nvGrpSpPr>
        <p:grpSpPr>
          <a:xfrm>
            <a:off x="407880" y="2914560"/>
            <a:ext cx="1817640" cy="663840"/>
            <a:chOff x="407880" y="2914560"/>
            <a:chExt cx="1817640" cy="663840"/>
          </a:xfrm>
        </p:grpSpPr>
        <p:pic>
          <p:nvPicPr>
            <p:cNvPr id="312" name="TextBox 8" descr=""/>
            <p:cNvPicPr/>
            <p:nvPr/>
          </p:nvPicPr>
          <p:blipFill>
            <a:blip r:embed="rId7"/>
            <a:stretch/>
          </p:blipFill>
          <p:spPr>
            <a:xfrm>
              <a:off x="407880" y="2914560"/>
              <a:ext cx="181764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22"/>
            <p:cNvSpPr/>
            <p:nvPr/>
          </p:nvSpPr>
          <p:spPr>
            <a:xfrm>
              <a:off x="50004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: 3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TextBox 9"/>
          <p:cNvGrpSpPr/>
          <p:nvPr/>
        </p:nvGrpSpPr>
        <p:grpSpPr>
          <a:xfrm>
            <a:off x="6486480" y="2914560"/>
            <a:ext cx="1809720" cy="663840"/>
            <a:chOff x="6486480" y="2914560"/>
            <a:chExt cx="1809720" cy="663840"/>
          </a:xfrm>
        </p:grpSpPr>
        <p:pic>
          <p:nvPicPr>
            <p:cNvPr id="315" name="TextBox 9" descr=""/>
            <p:cNvPicPr/>
            <p:nvPr/>
          </p:nvPicPr>
          <p:blipFill>
            <a:blip r:embed="rId8"/>
            <a:stretch/>
          </p:blipFill>
          <p:spPr>
            <a:xfrm>
              <a:off x="6486480" y="2914560"/>
              <a:ext cx="180972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5"/>
            <p:cNvSpPr/>
            <p:nvPr/>
          </p:nvSpPr>
          <p:spPr>
            <a:xfrm>
              <a:off x="657216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 :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Штриховая стрелка вправо 10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428760" y="428760"/>
            <a:ext cx="5786280" cy="928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ак называются эти выра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1930680" y="1571760"/>
            <a:ext cx="4876200" cy="52056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ВЫ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714960" y="5072040"/>
            <a:ext cx="5083560" cy="520560"/>
          </a:xfrm>
          <a:prstGeom prst="rect">
            <a:avLst/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-0.00312 0.51111 E">
                                      <p:cBhvr>
                                        <p:cTn id="3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31214E-007 L 0.00122 0.39607 E">
                                      <p:cBhvr>
                                        <p:cTn id="4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числов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Группа 31"/>
          <p:cNvGrpSpPr/>
          <p:nvPr/>
        </p:nvGrpSpPr>
        <p:grpSpPr>
          <a:xfrm>
            <a:off x="-1097280" y="3357720"/>
            <a:ext cx="10766520" cy="2738520"/>
            <a:chOff x="-1097280" y="3357720"/>
            <a:chExt cx="10766520" cy="2738520"/>
          </a:xfrm>
        </p:grpSpPr>
        <p:grpSp>
          <p:nvGrpSpPr>
            <p:cNvPr id="325" name="Прямоугольник 27"/>
            <p:cNvGrpSpPr/>
            <p:nvPr/>
          </p:nvGrpSpPr>
          <p:grpSpPr>
            <a:xfrm>
              <a:off x="-564840" y="3371040"/>
              <a:ext cx="1051200" cy="1289520"/>
              <a:chOff x="-564840" y="3371040"/>
              <a:chExt cx="1051200" cy="1289520"/>
            </a:xfrm>
          </p:grpSpPr>
          <p:pic>
            <p:nvPicPr>
              <p:cNvPr id="326" name="Прямоугольник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-564840" y="33710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 rot="7524000">
                <a:off x="-691200" y="390564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Прямоугольник 28"/>
            <p:cNvGrpSpPr/>
            <p:nvPr/>
          </p:nvGrpSpPr>
          <p:grpSpPr>
            <a:xfrm>
              <a:off x="252720" y="3490200"/>
              <a:ext cx="1045080" cy="1277640"/>
              <a:chOff x="252720" y="3490200"/>
              <a:chExt cx="1045080" cy="1277640"/>
            </a:xfrm>
          </p:grpSpPr>
          <p:pic>
            <p:nvPicPr>
              <p:cNvPr id="329" name="Прямоугольник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720" y="349020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7524000">
                <a:off x="124920" y="40186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Прямоугольник 29"/>
            <p:cNvGrpSpPr/>
            <p:nvPr/>
          </p:nvGrpSpPr>
          <p:grpSpPr>
            <a:xfrm>
              <a:off x="1064160" y="3597480"/>
              <a:ext cx="1051200" cy="1289520"/>
              <a:chOff x="1064160" y="3597480"/>
              <a:chExt cx="1051200" cy="1289520"/>
            </a:xfrm>
          </p:grpSpPr>
          <p:pic>
            <p:nvPicPr>
              <p:cNvPr id="332" name="Прямоугольник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4160" y="359748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rot="7524000">
                <a:off x="937080" y="41320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Прямоугольник 30"/>
            <p:cNvGrpSpPr/>
            <p:nvPr/>
          </p:nvGrpSpPr>
          <p:grpSpPr>
            <a:xfrm>
              <a:off x="1882080" y="3717360"/>
              <a:ext cx="1045080" cy="1277640"/>
              <a:chOff x="1882080" y="3717360"/>
              <a:chExt cx="1045080" cy="1277640"/>
            </a:xfrm>
          </p:grpSpPr>
          <p:pic>
            <p:nvPicPr>
              <p:cNvPr id="33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2080" y="371736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rot="7524000">
                <a:off x="1754280" y="42454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Прямоугольник 22"/>
            <p:cNvGrpSpPr/>
            <p:nvPr/>
          </p:nvGrpSpPr>
          <p:grpSpPr>
            <a:xfrm>
              <a:off x="2693880" y="3890160"/>
              <a:ext cx="1051200" cy="1277640"/>
              <a:chOff x="2693880" y="3890160"/>
              <a:chExt cx="1051200" cy="1277640"/>
            </a:xfrm>
          </p:grpSpPr>
          <p:pic>
            <p:nvPicPr>
              <p:cNvPr id="338" name="Прямоугольник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3880" y="38901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 rot="7524000">
                <a:off x="2568960" y="441684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Прямоугольник 23"/>
            <p:cNvGrpSpPr/>
            <p:nvPr/>
          </p:nvGrpSpPr>
          <p:grpSpPr>
            <a:xfrm>
              <a:off x="3505320" y="3997800"/>
              <a:ext cx="1051200" cy="1289520"/>
              <a:chOff x="3505320" y="3997800"/>
              <a:chExt cx="1051200" cy="1289520"/>
            </a:xfrm>
          </p:grpSpPr>
          <p:pic>
            <p:nvPicPr>
              <p:cNvPr id="341" name="Прямоугольник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5320" y="399780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 rot="7524000">
                <a:off x="3381120" y="453060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Прямоугольник 24"/>
            <p:cNvGrpSpPr/>
            <p:nvPr/>
          </p:nvGrpSpPr>
          <p:grpSpPr>
            <a:xfrm>
              <a:off x="4323240" y="4170600"/>
              <a:ext cx="1051200" cy="1277640"/>
              <a:chOff x="4323240" y="4170600"/>
              <a:chExt cx="1051200" cy="1277640"/>
            </a:xfrm>
          </p:grpSpPr>
          <p:pic>
            <p:nvPicPr>
              <p:cNvPr id="344" name="Прямоугольник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4323240" y="417060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 rot="7524000">
                <a:off x="4198320" y="46987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Прямоугольник 25"/>
            <p:cNvGrpSpPr/>
            <p:nvPr/>
          </p:nvGrpSpPr>
          <p:grpSpPr>
            <a:xfrm>
              <a:off x="5048640" y="4278240"/>
              <a:ext cx="1051200" cy="1289520"/>
              <a:chOff x="5048640" y="4278240"/>
              <a:chExt cx="1051200" cy="1289520"/>
            </a:xfrm>
          </p:grpSpPr>
          <p:pic>
            <p:nvPicPr>
              <p:cNvPr id="347" name="Прямоугольник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048640" y="42782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7524000">
                <a:off x="4919760" y="48124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Прямоугольник 20"/>
            <p:cNvGrpSpPr/>
            <p:nvPr/>
          </p:nvGrpSpPr>
          <p:grpSpPr>
            <a:xfrm>
              <a:off x="5860440" y="4397760"/>
              <a:ext cx="1051200" cy="1277640"/>
              <a:chOff x="5860440" y="4397760"/>
              <a:chExt cx="1051200" cy="1277640"/>
            </a:xfrm>
          </p:grpSpPr>
          <p:pic>
            <p:nvPicPr>
              <p:cNvPr id="350" name="Прямоугольник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0440" y="43977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 rot="7524000">
                <a:off x="5736960" y="49255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Прямоугольник 21"/>
            <p:cNvGrpSpPr/>
            <p:nvPr/>
          </p:nvGrpSpPr>
          <p:grpSpPr>
            <a:xfrm>
              <a:off x="6727320" y="4551840"/>
              <a:ext cx="1051200" cy="1277640"/>
              <a:chOff x="6727320" y="4551840"/>
              <a:chExt cx="1051200" cy="1277640"/>
            </a:xfrm>
          </p:grpSpPr>
          <p:pic>
            <p:nvPicPr>
              <p:cNvPr id="353" name="Прямоугольник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7320" y="455184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 rot="7524000">
                <a:off x="6604200" y="50788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19"/>
            <p:cNvGrpSpPr/>
            <p:nvPr/>
          </p:nvGrpSpPr>
          <p:grpSpPr>
            <a:xfrm>
              <a:off x="7551360" y="4699080"/>
              <a:ext cx="1051200" cy="1277640"/>
              <a:chOff x="7551360" y="4699080"/>
              <a:chExt cx="1051200" cy="1277640"/>
            </a:xfrm>
          </p:grpSpPr>
          <p:pic>
            <p:nvPicPr>
              <p:cNvPr id="356" name="Прямоугольник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1360" y="469908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7524000">
                <a:off x="7428240" y="522576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18"/>
            <p:cNvGrpSpPr/>
            <p:nvPr/>
          </p:nvGrpSpPr>
          <p:grpSpPr>
            <a:xfrm>
              <a:off x="8461440" y="4806720"/>
              <a:ext cx="1045080" cy="1289520"/>
              <a:chOff x="8461440" y="4806720"/>
              <a:chExt cx="1045080" cy="1289520"/>
            </a:xfrm>
          </p:grpSpPr>
          <p:pic>
            <p:nvPicPr>
              <p:cNvPr id="359" name="Прямоугольник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461440" y="4806720"/>
                <a:ext cx="104508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7524000">
                <a:off x="8331120" y="533952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рямоугольник 17"/>
            <p:cNvGrpSpPr/>
            <p:nvPr/>
          </p:nvGrpSpPr>
          <p:grpSpPr>
            <a:xfrm>
              <a:off x="-651960" y="3357720"/>
              <a:ext cx="10321200" cy="2212200"/>
              <a:chOff x="-651960" y="3357720"/>
              <a:chExt cx="10321200" cy="2212200"/>
            </a:xfrm>
          </p:grpSpPr>
          <p:pic>
            <p:nvPicPr>
              <p:cNvPr id="362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51960" y="3357720"/>
                <a:ext cx="1032120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666600">
                <a:off x="-694080" y="4410720"/>
                <a:ext cx="1041012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Прямоугольник 16"/>
            <p:cNvGrpSpPr/>
            <p:nvPr/>
          </p:nvGrpSpPr>
          <p:grpSpPr>
            <a:xfrm>
              <a:off x="-1097280" y="3810960"/>
              <a:ext cx="10308960" cy="2212200"/>
              <a:chOff x="-1097280" y="3810960"/>
              <a:chExt cx="10308960" cy="2212200"/>
            </a:xfrm>
          </p:grpSpPr>
          <p:pic>
            <p:nvPicPr>
              <p:cNvPr id="365" name="Прямоугольник 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-1097280" y="3810960"/>
                <a:ext cx="1030896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 rot="666600">
                <a:off x="-1143000" y="4863600"/>
                <a:ext cx="1040400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7" name="Picture 6" descr="C:\Users\Mama\AppData\Local\Microsoft\Windows\Temporary Internet Files\Content.IE5\IR0II7RP\MCj03985290000[1].wmf"/>
          <p:cNvPicPr/>
          <p:nvPr/>
        </p:nvPicPr>
        <p:blipFill>
          <a:blip r:embed="rId15"/>
          <a:stretch/>
        </p:blipFill>
        <p:spPr>
          <a:xfrm flipH="1">
            <a:off x="-142920" y="2571840"/>
            <a:ext cx="2928960" cy="18698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2"/>
          <p:cNvSpPr/>
          <p:nvPr/>
        </p:nvSpPr>
        <p:spPr>
          <a:xfrm>
            <a:off x="285840" y="5000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йденный пу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3"/>
          <p:cNvSpPr/>
          <p:nvPr/>
        </p:nvSpPr>
        <p:spPr>
          <a:xfrm>
            <a:off x="3429000" y="428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18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4"/>
          <p:cNvSpPr/>
          <p:nvPr/>
        </p:nvSpPr>
        <p:spPr>
          <a:xfrm>
            <a:off x="285840" y="17859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Arial"/>
              </a:rPr>
              <a:t>Время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5"/>
          <p:cNvSpPr/>
          <p:nvPr/>
        </p:nvSpPr>
        <p:spPr>
          <a:xfrm>
            <a:off x="3714840" y="100008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6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/ч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правляющая кнопка: далее 36"/>
          <p:cNvSpPr/>
          <p:nvPr/>
        </p:nvSpPr>
        <p:spPr>
          <a:xfrm>
            <a:off x="928800" y="6143760"/>
            <a:ext cx="428400" cy="28548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зад 37"/>
          <p:cNvSpPr/>
          <p:nvPr/>
        </p:nvSpPr>
        <p:spPr>
          <a:xfrm>
            <a:off x="35712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2"/>
          <p:cNvSpPr/>
          <p:nvPr/>
        </p:nvSpPr>
        <p:spPr>
          <a:xfrm>
            <a:off x="285840" y="11430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ь движен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34" descr="фломастре1.gif"/>
          <p:cNvPicPr/>
          <p:nvPr/>
        </p:nvPicPr>
        <p:blipFill>
          <a:blip r:embed="rId16"/>
          <a:stretch/>
        </p:blipFill>
        <p:spPr>
          <a:xfrm>
            <a:off x="8286840" y="1928880"/>
            <a:ext cx="566640" cy="525240"/>
          </a:xfrm>
          <a:prstGeom prst="rect">
            <a:avLst/>
          </a:prstGeom>
          <a:ln w="0">
            <a:noFill/>
          </a:ln>
        </p:spPr>
      </p:pic>
      <p:sp>
        <p:nvSpPr>
          <p:cNvPr id="376" name="Правая фигурная скобка 35"/>
          <p:cNvSpPr/>
          <p:nvPr/>
        </p:nvSpPr>
        <p:spPr>
          <a:xfrm rot="5981400">
            <a:off x="4215240" y="1389600"/>
            <a:ext cx="357120" cy="842004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420040"/>
              <a:gd name="textAreaBottom" fmla="*/ 8411040 h 842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"/>
                  <a:pt x="10800" y="76"/>
                </a:cubicBezTo>
                <a:lnTo>
                  <a:pt x="10800" y="10724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8"/>
                  <a:pt x="10800" y="10876"/>
                </a:cubicBezTo>
                <a:lnTo>
                  <a:pt x="10800" y="21524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3643200" y="5857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Штриховая стрелка вправо 31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0.604 0.14629 E">
                                      <p:cBhvr>
                                        <p:cTn id="70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4 0.14629 L 0.00556 -0.0007 E">
                                      <p:cBhvr>
                                        <p:cTn id="8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2" descr="Рисунок1.gif"/>
          <p:cNvPicPr/>
          <p:nvPr/>
        </p:nvPicPr>
        <p:blipFill>
          <a:blip r:embed="rId1"/>
          <a:stretch/>
        </p:blipFill>
        <p:spPr>
          <a:xfrm>
            <a:off x="401760" y="2749680"/>
            <a:ext cx="8308800" cy="30715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4"/>
          <p:cNvSpPr/>
          <p:nvPr/>
        </p:nvSpPr>
        <p:spPr>
          <a:xfrm>
            <a:off x="2071800" y="1214280"/>
            <a:ext cx="457200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8"/>
          <p:cNvSpPr/>
          <p:nvPr/>
        </p:nvSpPr>
        <p:spPr>
          <a:xfrm>
            <a:off x="1643040" y="1143000"/>
            <a:ext cx="5572080" cy="1143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ре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Штриховая стрелка вправо 4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500280" y="57168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714240" y="1071720"/>
            <a:ext cx="5214960" cy="3071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ФОРМУЛ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уквенное выражение или равенство, показывающее зависимость между велич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714240" y="1071720"/>
            <a:ext cx="5214960" cy="3071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та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ФОРМУ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Штриховая стрелка вправо 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1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618480" y="2313000"/>
            <a:ext cx="272124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Прямоугольник 5"/>
          <p:cNvGrpSpPr/>
          <p:nvPr/>
        </p:nvGrpSpPr>
        <p:grpSpPr>
          <a:xfrm>
            <a:off x="3213000" y="1994040"/>
            <a:ext cx="3108600" cy="1120680"/>
            <a:chOff x="3213000" y="1994040"/>
            <a:chExt cx="3108600" cy="1120680"/>
          </a:xfrm>
        </p:grpSpPr>
        <p:pic>
          <p:nvPicPr>
            <p:cNvPr id="39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213000" y="1994040"/>
              <a:ext cx="31086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7"/>
            <p:cNvSpPr/>
            <p:nvPr/>
          </p:nvSpPr>
          <p:spPr>
            <a:xfrm>
              <a:off x="3574440" y="2170080"/>
              <a:ext cx="24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= V * 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Прямоугольник 8"/>
          <p:cNvSpPr/>
          <p:nvPr/>
        </p:nvSpPr>
        <p:spPr>
          <a:xfrm>
            <a:off x="743400" y="3313080"/>
            <a:ext cx="146088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Прямоугольник 9"/>
          <p:cNvGrpSpPr/>
          <p:nvPr/>
        </p:nvGrpSpPr>
        <p:grpSpPr>
          <a:xfrm>
            <a:off x="3303720" y="3067200"/>
            <a:ext cx="3024000" cy="1120680"/>
            <a:chOff x="3303720" y="3067200"/>
            <a:chExt cx="3024000" cy="1120680"/>
          </a:xfrm>
        </p:grpSpPr>
        <p:pic>
          <p:nvPicPr>
            <p:cNvPr id="39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303720" y="3067200"/>
              <a:ext cx="30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1"/>
            <p:cNvSpPr/>
            <p:nvPr/>
          </p:nvSpPr>
          <p:spPr>
            <a:xfrm>
              <a:off x="3670560" y="3241800"/>
              <a:ext cx="23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 = S : 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Прямоугольник 10"/>
          <p:cNvSpPr/>
          <p:nvPr/>
        </p:nvSpPr>
        <p:spPr>
          <a:xfrm>
            <a:off x="744480" y="4527720"/>
            <a:ext cx="218916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Прямоугольник 11"/>
          <p:cNvGrpSpPr/>
          <p:nvPr/>
        </p:nvGrpSpPr>
        <p:grpSpPr>
          <a:xfrm>
            <a:off x="3303720" y="4280040"/>
            <a:ext cx="3017880" cy="1120680"/>
            <a:chOff x="3303720" y="4280040"/>
            <a:chExt cx="3017880" cy="1120680"/>
          </a:xfrm>
        </p:grpSpPr>
        <p:pic>
          <p:nvPicPr>
            <p:cNvPr id="400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3303720" y="4280040"/>
              <a:ext cx="30178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15"/>
            <p:cNvSpPr/>
            <p:nvPr/>
          </p:nvSpPr>
          <p:spPr>
            <a:xfrm>
              <a:off x="3670560" y="4456080"/>
              <a:ext cx="23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: 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Прямоугольник 14"/>
          <p:cNvSpPr/>
          <p:nvPr/>
        </p:nvSpPr>
        <p:spPr>
          <a:xfrm>
            <a:off x="1220040" y="121428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5" descr="вопрос.gif"/>
          <p:cNvPicPr/>
          <p:nvPr/>
        </p:nvPicPr>
        <p:blipFill>
          <a:blip r:embed="rId5"/>
          <a:stretch/>
        </p:blipFill>
        <p:spPr>
          <a:xfrm>
            <a:off x="428760" y="11430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2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РОВЕР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АК ВЫ ПОНЯЛИ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6:09:52Z</dcterms:created>
  <dc:creator>Mama</dc:creator>
  <dc:description/>
  <dc:language>en-US</dc:language>
  <cp:lastModifiedBy>Ученик</cp:lastModifiedBy>
  <dcterms:modified xsi:type="dcterms:W3CDTF">2012-03-28T12:05:03Z</dcterms:modified>
  <cp:revision>52</cp:revision>
  <dc:subject/>
  <dc:title>Слайд 1</dc:title>
</cp:coreProperties>
</file>