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4FA-CCF9-424A-A078-1D2D794687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03B0-F672-4570-BC05-42EECBAA0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на вопрос появляется при щелчке на управляющую клавишу СВЕДЕНИЯ появляется определение площади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щелчке на управляющую клавишу ДАЛЕЕ появляется форму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A1B2-2A6A-458A-9700-AC94CB270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щелчке на управляющую клавишу СВЕДЕНИЯ появляется определение периметра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щелчке на управляющую клавишу ДАЛЕЕ появляется форму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34F2-8E91-4BB4-B30B-DD9B6F0E4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онный эффект появляется при щелчке на управляющую клавишу ДА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и появляется при щелчке на управляющую кнопку С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C81F-F782-4475-A4CA-2DAFDCD60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онный эффект появляется при щелчке на управляющую клавишу ДА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и появляется при щелчке на управляющую кнопку С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5982-5CE3-4757-91A6-4631410BB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и появляется при щелчке на управляющую кнопку С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B8FF-2FC5-4B2A-A6E1-41119315EE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е формулы осуществляется щелчком на соответствующий е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ы появляются последов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A0CF-6AB0-4953-8C61-9B1882B4D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демонстрации содержания домашнего задания осуществляется щелчком по прямоугольнику «ДОМАШНЕЕ ЗА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FE3E-C7C6-4F3D-BBB0-529A8D20D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оезда осуществляется щелчком по управляющим кнопкам. Ответ вводится с клавиатуры в текстовое п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F598-9D8A-4525-8BA5-7CCBB40FCD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материалу первого задания осуществляется щелчком по прямоугольнику «НАЧНЕМ УРОК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5DD2-CFF3-4C95-B710-6F526D1F5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полнения задания необходимо щелкнуть мышкой по объ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явления названий каждого вида выражений необходимо щелкнуть мышкой по прямоугольнику с вопросом «</a:t>
            </a:r>
            <a:r>
              <a:rPr b="0" lang="ru-RU" sz="1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Как называются эти выражения?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78BF-5E06-4A2B-A2F5-69EF08F01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оезда осуществляется щелчком по управляющим кнопкам. Ответ вводится с клавиатуры в текстовое п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7CB0-BB14-4CF5-A30E-6EF12B5D70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демонстрации ответа осуществляется щелчком по прямоугольнику «За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4E7F-0A7A-4AA3-A6EA-025768F52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демонстрации ответа осуществляется щелчком по прямоугольнику «Что же такое ФОРМУЛ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29B2-06DD-40C4-911D-40A9B9C50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ЕХНОЛОГИЯ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демонстрации содержания задания осуществляется щелчком по прямоугольнику «ПРОВЕРИМ, КАК ВЫ ПОНЯЛИ МАТЕРИА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появляются после щелчка по названию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0885-3B5A-411C-A761-EE9E10B24F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7AC-4717-4ABA-9543-0F0DAAD2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13C-2B65-4E75-AC7D-6F18E0D6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62A-35F5-414F-B37F-E1C11C56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13E-8BD7-4256-9A21-EAC54AF1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F520-7AA0-474E-B62A-3B5E61D3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5E75-205A-42AA-BC92-2280A704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8ACF-178F-4364-AE5F-AB4A0558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6F31-0C03-42F0-84CD-77AA706F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6AE3-9148-425E-8985-A72EABBD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B138-06CE-45C9-AD7F-6063968C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38AA-8C03-4857-8932-3B81FEA2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C80-FBA6-428C-A235-CE14C7D5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BED3-582C-44E8-ACCC-59AD081F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C631-AB97-44AC-9E73-F92F4242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28CB-D45C-40E8-A114-4E75C39A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7E80-B511-4D7C-BD40-39B3CDD7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D64E-C6FD-41FF-95E0-E439D0A6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DD32-ABA4-4DEB-81EE-F31C88FA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1DB7-2021-4B51-9B85-86B19481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511C-E9F6-4A5F-8878-C8D0CE41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4484-4D36-4DF0-AE2C-5866AEA2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5A76-2EED-4774-9A1E-84F2016D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F61-4CE5-48A4-9AA5-252920F7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5E0F-FCC5-4514-B85A-E2BA2C55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86E72-EA57-4E3F-8E5A-D68B3251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138E-2693-4C10-8088-948D390B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6889-CEAA-4131-9A65-EE00CA71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EF5F-86E7-435C-A612-93641A59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B5AB-EE7C-4317-814F-56F1C02A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D1977-4322-4FC9-9E3A-9D4D529D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7906-ED73-40A9-BA8C-B31F4320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14400-D67F-474E-8C85-19F1ED6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4FB3-7B3D-4E39-A223-B8FC2374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11C-43F8-4D0A-A0D6-E95C1F5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E4582-2AC7-4DA1-8EC9-E741FC7F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FA15E-7007-4151-977E-7DBE675A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5DE8-9E29-4CD1-AF25-C5FA8EED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459A-C18E-48E9-9227-46EF3E9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ED12-86D9-42DD-8CD8-6679C41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1B576-8445-408F-8EB0-7D2940B4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7E8E-CEB8-4F4A-B24F-773078DC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3776F-A115-4D20-89FB-3FB0A6B7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7E513-3BD1-4EA9-825C-84A20B89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DC315-F035-4ABE-A8A6-3E7B5659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A7A-BB50-496E-8B39-B29224FB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9DC0D-4A7D-4C80-B9C6-405F8A68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AC81C-5127-4995-9DE8-33269AFB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8A0D-73AA-4926-8CC3-6B5917D1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B12C-5A38-4C60-BB93-59CF5B73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403BF-90F3-4A47-9F16-E47F5B48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37F9A-9989-40FB-B152-FB40C402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B9616-51BB-45F7-9CC5-194A55BF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D16C9-15D2-4DC0-9451-A1846162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6A0AD-D5F0-4FBF-B474-72A9F145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14B6D-121D-45C2-B2F4-16A8DAA7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53C-9F19-47F8-9CCB-27974D87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6BF25-9370-4827-B53B-97FA8E24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3AF-16F6-4B10-B0D4-52501CD7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207-7C43-4C05-BAD5-C73790E3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C55-34FA-4CD1-B42D-E74E5770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8C75-3873-4E91-8277-A8E3BE5924A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451C-A1D3-482B-BA87-991BA854696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4777-47C6-44AD-8BD2-EC6E991678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59D3-C316-4AB8-A9E6-BE696E4E95C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A273-F637-4529-8804-AF39BA28413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29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5.png"/><Relationship Id="rId5" Type="http://schemas.openxmlformats.org/officeDocument/2006/relationships/image" Target="../media/image30.png"/><Relationship Id="rId6" Type="http://schemas.openxmlformats.org/officeDocument/2006/relationships/image" Target="../media/image36.png"/><Relationship Id="rId7" Type="http://schemas.openxmlformats.org/officeDocument/2006/relationships/image" Target="../media/image31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8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37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wmf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37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wmf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37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2571840" y="714240"/>
            <a:ext cx="47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средняя общеобразовательная школа № 47 г.о.Сам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4000680" y="4714920"/>
            <a:ext cx="47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высшей категории Котикова О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214720" y="6143760"/>
            <a:ext cx="47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а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2627280" y="1755720"/>
            <a:ext cx="4516560" cy="11034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2571840" y="3000240"/>
            <a:ext cx="47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ТЕМАТИКА, 5 КЛА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49"/>
          <p:cNvSpPr/>
          <p:nvPr/>
        </p:nvSpPr>
        <p:spPr>
          <a:xfrm>
            <a:off x="500040" y="5286240"/>
            <a:ext cx="4714920" cy="1285920"/>
          </a:xfrm>
          <a:prstGeom prst="rect">
            <a:avLst/>
          </a:prstGeom>
          <a:solidFill>
            <a:srgbClr val="dac19b">
              <a:alpha val="34000"/>
            </a:srgbClr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7"/>
          <p:cNvSpPr/>
          <p:nvPr/>
        </p:nvSpPr>
        <p:spPr>
          <a:xfrm>
            <a:off x="1428840" y="928800"/>
            <a:ext cx="5857920" cy="3429000"/>
          </a:xfrm>
          <a:prstGeom prst="rect">
            <a:avLst/>
          </a:prstGeom>
          <a:solidFill>
            <a:srgbClr val="b0c07e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Управляющая кнопка: далее 19"/>
          <p:cNvSpPr/>
          <p:nvPr/>
        </p:nvSpPr>
        <p:spPr>
          <a:xfrm>
            <a:off x="8143920" y="592920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Управляющая кнопка: домой 20">
            <a:hlinkClick r:id="" action="ppaction://hlinkshowjump?jump=endshow"/>
          </p:cNvPr>
          <p:cNvSpPr/>
          <p:nvPr/>
        </p:nvSpPr>
        <p:spPr>
          <a:xfrm>
            <a:off x="8143920" y="50004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10800" y="5034"/>
                </a:moveTo>
                <a:lnTo>
                  <a:pt x="13376" y="7645"/>
                </a:ln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lnTo>
                  <a:pt x="17763" y="11997"/>
                </a:lnTo>
                <a:lnTo>
                  <a:pt x="16109" y="11997"/>
                </a:lnTo>
                <a:lnTo>
                  <a:pt x="16109" y="19186"/>
                </a:lnTo>
                <a:lnTo>
                  <a:pt x="5491" y="19186"/>
                </a:lnTo>
                <a:lnTo>
                  <a:pt x="5491" y="11997"/>
                </a:lnTo>
                <a:lnTo>
                  <a:pt x="3837" y="11997"/>
                </a:lnTo>
                <a:close/>
              </a:path>
              <a:path fill="darkenLess" w="21600" h="23993">
                <a:moveTo>
                  <a:pt x="13376" y="7645"/>
                </a:move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close/>
              </a:path>
              <a:path fill="darkenLess" w="21600" h="23993">
                <a:moveTo>
                  <a:pt x="9877" y="15496"/>
                </a:moveTo>
                <a:lnTo>
                  <a:pt x="11723" y="15496"/>
                </a:lnTo>
                <a:lnTo>
                  <a:pt x="11723" y="19186"/>
                </a:lnTo>
                <a:lnTo>
                  <a:pt x="16109" y="19186"/>
                </a:lnTo>
                <a:lnTo>
                  <a:pt x="16109" y="11997"/>
                </a:lnTo>
                <a:lnTo>
                  <a:pt x="5491" y="11997"/>
                </a:lnTo>
                <a:lnTo>
                  <a:pt x="5491" y="19186"/>
                </a:lnTo>
                <a:lnTo>
                  <a:pt x="9877" y="1918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"/>
          <a:stretch/>
        </p:blipFill>
        <p:spPr>
          <a:xfrm>
            <a:off x="781200" y="2419200"/>
            <a:ext cx="517320" cy="586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"/>
          <p:cNvPicPr/>
          <p:nvPr/>
        </p:nvPicPr>
        <p:blipFill>
          <a:blip r:embed="rId2"/>
          <a:stretch/>
        </p:blipFill>
        <p:spPr>
          <a:xfrm>
            <a:off x="4065480" y="4492800"/>
            <a:ext cx="635040" cy="371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-2719440" y="853920"/>
            <a:ext cx="635040" cy="365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"/>
          <p:cNvPicPr/>
          <p:nvPr/>
        </p:nvPicPr>
        <p:blipFill>
          <a:blip r:embed="rId4"/>
          <a:stretch/>
        </p:blipFill>
        <p:spPr>
          <a:xfrm>
            <a:off x="1352520" y="5778360"/>
            <a:ext cx="652320" cy="555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4091040" y="4498920"/>
            <a:ext cx="633240" cy="371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/>
          <p:cNvPicPr/>
          <p:nvPr/>
        </p:nvPicPr>
        <p:blipFill>
          <a:blip r:embed="rId6"/>
          <a:stretch/>
        </p:blipFill>
        <p:spPr>
          <a:xfrm>
            <a:off x="798480" y="242568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415" name="Управляющая кнопка: сведения 47"/>
          <p:cNvSpPr/>
          <p:nvPr/>
        </p:nvSpPr>
        <p:spPr>
          <a:xfrm>
            <a:off x="8143920" y="13572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8" descr=""/>
          <p:cNvPicPr/>
          <p:nvPr/>
        </p:nvPicPr>
        <p:blipFill>
          <a:blip r:embed="rId7"/>
          <a:stretch/>
        </p:blipFill>
        <p:spPr>
          <a:xfrm>
            <a:off x="3139920" y="5778360"/>
            <a:ext cx="389160" cy="513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9" descr=""/>
          <p:cNvPicPr/>
          <p:nvPr/>
        </p:nvPicPr>
        <p:blipFill>
          <a:blip r:embed="rId8"/>
          <a:stretch/>
        </p:blipFill>
        <p:spPr>
          <a:xfrm>
            <a:off x="566640" y="5492880"/>
            <a:ext cx="725760" cy="88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7"/>
          <p:cNvSpPr/>
          <p:nvPr/>
        </p:nvSpPr>
        <p:spPr>
          <a:xfrm>
            <a:off x="1428840" y="928800"/>
            <a:ext cx="5857920" cy="342900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8"/>
          <p:cNvSpPr/>
          <p:nvPr/>
        </p:nvSpPr>
        <p:spPr>
          <a:xfrm>
            <a:off x="1714680" y="2214720"/>
            <a:ext cx="5286240" cy="82548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ощадь прямоугольни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это произведение двух его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4"/>
          <p:cNvSpPr/>
          <p:nvPr/>
        </p:nvSpPr>
        <p:spPr>
          <a:xfrm flipH="1" flipV="1">
            <a:off x="1428840" y="4357800"/>
            <a:ext cx="585792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6"/>
          <p:cNvSpPr/>
          <p:nvPr/>
        </p:nvSpPr>
        <p:spPr>
          <a:xfrm flipV="1">
            <a:off x="1426320" y="928440"/>
            <a:ext cx="1800" cy="3430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Штриховая стрелка вправо 18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1"/>
          <p:cNvSpPr/>
          <p:nvPr/>
        </p:nvSpPr>
        <p:spPr>
          <a:xfrm>
            <a:off x="1714680" y="1785960"/>
            <a:ext cx="5286240" cy="15717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ПЛОЩАДЬ ПРЯМО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-0.20764 0.19583 E">
                                      <p:cBhvr>
                                        <p:cTn id="176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0.34705 0.48218 E">
                                      <p:cBhvr>
                                        <p:cTn id="191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7"/>
          <p:cNvSpPr/>
          <p:nvPr/>
        </p:nvSpPr>
        <p:spPr>
          <a:xfrm>
            <a:off x="1428840" y="928800"/>
            <a:ext cx="5857920" cy="3429000"/>
          </a:xfrm>
          <a:prstGeom prst="rect">
            <a:avLst/>
          </a:prstGeom>
          <a:solidFill>
            <a:srgbClr val="b0c07e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14"/>
          <p:cNvSpPr/>
          <p:nvPr/>
        </p:nvSpPr>
        <p:spPr>
          <a:xfrm flipH="1" flipV="1">
            <a:off x="1428840" y="4357800"/>
            <a:ext cx="585792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16"/>
          <p:cNvSpPr/>
          <p:nvPr/>
        </p:nvSpPr>
        <p:spPr>
          <a:xfrm flipV="1">
            <a:off x="1426320" y="928440"/>
            <a:ext cx="1800" cy="3430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17"/>
          <p:cNvSpPr/>
          <p:nvPr/>
        </p:nvSpPr>
        <p:spPr>
          <a:xfrm>
            <a:off x="7286760" y="928800"/>
            <a:ext cx="1440" cy="342900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18"/>
          <p:cNvSpPr/>
          <p:nvPr/>
        </p:nvSpPr>
        <p:spPr>
          <a:xfrm flipH="1" flipV="1">
            <a:off x="1428840" y="928800"/>
            <a:ext cx="585792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Управляющая кнопка: далее 19"/>
          <p:cNvSpPr/>
          <p:nvPr/>
        </p:nvSpPr>
        <p:spPr>
          <a:xfrm>
            <a:off x="8143920" y="592920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Управляющая кнопка: домой 20">
            <a:hlinkClick r:id="" action="ppaction://hlinkshowjump?jump=endshow"/>
          </p:cNvPr>
          <p:cNvSpPr/>
          <p:nvPr/>
        </p:nvSpPr>
        <p:spPr>
          <a:xfrm>
            <a:off x="8143920" y="50004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10800" y="5034"/>
                </a:moveTo>
                <a:lnTo>
                  <a:pt x="13376" y="7645"/>
                </a:ln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lnTo>
                  <a:pt x="17763" y="11997"/>
                </a:lnTo>
                <a:lnTo>
                  <a:pt x="16109" y="11997"/>
                </a:lnTo>
                <a:lnTo>
                  <a:pt x="16109" y="19186"/>
                </a:lnTo>
                <a:lnTo>
                  <a:pt x="5491" y="19186"/>
                </a:lnTo>
                <a:lnTo>
                  <a:pt x="5491" y="11997"/>
                </a:lnTo>
                <a:lnTo>
                  <a:pt x="3837" y="11997"/>
                </a:lnTo>
                <a:close/>
              </a:path>
              <a:path fill="darkenLess" w="21600" h="23993">
                <a:moveTo>
                  <a:pt x="13376" y="7645"/>
                </a:move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close/>
              </a:path>
              <a:path fill="darkenLess" w="21600" h="23993">
                <a:moveTo>
                  <a:pt x="9877" y="15496"/>
                </a:moveTo>
                <a:lnTo>
                  <a:pt x="11723" y="15496"/>
                </a:lnTo>
                <a:lnTo>
                  <a:pt x="11723" y="19186"/>
                </a:lnTo>
                <a:lnTo>
                  <a:pt x="16109" y="19186"/>
                </a:lnTo>
                <a:lnTo>
                  <a:pt x="16109" y="11997"/>
                </a:lnTo>
                <a:lnTo>
                  <a:pt x="5491" y="11997"/>
                </a:lnTo>
                <a:lnTo>
                  <a:pt x="5491" y="19186"/>
                </a:lnTo>
                <a:lnTo>
                  <a:pt x="9877" y="1918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"/>
          <p:cNvPicPr/>
          <p:nvPr/>
        </p:nvPicPr>
        <p:blipFill>
          <a:blip r:embed="rId1"/>
          <a:stretch/>
        </p:blipFill>
        <p:spPr>
          <a:xfrm>
            <a:off x="3925800" y="353880"/>
            <a:ext cx="633600" cy="365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"/>
          <p:cNvPicPr/>
          <p:nvPr/>
        </p:nvPicPr>
        <p:blipFill>
          <a:blip r:embed="rId2"/>
          <a:stretch/>
        </p:blipFill>
        <p:spPr>
          <a:xfrm>
            <a:off x="781200" y="2419200"/>
            <a:ext cx="517320" cy="586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"/>
          <p:cNvPicPr/>
          <p:nvPr/>
        </p:nvPicPr>
        <p:blipFill>
          <a:blip r:embed="rId3"/>
          <a:stretch/>
        </p:blipFill>
        <p:spPr>
          <a:xfrm>
            <a:off x="4065480" y="4492800"/>
            <a:ext cx="635040" cy="3711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"/>
          <p:cNvPicPr/>
          <p:nvPr/>
        </p:nvPicPr>
        <p:blipFill>
          <a:blip r:embed="rId4"/>
          <a:stretch/>
        </p:blipFill>
        <p:spPr>
          <a:xfrm>
            <a:off x="7424640" y="2639880"/>
            <a:ext cx="519120" cy="5796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5"/>
          <a:stretch/>
        </p:blipFill>
        <p:spPr>
          <a:xfrm>
            <a:off x="-2719440" y="853920"/>
            <a:ext cx="635040" cy="365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9" descr=""/>
          <p:cNvPicPr/>
          <p:nvPr/>
        </p:nvPicPr>
        <p:blipFill>
          <a:blip r:embed="rId6"/>
          <a:stretch/>
        </p:blipFill>
        <p:spPr>
          <a:xfrm>
            <a:off x="633240" y="5492880"/>
            <a:ext cx="659160" cy="9316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1" descr=""/>
          <p:cNvPicPr/>
          <p:nvPr/>
        </p:nvPicPr>
        <p:blipFill>
          <a:blip r:embed="rId7"/>
          <a:stretch/>
        </p:blipFill>
        <p:spPr>
          <a:xfrm>
            <a:off x="1352520" y="5778360"/>
            <a:ext cx="652320" cy="555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2" descr=""/>
          <p:cNvPicPr/>
          <p:nvPr/>
        </p:nvPicPr>
        <p:blipFill>
          <a:blip r:embed="rId8"/>
          <a:stretch/>
        </p:blipFill>
        <p:spPr>
          <a:xfrm>
            <a:off x="3139920" y="5778360"/>
            <a:ext cx="536760" cy="513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"/>
          <p:cNvPicPr/>
          <p:nvPr/>
        </p:nvPicPr>
        <p:blipFill>
          <a:blip r:embed="rId9"/>
          <a:stretch/>
        </p:blipFill>
        <p:spPr>
          <a:xfrm>
            <a:off x="4780080" y="5778360"/>
            <a:ext cx="541080" cy="51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2" descr=""/>
          <p:cNvPicPr/>
          <p:nvPr/>
        </p:nvPicPr>
        <p:blipFill>
          <a:blip r:embed="rId10"/>
          <a:stretch/>
        </p:blipFill>
        <p:spPr>
          <a:xfrm>
            <a:off x="6351480" y="5778360"/>
            <a:ext cx="542880" cy="513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11"/>
          <a:stretch/>
        </p:blipFill>
        <p:spPr>
          <a:xfrm>
            <a:off x="3943440" y="353880"/>
            <a:ext cx="635040" cy="371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"/>
          <p:cNvPicPr/>
          <p:nvPr/>
        </p:nvPicPr>
        <p:blipFill>
          <a:blip r:embed="rId12"/>
          <a:stretch/>
        </p:blipFill>
        <p:spPr>
          <a:xfrm>
            <a:off x="4091040" y="4498920"/>
            <a:ext cx="633240" cy="3715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"/>
          <p:cNvPicPr/>
          <p:nvPr/>
        </p:nvPicPr>
        <p:blipFill>
          <a:blip r:embed="rId13"/>
          <a:stretch/>
        </p:blipFill>
        <p:spPr>
          <a:xfrm>
            <a:off x="7443720" y="2639880"/>
            <a:ext cx="517680" cy="584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14"/>
          <a:stretch/>
        </p:blipFill>
        <p:spPr>
          <a:xfrm>
            <a:off x="798480" y="242568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445" name="Управляющая кнопка: сведения 47"/>
          <p:cNvSpPr/>
          <p:nvPr/>
        </p:nvSpPr>
        <p:spPr>
          <a:xfrm>
            <a:off x="8143920" y="13572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8"/>
          <p:cNvSpPr/>
          <p:nvPr/>
        </p:nvSpPr>
        <p:spPr>
          <a:xfrm>
            <a:off x="1714680" y="2214720"/>
            <a:ext cx="5286240" cy="82548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риметр прямоугольни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это сумма длин всех его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9"/>
          <p:cNvSpPr/>
          <p:nvPr/>
        </p:nvSpPr>
        <p:spPr>
          <a:xfrm>
            <a:off x="500040" y="5286240"/>
            <a:ext cx="7429680" cy="1285920"/>
          </a:xfrm>
          <a:prstGeom prst="rect">
            <a:avLst/>
          </a:prstGeom>
          <a:solidFill>
            <a:srgbClr val="dac19b">
              <a:alpha val="34000"/>
            </a:srgbClr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Штриховая стрелка вправо 27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8"/>
          <p:cNvSpPr/>
          <p:nvPr/>
        </p:nvSpPr>
        <p:spPr>
          <a:xfrm>
            <a:off x="1714680" y="1785960"/>
            <a:ext cx="5286240" cy="15717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ПЕРИМЕТР ПРЯМО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-0.20764 0.19583 E">
                                      <p:cBhvr>
                                        <p:cTn id="238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0.34705 0.48218 E">
                                      <p:cBhvr>
                                        <p:cTn id="253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0.17795 0.8 E">
                                      <p:cBhvr>
                                        <p:cTn id="268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-0.02517 0.45093 E">
                                      <p:cBhvr>
                                        <p:cTn id="283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235728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451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4"/>
          <p:cNvSpPr/>
          <p:nvPr/>
        </p:nvSpPr>
        <p:spPr>
          <a:xfrm>
            <a:off x="571680" y="1071720"/>
            <a:ext cx="4214520" cy="29289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задачи, используя известные фор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Прямоугольник 7"/>
          <p:cNvSpPr/>
          <p:nvPr/>
        </p:nvSpPr>
        <p:spPr>
          <a:xfrm>
            <a:off x="1428840" y="2286000"/>
            <a:ext cx="5857920" cy="3429000"/>
          </a:xfrm>
          <a:prstGeom prst="rect">
            <a:avLst/>
          </a:prstGeom>
          <a:solidFill>
            <a:srgbClr val="b0c07e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14"/>
          <p:cNvSpPr/>
          <p:nvPr/>
        </p:nvSpPr>
        <p:spPr>
          <a:xfrm flipH="1" flipV="1">
            <a:off x="1428840" y="5715000"/>
            <a:ext cx="585792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6"/>
          <p:cNvSpPr/>
          <p:nvPr/>
        </p:nvSpPr>
        <p:spPr>
          <a:xfrm flipV="1">
            <a:off x="1426320" y="2285640"/>
            <a:ext cx="1800" cy="3430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Управляющая кнопка: далее 19"/>
          <p:cNvSpPr/>
          <p:nvPr/>
        </p:nvSpPr>
        <p:spPr>
          <a:xfrm>
            <a:off x="8001000" y="592920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1"/>
          <a:stretch/>
        </p:blipFill>
        <p:spPr>
          <a:xfrm>
            <a:off x="-2719440" y="853920"/>
            <a:ext cx="635040" cy="3654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"/>
          <p:cNvSpPr/>
          <p:nvPr/>
        </p:nvSpPr>
        <p:spPr>
          <a:xfrm>
            <a:off x="642960" y="647280"/>
            <a:ext cx="7715160" cy="11912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5f07"/>
                </a:solidFill>
                <a:latin typeface="Arial"/>
                <a:ea typeface="Times New Roman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а волейбольной площадки 18 м, а ее ширина - 9 м. Чему равна площадь волейбольной площадки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8"/>
          <p:cNvSpPr/>
          <p:nvPr/>
        </p:nvSpPr>
        <p:spPr>
          <a:xfrm>
            <a:off x="3786120" y="58579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9"/>
          <p:cNvSpPr/>
          <p:nvPr/>
        </p:nvSpPr>
        <p:spPr>
          <a:xfrm>
            <a:off x="50004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Рисунок 30" descr="волейбол.gif"/>
          <p:cNvPicPr/>
          <p:nvPr/>
        </p:nvPicPr>
        <p:blipFill>
          <a:blip r:embed="rId2"/>
          <a:stretch/>
        </p:blipFill>
        <p:spPr>
          <a:xfrm>
            <a:off x="7407360" y="1785960"/>
            <a:ext cx="1373040" cy="1428840"/>
          </a:xfrm>
          <a:prstGeom prst="rect">
            <a:avLst/>
          </a:prstGeom>
          <a:ln w="0">
            <a:noFill/>
          </a:ln>
        </p:spPr>
      </p:pic>
      <p:sp>
        <p:nvSpPr>
          <p:cNvPr id="462" name="TextBox 10"/>
          <p:cNvSpPr/>
          <p:nvPr/>
        </p:nvSpPr>
        <p:spPr>
          <a:xfrm>
            <a:off x="1500120" y="2341440"/>
            <a:ext cx="5715000" cy="326376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a *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 * 9 = 162 (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площадь волейбольной площ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162 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Управляющая кнопка: сведения 11"/>
          <p:cNvSpPr/>
          <p:nvPr/>
        </p:nvSpPr>
        <p:spPr>
          <a:xfrm>
            <a:off x="7215120" y="592920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769" h="21600">
                <a:moveTo>
                  <a:pt x="1388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769" h="21600">
                <a:moveTo>
                  <a:pt x="11308" y="8224"/>
                </a:moveTo>
                <a:lnTo>
                  <a:pt x="15173" y="8224"/>
                </a:lnTo>
                <a:lnTo>
                  <a:pt x="15173" y="15221"/>
                </a:lnTo>
                <a:lnTo>
                  <a:pt x="16461" y="15221"/>
                </a:lnTo>
                <a:lnTo>
                  <a:pt x="16461" y="16144"/>
                </a:lnTo>
                <a:lnTo>
                  <a:pt x="11308" y="16144"/>
                </a:lnTo>
                <a:lnTo>
                  <a:pt x="11308" y="15221"/>
                </a:lnTo>
                <a:lnTo>
                  <a:pt x="12596" y="15221"/>
                </a:lnTo>
                <a:lnTo>
                  <a:pt x="12596" y="9129"/>
                </a:lnTo>
                <a:lnTo>
                  <a:pt x="11308" y="912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Штриховая стрелка вправо 12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7"/>
          <p:cNvSpPr/>
          <p:nvPr/>
        </p:nvSpPr>
        <p:spPr>
          <a:xfrm>
            <a:off x="1500120" y="2857680"/>
            <a:ext cx="5857920" cy="2857320"/>
          </a:xfrm>
          <a:prstGeom prst="rect">
            <a:avLst/>
          </a:prstGeom>
          <a:solidFill>
            <a:srgbClr val="b0c07e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14"/>
          <p:cNvSpPr/>
          <p:nvPr/>
        </p:nvSpPr>
        <p:spPr>
          <a:xfrm flipH="1" flipV="1">
            <a:off x="1500120" y="5715000"/>
            <a:ext cx="585792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16"/>
          <p:cNvSpPr/>
          <p:nvPr/>
        </p:nvSpPr>
        <p:spPr>
          <a:xfrm flipV="1">
            <a:off x="1498680" y="2857320"/>
            <a:ext cx="1440" cy="285876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17"/>
          <p:cNvSpPr/>
          <p:nvPr/>
        </p:nvSpPr>
        <p:spPr>
          <a:xfrm>
            <a:off x="7358040" y="2857680"/>
            <a:ext cx="1440" cy="285732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18"/>
          <p:cNvSpPr/>
          <p:nvPr/>
        </p:nvSpPr>
        <p:spPr>
          <a:xfrm flipH="1" flipV="1">
            <a:off x="1571400" y="2857680"/>
            <a:ext cx="5786280" cy="1440"/>
          </a:xfrm>
          <a:prstGeom prst="line">
            <a:avLst/>
          </a:prstGeom>
          <a:ln w="76320">
            <a:solidFill>
              <a:srgbClr val="771f28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Управляющая кнопка: далее 19"/>
          <p:cNvSpPr/>
          <p:nvPr/>
        </p:nvSpPr>
        <p:spPr>
          <a:xfrm>
            <a:off x="8143920" y="592920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1"/>
          <a:stretch/>
        </p:blipFill>
        <p:spPr>
          <a:xfrm>
            <a:off x="-2719440" y="853920"/>
            <a:ext cx="635040" cy="3654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1"/>
          <p:cNvSpPr/>
          <p:nvPr/>
        </p:nvSpPr>
        <p:spPr>
          <a:xfrm>
            <a:off x="428760" y="436320"/>
            <a:ext cx="8286480" cy="19227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5f07"/>
                </a:solidFill>
                <a:latin typeface="Arial"/>
                <a:ea typeface="Times New Roman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рк окружен прямоугольной оградой со сторонами 760 м и 530 м. Каждое утро спортсмен пробегает по тропинке вокруг па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расстояние пробегает по утрам спортсм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9"/>
          <p:cNvSpPr/>
          <p:nvPr/>
        </p:nvSpPr>
        <p:spPr>
          <a:xfrm>
            <a:off x="3786120" y="5857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5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40"/>
          <p:cNvSpPr/>
          <p:nvPr/>
        </p:nvSpPr>
        <p:spPr>
          <a:xfrm>
            <a:off x="357120" y="3786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3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Рисунок 50" descr="бег.gif"/>
          <p:cNvPicPr/>
          <p:nvPr/>
        </p:nvPicPr>
        <p:blipFill>
          <a:blip r:embed="rId2"/>
          <a:stretch/>
        </p:blipFill>
        <p:spPr>
          <a:xfrm>
            <a:off x="7500960" y="2357280"/>
            <a:ext cx="1270080" cy="143352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2"/>
          <p:cNvSpPr/>
          <p:nvPr/>
        </p:nvSpPr>
        <p:spPr>
          <a:xfrm>
            <a:off x="1500120" y="2928960"/>
            <a:ext cx="5857920" cy="27151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 = 2*(a +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* (530 + 750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560 (м) – расстояние, которое пробегает спортс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 2560 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Управляющая кнопка: сведения 13"/>
          <p:cNvSpPr/>
          <p:nvPr/>
        </p:nvSpPr>
        <p:spPr>
          <a:xfrm>
            <a:off x="7215120" y="592920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769" h="21600">
                <a:moveTo>
                  <a:pt x="1388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769" h="21600">
                <a:moveTo>
                  <a:pt x="11308" y="8224"/>
                </a:moveTo>
                <a:lnTo>
                  <a:pt x="15173" y="8224"/>
                </a:lnTo>
                <a:lnTo>
                  <a:pt x="15173" y="15221"/>
                </a:lnTo>
                <a:lnTo>
                  <a:pt x="16461" y="15221"/>
                </a:lnTo>
                <a:lnTo>
                  <a:pt x="16461" y="16144"/>
                </a:lnTo>
                <a:lnTo>
                  <a:pt x="11308" y="16144"/>
                </a:lnTo>
                <a:lnTo>
                  <a:pt x="11308" y="15221"/>
                </a:lnTo>
                <a:lnTo>
                  <a:pt x="12596" y="15221"/>
                </a:lnTo>
                <a:lnTo>
                  <a:pt x="12596" y="9129"/>
                </a:lnTo>
                <a:lnTo>
                  <a:pt x="11308" y="912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Штриховая стрелка вправо 15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642960" y="837720"/>
            <a:ext cx="7715160" cy="2288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5f07"/>
                </a:solidFill>
                <a:latin typeface="Arial"/>
                <a:ea typeface="Times New Roman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 время путешествия первую часть пути турист шел со скоростью 6 км/ч в течение 4 часов. Следующие 10 км он двигался со скоростью 5 км/ч. Какое расстояние преодолел турист? Сколько времени он был в пу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4" descr="турист.gif"/>
          <p:cNvPicPr/>
          <p:nvPr/>
        </p:nvPicPr>
        <p:blipFill>
          <a:blip r:embed="rId1"/>
          <a:stretch/>
        </p:blipFill>
        <p:spPr>
          <a:xfrm>
            <a:off x="6519960" y="2928960"/>
            <a:ext cx="2332080" cy="2857320"/>
          </a:xfrm>
          <a:prstGeom prst="rect">
            <a:avLst/>
          </a:prstGeom>
          <a:ln w="0">
            <a:noFill/>
          </a:ln>
        </p:spPr>
      </p:pic>
      <p:sp>
        <p:nvSpPr>
          <p:cNvPr id="481" name="TextBox 3"/>
          <p:cNvSpPr/>
          <p:nvPr/>
        </p:nvSpPr>
        <p:spPr>
          <a:xfrm>
            <a:off x="714240" y="3571920"/>
            <a:ext cx="5786640" cy="27151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V *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*4= 24 (км) – пройдено за 4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 + 10 = 34 (км) – весь 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: 5 = 2 (ч) – время, за которое пройдено 1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+ 2 = 6 (ч) – время в п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весь путь – 34 км, время в пути – 6 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Управляющая кнопка: сведения 4"/>
          <p:cNvSpPr/>
          <p:nvPr/>
        </p:nvSpPr>
        <p:spPr>
          <a:xfrm>
            <a:off x="8001000" y="592920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769" h="21600">
                <a:moveTo>
                  <a:pt x="1388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769" h="21600">
                <a:moveTo>
                  <a:pt x="11308" y="8224"/>
                </a:moveTo>
                <a:lnTo>
                  <a:pt x="15173" y="8224"/>
                </a:lnTo>
                <a:lnTo>
                  <a:pt x="15173" y="15221"/>
                </a:lnTo>
                <a:lnTo>
                  <a:pt x="16461" y="15221"/>
                </a:lnTo>
                <a:lnTo>
                  <a:pt x="16461" y="16144"/>
                </a:lnTo>
                <a:lnTo>
                  <a:pt x="11308" y="16144"/>
                </a:lnTo>
                <a:lnTo>
                  <a:pt x="11308" y="15221"/>
                </a:lnTo>
                <a:lnTo>
                  <a:pt x="12596" y="15221"/>
                </a:lnTo>
                <a:lnTo>
                  <a:pt x="12596" y="9129"/>
                </a:lnTo>
                <a:lnTo>
                  <a:pt x="11308" y="912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Штриховая стрелка вправо 5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235728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ик 1"/>
          <p:cNvSpPr/>
          <p:nvPr/>
        </p:nvSpPr>
        <p:spPr>
          <a:xfrm>
            <a:off x="857160" y="1214280"/>
            <a:ext cx="4000680" cy="2000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ПОДВЕД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И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2"/>
          <p:cNvSpPr/>
          <p:nvPr/>
        </p:nvSpPr>
        <p:spPr>
          <a:xfrm>
            <a:off x="714240" y="571680"/>
            <a:ext cx="3143520" cy="100836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тояние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714240" y="1785960"/>
            <a:ext cx="3143520" cy="100836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сть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8"/>
          <p:cNvSpPr/>
          <p:nvPr/>
        </p:nvSpPr>
        <p:spPr>
          <a:xfrm>
            <a:off x="714240" y="4071960"/>
            <a:ext cx="3143520" cy="100836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0"/>
          <p:cNvSpPr/>
          <p:nvPr/>
        </p:nvSpPr>
        <p:spPr>
          <a:xfrm>
            <a:off x="714240" y="5286240"/>
            <a:ext cx="3143520" cy="100836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метр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1"/>
          <p:cNvSpPr/>
          <p:nvPr/>
        </p:nvSpPr>
        <p:spPr>
          <a:xfrm>
            <a:off x="714240" y="3071880"/>
            <a:ext cx="3143520" cy="70344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2"/>
          <p:cNvSpPr/>
          <p:nvPr/>
        </p:nvSpPr>
        <p:spPr>
          <a:xfrm>
            <a:off x="5357880" y="5357880"/>
            <a:ext cx="3143160" cy="10083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t * V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5357880" y="5643720"/>
            <a:ext cx="3143160" cy="7034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S : 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4"/>
          <p:cNvSpPr/>
          <p:nvPr/>
        </p:nvSpPr>
        <p:spPr>
          <a:xfrm>
            <a:off x="5357880" y="5643720"/>
            <a:ext cx="3143160" cy="7034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S :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5"/>
          <p:cNvSpPr/>
          <p:nvPr/>
        </p:nvSpPr>
        <p:spPr>
          <a:xfrm>
            <a:off x="5357880" y="5643720"/>
            <a:ext cx="3143160" cy="7034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2*(a + 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6"/>
          <p:cNvSpPr/>
          <p:nvPr/>
        </p:nvSpPr>
        <p:spPr>
          <a:xfrm>
            <a:off x="5357880" y="5357880"/>
            <a:ext cx="3143160" cy="10083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a * b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Двойная стрелка влево/вправо 17"/>
          <p:cNvSpPr/>
          <p:nvPr/>
        </p:nvSpPr>
        <p:spPr>
          <a:xfrm>
            <a:off x="4143240" y="928800"/>
            <a:ext cx="64296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Двойная стрелка влево/вправо 18"/>
          <p:cNvSpPr/>
          <p:nvPr/>
        </p:nvSpPr>
        <p:spPr>
          <a:xfrm>
            <a:off x="4143240" y="2214720"/>
            <a:ext cx="64296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Двойная стрелка влево/вправо 19"/>
          <p:cNvSpPr/>
          <p:nvPr/>
        </p:nvSpPr>
        <p:spPr>
          <a:xfrm>
            <a:off x="4143240" y="3357720"/>
            <a:ext cx="64296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Двойная стрелка влево/вправо 20"/>
          <p:cNvSpPr/>
          <p:nvPr/>
        </p:nvSpPr>
        <p:spPr>
          <a:xfrm>
            <a:off x="4143240" y="4500720"/>
            <a:ext cx="64296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Двойная стрелка влево/вправо 21"/>
          <p:cNvSpPr/>
          <p:nvPr/>
        </p:nvSpPr>
        <p:spPr>
          <a:xfrm>
            <a:off x="4214880" y="5715000"/>
            <a:ext cx="64296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Штриховая стрелка вправо 22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3996E-006 L 0.00226 -0.71161 E">
                                      <p:cBhvr>
                                        <p:cTn id="397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93987E-006 L 0.00157 -0.3742 E">
                                      <p:cBhvr>
                                        <p:cTn id="408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3784E-006 L 0.00017 -0.17854 E">
                                      <p:cBhvr>
                                        <p:cTn id="419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93987E-006 L 0.00104 -0.54186 E">
                                      <p:cBhvr>
                                        <p:cTn id="430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378612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1"/>
          <p:cNvSpPr/>
          <p:nvPr/>
        </p:nvSpPr>
        <p:spPr>
          <a:xfrm>
            <a:off x="428760" y="1143000"/>
            <a:ext cx="5929200" cy="42861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сорвал с прохожего шляпу и покатил ее по тротуару со скоростью 3 м/с. Прохожий побежал за ней.  В тот момент расстояние до щляпы было 8 м, а скорость прохожего 5 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сколько секун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огонит шляп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4"/>
          <p:cNvSpPr/>
          <p:nvPr/>
        </p:nvSpPr>
        <p:spPr>
          <a:xfrm>
            <a:off x="500040" y="1357200"/>
            <a:ext cx="5786640" cy="38577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ДОМАШ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235728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1"/>
          <p:cNvSpPr/>
          <p:nvPr/>
        </p:nvSpPr>
        <p:spPr>
          <a:xfrm>
            <a:off x="857160" y="1214280"/>
            <a:ext cx="4000680" cy="2000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 УР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Управляющая кнопка: домой 4">
            <a:hlinkClick r:id="" action="ppaction://hlinkshowjump?jump=endshow"/>
          </p:cNvPr>
          <p:cNvSpPr/>
          <p:nvPr/>
        </p:nvSpPr>
        <p:spPr>
          <a:xfrm>
            <a:off x="8072280" y="42876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10800" y="5034"/>
                </a:moveTo>
                <a:lnTo>
                  <a:pt x="13376" y="7645"/>
                </a:ln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lnTo>
                  <a:pt x="17763" y="11997"/>
                </a:lnTo>
                <a:lnTo>
                  <a:pt x="16109" y="11997"/>
                </a:lnTo>
                <a:lnTo>
                  <a:pt x="16109" y="19186"/>
                </a:lnTo>
                <a:lnTo>
                  <a:pt x="5491" y="19186"/>
                </a:lnTo>
                <a:lnTo>
                  <a:pt x="5491" y="11997"/>
                </a:lnTo>
                <a:lnTo>
                  <a:pt x="3837" y="11997"/>
                </a:lnTo>
                <a:close/>
              </a:path>
              <a:path fill="darkenLess" w="21600" h="23993">
                <a:moveTo>
                  <a:pt x="13376" y="7645"/>
                </a:move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close/>
              </a:path>
              <a:path fill="darkenLess" w="21600" h="23993">
                <a:moveTo>
                  <a:pt x="9877" y="15496"/>
                </a:moveTo>
                <a:lnTo>
                  <a:pt x="11723" y="15496"/>
                </a:lnTo>
                <a:lnTo>
                  <a:pt x="11723" y="19186"/>
                </a:lnTo>
                <a:lnTo>
                  <a:pt x="16109" y="19186"/>
                </a:lnTo>
                <a:lnTo>
                  <a:pt x="16109" y="11997"/>
                </a:lnTo>
                <a:lnTo>
                  <a:pt x="5491" y="11997"/>
                </a:lnTo>
                <a:lnTo>
                  <a:pt x="5491" y="19186"/>
                </a:lnTo>
                <a:lnTo>
                  <a:pt x="9877" y="1918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Группа 31"/>
          <p:cNvGrpSpPr/>
          <p:nvPr/>
        </p:nvGrpSpPr>
        <p:grpSpPr>
          <a:xfrm>
            <a:off x="-1097280" y="3357720"/>
            <a:ext cx="10766520" cy="2738520"/>
            <a:chOff x="-1097280" y="3357720"/>
            <a:chExt cx="10766520" cy="2738520"/>
          </a:xfrm>
        </p:grpSpPr>
        <p:grpSp>
          <p:nvGrpSpPr>
            <p:cNvPr id="234" name="Прямоугольник 27"/>
            <p:cNvGrpSpPr/>
            <p:nvPr/>
          </p:nvGrpSpPr>
          <p:grpSpPr>
            <a:xfrm>
              <a:off x="-564840" y="3371040"/>
              <a:ext cx="1051200" cy="1289520"/>
              <a:chOff x="-564840" y="3371040"/>
              <a:chExt cx="1051200" cy="1289520"/>
            </a:xfrm>
          </p:grpSpPr>
          <p:pic>
            <p:nvPicPr>
              <p:cNvPr id="235" name="Прямоугольник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-564840" y="337104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 rot="7524000">
                <a:off x="-691200" y="390564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Прямоугольник 28"/>
            <p:cNvGrpSpPr/>
            <p:nvPr/>
          </p:nvGrpSpPr>
          <p:grpSpPr>
            <a:xfrm>
              <a:off x="252720" y="3490200"/>
              <a:ext cx="1045080" cy="1277640"/>
              <a:chOff x="252720" y="3490200"/>
              <a:chExt cx="1045080" cy="1277640"/>
            </a:xfrm>
          </p:grpSpPr>
          <p:pic>
            <p:nvPicPr>
              <p:cNvPr id="238" name="Прямоугольник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720" y="3490200"/>
                <a:ext cx="104508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 rot="7524000">
                <a:off x="124920" y="40186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Прямоугольник 29"/>
            <p:cNvGrpSpPr/>
            <p:nvPr/>
          </p:nvGrpSpPr>
          <p:grpSpPr>
            <a:xfrm>
              <a:off x="1064160" y="3597480"/>
              <a:ext cx="1051200" cy="1289520"/>
              <a:chOff x="1064160" y="3597480"/>
              <a:chExt cx="1051200" cy="1289520"/>
            </a:xfrm>
          </p:grpSpPr>
          <p:pic>
            <p:nvPicPr>
              <p:cNvPr id="241" name="Прямоугольник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4160" y="359748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 rot="7524000">
                <a:off x="937080" y="413208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Прямоугольник 30"/>
            <p:cNvGrpSpPr/>
            <p:nvPr/>
          </p:nvGrpSpPr>
          <p:grpSpPr>
            <a:xfrm>
              <a:off x="1882080" y="3717360"/>
              <a:ext cx="1045080" cy="1277640"/>
              <a:chOff x="1882080" y="3717360"/>
              <a:chExt cx="1045080" cy="1277640"/>
            </a:xfrm>
          </p:grpSpPr>
          <p:pic>
            <p:nvPicPr>
              <p:cNvPr id="244" name="Прямоугольник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882080" y="3717360"/>
                <a:ext cx="104508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 rot="7524000">
                <a:off x="1754280" y="42454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Прямоугольник 22"/>
            <p:cNvGrpSpPr/>
            <p:nvPr/>
          </p:nvGrpSpPr>
          <p:grpSpPr>
            <a:xfrm>
              <a:off x="2693880" y="3890160"/>
              <a:ext cx="1051200" cy="1277640"/>
              <a:chOff x="2693880" y="3890160"/>
              <a:chExt cx="1051200" cy="1277640"/>
            </a:xfrm>
          </p:grpSpPr>
          <p:pic>
            <p:nvPicPr>
              <p:cNvPr id="247" name="Прямоугольник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2693880" y="389016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 rot="7524000">
                <a:off x="2568960" y="441684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Прямоугольник 23"/>
            <p:cNvGrpSpPr/>
            <p:nvPr/>
          </p:nvGrpSpPr>
          <p:grpSpPr>
            <a:xfrm>
              <a:off x="3505320" y="3997800"/>
              <a:ext cx="1051200" cy="1289520"/>
              <a:chOff x="3505320" y="3997800"/>
              <a:chExt cx="1051200" cy="1289520"/>
            </a:xfrm>
          </p:grpSpPr>
          <p:pic>
            <p:nvPicPr>
              <p:cNvPr id="250" name="Прямоугольник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3505320" y="399780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7524000">
                <a:off x="3381120" y="453060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Прямоугольник 24"/>
            <p:cNvGrpSpPr/>
            <p:nvPr/>
          </p:nvGrpSpPr>
          <p:grpSpPr>
            <a:xfrm>
              <a:off x="4323240" y="4170600"/>
              <a:ext cx="1051200" cy="1277640"/>
              <a:chOff x="4323240" y="4170600"/>
              <a:chExt cx="1051200" cy="1277640"/>
            </a:xfrm>
          </p:grpSpPr>
          <p:pic>
            <p:nvPicPr>
              <p:cNvPr id="253" name="Прямоугольник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4323240" y="417060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 rot="7524000">
                <a:off x="4198320" y="469872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Прямоугольник 25"/>
            <p:cNvGrpSpPr/>
            <p:nvPr/>
          </p:nvGrpSpPr>
          <p:grpSpPr>
            <a:xfrm>
              <a:off x="5048640" y="4278240"/>
              <a:ext cx="1051200" cy="1289520"/>
              <a:chOff x="5048640" y="4278240"/>
              <a:chExt cx="1051200" cy="1289520"/>
            </a:xfrm>
          </p:grpSpPr>
          <p:pic>
            <p:nvPicPr>
              <p:cNvPr id="256" name="Прямоугольник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5048640" y="427824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 rot="7524000">
                <a:off x="4919760" y="481248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Прямоугольник 20"/>
            <p:cNvGrpSpPr/>
            <p:nvPr/>
          </p:nvGrpSpPr>
          <p:grpSpPr>
            <a:xfrm>
              <a:off x="5860440" y="4397760"/>
              <a:ext cx="1051200" cy="1277640"/>
              <a:chOff x="5860440" y="4397760"/>
              <a:chExt cx="1051200" cy="1277640"/>
            </a:xfrm>
          </p:grpSpPr>
          <p:pic>
            <p:nvPicPr>
              <p:cNvPr id="259" name="Прямоугольник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5860440" y="439776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7524000">
                <a:off x="5736960" y="492552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Прямоугольник 21"/>
            <p:cNvGrpSpPr/>
            <p:nvPr/>
          </p:nvGrpSpPr>
          <p:grpSpPr>
            <a:xfrm>
              <a:off x="6727320" y="4551840"/>
              <a:ext cx="1051200" cy="1277640"/>
              <a:chOff x="6727320" y="4551840"/>
              <a:chExt cx="1051200" cy="1277640"/>
            </a:xfrm>
          </p:grpSpPr>
          <p:pic>
            <p:nvPicPr>
              <p:cNvPr id="262" name="Прямоугольник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27320" y="455184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7524000">
                <a:off x="6604200" y="50788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Прямоугольник 19"/>
            <p:cNvGrpSpPr/>
            <p:nvPr/>
          </p:nvGrpSpPr>
          <p:grpSpPr>
            <a:xfrm>
              <a:off x="7551360" y="4699080"/>
              <a:ext cx="1051200" cy="1277640"/>
              <a:chOff x="7551360" y="4699080"/>
              <a:chExt cx="1051200" cy="1277640"/>
            </a:xfrm>
          </p:grpSpPr>
          <p:pic>
            <p:nvPicPr>
              <p:cNvPr id="265" name="Прямоугольник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51360" y="469908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 rot="7524000">
                <a:off x="7428240" y="522576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Прямоугольник 18"/>
            <p:cNvGrpSpPr/>
            <p:nvPr/>
          </p:nvGrpSpPr>
          <p:grpSpPr>
            <a:xfrm>
              <a:off x="8461440" y="4806720"/>
              <a:ext cx="1045080" cy="1289520"/>
              <a:chOff x="8461440" y="4806720"/>
              <a:chExt cx="1045080" cy="1289520"/>
            </a:xfrm>
          </p:grpSpPr>
          <p:pic>
            <p:nvPicPr>
              <p:cNvPr id="268" name="Прямоугольник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461440" y="4806720"/>
                <a:ext cx="104508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7524000">
                <a:off x="8331120" y="533952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Прямоугольник 17"/>
            <p:cNvGrpSpPr/>
            <p:nvPr/>
          </p:nvGrpSpPr>
          <p:grpSpPr>
            <a:xfrm>
              <a:off x="-651960" y="3357720"/>
              <a:ext cx="10321200" cy="2212200"/>
              <a:chOff x="-651960" y="3357720"/>
              <a:chExt cx="10321200" cy="2212200"/>
            </a:xfrm>
          </p:grpSpPr>
          <p:pic>
            <p:nvPicPr>
              <p:cNvPr id="271" name="Прямоугольник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-651960" y="3357720"/>
                <a:ext cx="10321200" cy="221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 rot="666600">
                <a:off x="-694080" y="4410720"/>
                <a:ext cx="1041012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Прямоугольник 16"/>
            <p:cNvGrpSpPr/>
            <p:nvPr/>
          </p:nvGrpSpPr>
          <p:grpSpPr>
            <a:xfrm>
              <a:off x="-1097280" y="3810960"/>
              <a:ext cx="10308960" cy="2212200"/>
              <a:chOff x="-1097280" y="3810960"/>
              <a:chExt cx="10308960" cy="2212200"/>
            </a:xfrm>
          </p:grpSpPr>
          <p:pic>
            <p:nvPicPr>
              <p:cNvPr id="274" name="Прямоугольник 16" descr=""/>
              <p:cNvPicPr/>
              <p:nvPr/>
            </p:nvPicPr>
            <p:blipFill>
              <a:blip r:embed="rId14"/>
              <a:stretch/>
            </p:blipFill>
            <p:spPr>
              <a:xfrm>
                <a:off x="-1097280" y="3810960"/>
                <a:ext cx="10308960" cy="221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 rot="666600">
                <a:off x="-1143000" y="4863600"/>
                <a:ext cx="1040400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6" name="Picture 6" descr="C:\Users\Mama\AppData\Local\Microsoft\Windows\Temporary Internet Files\Content.IE5\IR0II7RP\MCj03985290000[1].wmf"/>
          <p:cNvPicPr/>
          <p:nvPr/>
        </p:nvPicPr>
        <p:blipFill>
          <a:blip r:embed="rId15"/>
          <a:stretch/>
        </p:blipFill>
        <p:spPr>
          <a:xfrm flipH="1">
            <a:off x="-142920" y="2571840"/>
            <a:ext cx="2928960" cy="18698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2"/>
          <p:cNvSpPr/>
          <p:nvPr/>
        </p:nvSpPr>
        <p:spPr>
          <a:xfrm>
            <a:off x="285840" y="50004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йденный пу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3"/>
          <p:cNvSpPr/>
          <p:nvPr/>
        </p:nvSpPr>
        <p:spPr>
          <a:xfrm>
            <a:off x="3429000" y="4287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96b77"/>
                </a:solidFill>
                <a:latin typeface="Arial"/>
              </a:rPr>
              <a:t>16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4"/>
          <p:cNvSpPr/>
          <p:nvPr/>
        </p:nvSpPr>
        <p:spPr>
          <a:xfrm>
            <a:off x="285840" y="1785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6b77"/>
                </a:solidFill>
                <a:latin typeface="Arial"/>
              </a:rPr>
              <a:t>Скорость дв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5"/>
          <p:cNvSpPr/>
          <p:nvPr/>
        </p:nvSpPr>
        <p:spPr>
          <a:xfrm>
            <a:off x="3286080" y="100008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96b77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Управляющая кнопка: далее 36"/>
          <p:cNvSpPr/>
          <p:nvPr/>
        </p:nvSpPr>
        <p:spPr>
          <a:xfrm>
            <a:off x="928800" y="6143760"/>
            <a:ext cx="428400" cy="28548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правляющая кнопка: назад 37"/>
          <p:cNvSpPr/>
          <p:nvPr/>
        </p:nvSpPr>
        <p:spPr>
          <a:xfrm>
            <a:off x="357120" y="614376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2"/>
          <p:cNvSpPr/>
          <p:nvPr/>
        </p:nvSpPr>
        <p:spPr>
          <a:xfrm>
            <a:off x="285840" y="114300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 движен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34" descr="фломастре1.gif"/>
          <p:cNvPicPr/>
          <p:nvPr/>
        </p:nvPicPr>
        <p:blipFill>
          <a:blip r:embed="rId16"/>
          <a:stretch/>
        </p:blipFill>
        <p:spPr>
          <a:xfrm>
            <a:off x="8358120" y="1857240"/>
            <a:ext cx="566640" cy="525600"/>
          </a:xfrm>
          <a:prstGeom prst="rect">
            <a:avLst/>
          </a:prstGeom>
          <a:ln w="0">
            <a:noFill/>
          </a:ln>
        </p:spPr>
      </p:pic>
      <p:sp>
        <p:nvSpPr>
          <p:cNvPr id="285" name="Правая фигурная скобка 35"/>
          <p:cNvSpPr/>
          <p:nvPr/>
        </p:nvSpPr>
        <p:spPr>
          <a:xfrm rot="5981400">
            <a:off x="4215240" y="1389600"/>
            <a:ext cx="357120" cy="842004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8420040"/>
              <a:gd name="textAreaBottom" fmla="*/ 8411040 h 842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"/>
                  <a:pt x="10800" y="76"/>
                </a:cubicBezTo>
                <a:lnTo>
                  <a:pt x="10800" y="10724"/>
                </a:lnTo>
                <a:cubicBezTo>
                  <a:pt x="10800" y="10762"/>
                  <a:pt x="16200" y="10800"/>
                  <a:pt x="21600" y="10800"/>
                </a:cubicBezTo>
                <a:cubicBezTo>
                  <a:pt x="16200" y="10800"/>
                  <a:pt x="10800" y="10838"/>
                  <a:pt x="10800" y="10876"/>
                </a:cubicBezTo>
                <a:lnTo>
                  <a:pt x="10800" y="21524"/>
                </a:lnTo>
                <a:cubicBezTo>
                  <a:pt x="10800" y="2156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3"/>
          <p:cNvSpPr/>
          <p:nvPr/>
        </p:nvSpPr>
        <p:spPr>
          <a:xfrm>
            <a:off x="3643200" y="58579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Штриховая стрелка вправо 31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0.604 0.14629 E">
                                      <p:cBhvr>
                                        <p:cTn id="6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4 0.14629 L 0.00556 -0.0007 E">
                                      <p:cBhvr>
                                        <p:cTn id="22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378612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1"/>
          <p:cNvSpPr/>
          <p:nvPr/>
        </p:nvSpPr>
        <p:spPr>
          <a:xfrm>
            <a:off x="428760" y="1143000"/>
            <a:ext cx="5929200" cy="342900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сорвал с прохожего шляпу и покатил ее по тротуару. Прохожий побежал за н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сколько секун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огонит шляп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428760" y="1143000"/>
            <a:ext cx="5929200" cy="342900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НАЧНЕМ УР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428760" y="428760"/>
            <a:ext cx="5786280" cy="9284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рите ли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TextBox 2"/>
          <p:cNvGrpSpPr/>
          <p:nvPr/>
        </p:nvGrpSpPr>
        <p:grpSpPr>
          <a:xfrm>
            <a:off x="414360" y="2200320"/>
            <a:ext cx="1811160" cy="665280"/>
            <a:chOff x="414360" y="2200320"/>
            <a:chExt cx="1811160" cy="665280"/>
          </a:xfrm>
        </p:grpSpPr>
        <p:pic>
          <p:nvPicPr>
            <p:cNvPr id="294" name="TextBox 2" descr=""/>
            <p:cNvPicPr/>
            <p:nvPr/>
          </p:nvPicPr>
          <p:blipFill>
            <a:blip r:embed="rId1"/>
            <a:stretch/>
          </p:blipFill>
          <p:spPr>
            <a:xfrm>
              <a:off x="414360" y="2200320"/>
              <a:ext cx="18111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4"/>
            <p:cNvSpPr/>
            <p:nvPr/>
          </p:nvSpPr>
          <p:spPr>
            <a:xfrm>
              <a:off x="500040" y="22860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 +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TextBox 3"/>
          <p:cNvGrpSpPr/>
          <p:nvPr/>
        </p:nvGrpSpPr>
        <p:grpSpPr>
          <a:xfrm>
            <a:off x="2414520" y="2200320"/>
            <a:ext cx="1809720" cy="665280"/>
            <a:chOff x="2414520" y="2200320"/>
            <a:chExt cx="1809720" cy="665280"/>
          </a:xfrm>
        </p:grpSpPr>
        <p:pic>
          <p:nvPicPr>
            <p:cNvPr id="297" name="TextBox 3" descr=""/>
            <p:cNvPicPr/>
            <p:nvPr/>
          </p:nvPicPr>
          <p:blipFill>
            <a:blip r:embed="rId2"/>
            <a:stretch/>
          </p:blipFill>
          <p:spPr>
            <a:xfrm>
              <a:off x="2414520" y="2200320"/>
              <a:ext cx="18097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7"/>
            <p:cNvSpPr/>
            <p:nvPr/>
          </p:nvSpPr>
          <p:spPr>
            <a:xfrm>
              <a:off x="2500200" y="22860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 *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TextBox 4"/>
          <p:cNvGrpSpPr/>
          <p:nvPr/>
        </p:nvGrpSpPr>
        <p:grpSpPr>
          <a:xfrm>
            <a:off x="4413240" y="2200320"/>
            <a:ext cx="1811520" cy="665280"/>
            <a:chOff x="4413240" y="2200320"/>
            <a:chExt cx="1811520" cy="665280"/>
          </a:xfrm>
        </p:grpSpPr>
        <p:pic>
          <p:nvPicPr>
            <p:cNvPr id="300" name="TextBox 4" descr=""/>
            <p:cNvPicPr/>
            <p:nvPr/>
          </p:nvPicPr>
          <p:blipFill>
            <a:blip r:embed="rId3"/>
            <a:stretch/>
          </p:blipFill>
          <p:spPr>
            <a:xfrm>
              <a:off x="4413240" y="2200320"/>
              <a:ext cx="1811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0"/>
            <p:cNvSpPr/>
            <p:nvPr/>
          </p:nvSpPr>
          <p:spPr>
            <a:xfrm>
              <a:off x="4500720" y="22860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5 +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TextBox 5"/>
          <p:cNvGrpSpPr/>
          <p:nvPr/>
        </p:nvGrpSpPr>
        <p:grpSpPr>
          <a:xfrm>
            <a:off x="6413400" y="2200320"/>
            <a:ext cx="1809720" cy="665280"/>
            <a:chOff x="6413400" y="2200320"/>
            <a:chExt cx="1809720" cy="665280"/>
          </a:xfrm>
        </p:grpSpPr>
        <p:pic>
          <p:nvPicPr>
            <p:cNvPr id="303" name="TextBox 5" descr=""/>
            <p:cNvPicPr/>
            <p:nvPr/>
          </p:nvPicPr>
          <p:blipFill>
            <a:blip r:embed="rId4"/>
            <a:stretch/>
          </p:blipFill>
          <p:spPr>
            <a:xfrm>
              <a:off x="6413400" y="2200320"/>
              <a:ext cx="18097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3"/>
            <p:cNvSpPr/>
            <p:nvPr/>
          </p:nvSpPr>
          <p:spPr>
            <a:xfrm>
              <a:off x="6500880" y="22860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x + 3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TextBox 6"/>
          <p:cNvGrpSpPr/>
          <p:nvPr/>
        </p:nvGrpSpPr>
        <p:grpSpPr>
          <a:xfrm>
            <a:off x="2414520" y="2914560"/>
            <a:ext cx="1809720" cy="663840"/>
            <a:chOff x="2414520" y="2914560"/>
            <a:chExt cx="1809720" cy="663840"/>
          </a:xfrm>
        </p:grpSpPr>
        <p:pic>
          <p:nvPicPr>
            <p:cNvPr id="306" name="TextBox 6" descr=""/>
            <p:cNvPicPr/>
            <p:nvPr/>
          </p:nvPicPr>
          <p:blipFill>
            <a:blip r:embed="rId5"/>
            <a:stretch/>
          </p:blipFill>
          <p:spPr>
            <a:xfrm>
              <a:off x="2414520" y="2914560"/>
              <a:ext cx="180972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6"/>
            <p:cNvSpPr/>
            <p:nvPr/>
          </p:nvSpPr>
          <p:spPr>
            <a:xfrm>
              <a:off x="2500200" y="300024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*(a + 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TextBox 7"/>
          <p:cNvGrpSpPr/>
          <p:nvPr/>
        </p:nvGrpSpPr>
        <p:grpSpPr>
          <a:xfrm>
            <a:off x="4462560" y="2914560"/>
            <a:ext cx="1852560" cy="663840"/>
            <a:chOff x="4462560" y="2914560"/>
            <a:chExt cx="1852560" cy="663840"/>
          </a:xfrm>
        </p:grpSpPr>
        <p:pic>
          <p:nvPicPr>
            <p:cNvPr id="309" name="TextBox 7" descr=""/>
            <p:cNvPicPr/>
            <p:nvPr/>
          </p:nvPicPr>
          <p:blipFill>
            <a:blip r:embed="rId6"/>
            <a:stretch/>
          </p:blipFill>
          <p:spPr>
            <a:xfrm>
              <a:off x="4462560" y="2914560"/>
              <a:ext cx="185256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9"/>
            <p:cNvSpPr/>
            <p:nvPr/>
          </p:nvSpPr>
          <p:spPr>
            <a:xfrm>
              <a:off x="4572000" y="300024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x + y) :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TextBox 8"/>
          <p:cNvGrpSpPr/>
          <p:nvPr/>
        </p:nvGrpSpPr>
        <p:grpSpPr>
          <a:xfrm>
            <a:off x="407880" y="2914560"/>
            <a:ext cx="1817640" cy="663840"/>
            <a:chOff x="407880" y="2914560"/>
            <a:chExt cx="1817640" cy="663840"/>
          </a:xfrm>
        </p:grpSpPr>
        <p:pic>
          <p:nvPicPr>
            <p:cNvPr id="312" name="TextBox 8" descr=""/>
            <p:cNvPicPr/>
            <p:nvPr/>
          </p:nvPicPr>
          <p:blipFill>
            <a:blip r:embed="rId7"/>
            <a:stretch/>
          </p:blipFill>
          <p:spPr>
            <a:xfrm>
              <a:off x="407880" y="2914560"/>
              <a:ext cx="181764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22"/>
            <p:cNvSpPr/>
            <p:nvPr/>
          </p:nvSpPr>
          <p:spPr>
            <a:xfrm>
              <a:off x="500040" y="300024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: 3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–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7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TextBox 9"/>
          <p:cNvGrpSpPr/>
          <p:nvPr/>
        </p:nvGrpSpPr>
        <p:grpSpPr>
          <a:xfrm>
            <a:off x="6486480" y="2914560"/>
            <a:ext cx="1809720" cy="663840"/>
            <a:chOff x="6486480" y="2914560"/>
            <a:chExt cx="1809720" cy="663840"/>
          </a:xfrm>
        </p:grpSpPr>
        <p:pic>
          <p:nvPicPr>
            <p:cNvPr id="315" name="TextBox 9" descr=""/>
            <p:cNvPicPr/>
            <p:nvPr/>
          </p:nvPicPr>
          <p:blipFill>
            <a:blip r:embed="rId8"/>
            <a:stretch/>
          </p:blipFill>
          <p:spPr>
            <a:xfrm>
              <a:off x="6486480" y="2914560"/>
              <a:ext cx="180972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25"/>
            <p:cNvSpPr/>
            <p:nvPr/>
          </p:nvSpPr>
          <p:spPr>
            <a:xfrm>
              <a:off x="6572160" y="300024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 :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Штриховая стрелка вправо 10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1"/>
          <p:cNvSpPr/>
          <p:nvPr/>
        </p:nvSpPr>
        <p:spPr>
          <a:xfrm>
            <a:off x="428760" y="428760"/>
            <a:ext cx="5786280" cy="92844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Как называются эти выра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2"/>
          <p:cNvSpPr/>
          <p:nvPr/>
        </p:nvSpPr>
        <p:spPr>
          <a:xfrm>
            <a:off x="1930680" y="1571760"/>
            <a:ext cx="4876200" cy="520560"/>
          </a:xfrm>
          <a:prstGeom prst="rect">
            <a:avLst/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ВЫЕ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3"/>
          <p:cNvSpPr/>
          <p:nvPr/>
        </p:nvSpPr>
        <p:spPr>
          <a:xfrm>
            <a:off x="714960" y="5072040"/>
            <a:ext cx="5083560" cy="520560"/>
          </a:xfrm>
          <a:prstGeom prst="rect">
            <a:avLst/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Е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L -0.00312 0.51111 E">
                                      <p:cBhvr>
                                        <p:cTn id="39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31214E-007 L 0.00122 0.39607 E">
                                      <p:cBhvr>
                                        <p:cTn id="44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235728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1"/>
          <p:cNvSpPr/>
          <p:nvPr/>
        </p:nvSpPr>
        <p:spPr>
          <a:xfrm>
            <a:off x="857160" y="1214280"/>
            <a:ext cx="4000680" cy="2000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числовое 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Группа 31"/>
          <p:cNvGrpSpPr/>
          <p:nvPr/>
        </p:nvGrpSpPr>
        <p:grpSpPr>
          <a:xfrm>
            <a:off x="-1097280" y="3357720"/>
            <a:ext cx="10766520" cy="2738520"/>
            <a:chOff x="-1097280" y="3357720"/>
            <a:chExt cx="10766520" cy="2738520"/>
          </a:xfrm>
        </p:grpSpPr>
        <p:grpSp>
          <p:nvGrpSpPr>
            <p:cNvPr id="325" name="Прямоугольник 27"/>
            <p:cNvGrpSpPr/>
            <p:nvPr/>
          </p:nvGrpSpPr>
          <p:grpSpPr>
            <a:xfrm>
              <a:off x="-564840" y="3371040"/>
              <a:ext cx="1051200" cy="1289520"/>
              <a:chOff x="-564840" y="3371040"/>
              <a:chExt cx="1051200" cy="1289520"/>
            </a:xfrm>
          </p:grpSpPr>
          <p:pic>
            <p:nvPicPr>
              <p:cNvPr id="326" name="Прямоугольник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-564840" y="337104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 rot="7524000">
                <a:off x="-691200" y="390564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Прямоугольник 28"/>
            <p:cNvGrpSpPr/>
            <p:nvPr/>
          </p:nvGrpSpPr>
          <p:grpSpPr>
            <a:xfrm>
              <a:off x="252720" y="3490200"/>
              <a:ext cx="1045080" cy="1277640"/>
              <a:chOff x="252720" y="3490200"/>
              <a:chExt cx="1045080" cy="1277640"/>
            </a:xfrm>
          </p:grpSpPr>
          <p:pic>
            <p:nvPicPr>
              <p:cNvPr id="329" name="Прямоугольник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720" y="3490200"/>
                <a:ext cx="104508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 rot="7524000">
                <a:off x="124920" y="40186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Прямоугольник 29"/>
            <p:cNvGrpSpPr/>
            <p:nvPr/>
          </p:nvGrpSpPr>
          <p:grpSpPr>
            <a:xfrm>
              <a:off x="1064160" y="3597480"/>
              <a:ext cx="1051200" cy="1289520"/>
              <a:chOff x="1064160" y="3597480"/>
              <a:chExt cx="1051200" cy="1289520"/>
            </a:xfrm>
          </p:grpSpPr>
          <p:pic>
            <p:nvPicPr>
              <p:cNvPr id="332" name="Прямоугольник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4160" y="359748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 rot="7524000">
                <a:off x="937080" y="413208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Прямоугольник 30"/>
            <p:cNvGrpSpPr/>
            <p:nvPr/>
          </p:nvGrpSpPr>
          <p:grpSpPr>
            <a:xfrm>
              <a:off x="1882080" y="3717360"/>
              <a:ext cx="1045080" cy="1277640"/>
              <a:chOff x="1882080" y="3717360"/>
              <a:chExt cx="1045080" cy="1277640"/>
            </a:xfrm>
          </p:grpSpPr>
          <p:pic>
            <p:nvPicPr>
              <p:cNvPr id="335" name="Прямоугольник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882080" y="3717360"/>
                <a:ext cx="104508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 rot="7524000">
                <a:off x="1754280" y="42454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Прямоугольник 22"/>
            <p:cNvGrpSpPr/>
            <p:nvPr/>
          </p:nvGrpSpPr>
          <p:grpSpPr>
            <a:xfrm>
              <a:off x="2693880" y="3890160"/>
              <a:ext cx="1051200" cy="1277640"/>
              <a:chOff x="2693880" y="3890160"/>
              <a:chExt cx="1051200" cy="1277640"/>
            </a:xfrm>
          </p:grpSpPr>
          <p:pic>
            <p:nvPicPr>
              <p:cNvPr id="338" name="Прямоугольник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2693880" y="389016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 rot="7524000">
                <a:off x="2568960" y="441684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Прямоугольник 23"/>
            <p:cNvGrpSpPr/>
            <p:nvPr/>
          </p:nvGrpSpPr>
          <p:grpSpPr>
            <a:xfrm>
              <a:off x="3505320" y="3997800"/>
              <a:ext cx="1051200" cy="1289520"/>
              <a:chOff x="3505320" y="3997800"/>
              <a:chExt cx="1051200" cy="1289520"/>
            </a:xfrm>
          </p:grpSpPr>
          <p:pic>
            <p:nvPicPr>
              <p:cNvPr id="341" name="Прямоугольник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3505320" y="399780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 rot="7524000">
                <a:off x="3381120" y="453060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Прямоугольник 24"/>
            <p:cNvGrpSpPr/>
            <p:nvPr/>
          </p:nvGrpSpPr>
          <p:grpSpPr>
            <a:xfrm>
              <a:off x="4323240" y="4170600"/>
              <a:ext cx="1051200" cy="1277640"/>
              <a:chOff x="4323240" y="4170600"/>
              <a:chExt cx="1051200" cy="1277640"/>
            </a:xfrm>
          </p:grpSpPr>
          <p:pic>
            <p:nvPicPr>
              <p:cNvPr id="344" name="Прямоугольник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4323240" y="417060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 rot="7524000">
                <a:off x="4198320" y="469872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Прямоугольник 25"/>
            <p:cNvGrpSpPr/>
            <p:nvPr/>
          </p:nvGrpSpPr>
          <p:grpSpPr>
            <a:xfrm>
              <a:off x="5048640" y="4278240"/>
              <a:ext cx="1051200" cy="1289520"/>
              <a:chOff x="5048640" y="4278240"/>
              <a:chExt cx="1051200" cy="1289520"/>
            </a:xfrm>
          </p:grpSpPr>
          <p:pic>
            <p:nvPicPr>
              <p:cNvPr id="347" name="Прямоугольник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5048640" y="4278240"/>
                <a:ext cx="105120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 rot="7524000">
                <a:off x="4919760" y="481248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Прямоугольник 20"/>
            <p:cNvGrpSpPr/>
            <p:nvPr/>
          </p:nvGrpSpPr>
          <p:grpSpPr>
            <a:xfrm>
              <a:off x="5860440" y="4397760"/>
              <a:ext cx="1051200" cy="1277640"/>
              <a:chOff x="5860440" y="4397760"/>
              <a:chExt cx="1051200" cy="1277640"/>
            </a:xfrm>
          </p:grpSpPr>
          <p:pic>
            <p:nvPicPr>
              <p:cNvPr id="350" name="Прямоугольник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5860440" y="439776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 rot="7524000">
                <a:off x="5736960" y="492552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Прямоугольник 21"/>
            <p:cNvGrpSpPr/>
            <p:nvPr/>
          </p:nvGrpSpPr>
          <p:grpSpPr>
            <a:xfrm>
              <a:off x="6727320" y="4551840"/>
              <a:ext cx="1051200" cy="1277640"/>
              <a:chOff x="6727320" y="4551840"/>
              <a:chExt cx="1051200" cy="1277640"/>
            </a:xfrm>
          </p:grpSpPr>
          <p:pic>
            <p:nvPicPr>
              <p:cNvPr id="353" name="Прямоугольник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27320" y="455184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 rot="7524000">
                <a:off x="6604200" y="507888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Прямоугольник 19"/>
            <p:cNvGrpSpPr/>
            <p:nvPr/>
          </p:nvGrpSpPr>
          <p:grpSpPr>
            <a:xfrm>
              <a:off x="7551360" y="4699080"/>
              <a:ext cx="1051200" cy="1277640"/>
              <a:chOff x="7551360" y="4699080"/>
              <a:chExt cx="1051200" cy="1277640"/>
            </a:xfrm>
          </p:grpSpPr>
          <p:pic>
            <p:nvPicPr>
              <p:cNvPr id="356" name="Прямоугольник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51360" y="4699080"/>
                <a:ext cx="1051200" cy="12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 rot="7524000">
                <a:off x="7428240" y="5225760"/>
                <a:ext cx="13050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Прямоугольник 18"/>
            <p:cNvGrpSpPr/>
            <p:nvPr/>
          </p:nvGrpSpPr>
          <p:grpSpPr>
            <a:xfrm>
              <a:off x="8461440" y="4806720"/>
              <a:ext cx="1045080" cy="1289520"/>
              <a:chOff x="8461440" y="4806720"/>
              <a:chExt cx="1045080" cy="1289520"/>
            </a:xfrm>
          </p:grpSpPr>
          <p:pic>
            <p:nvPicPr>
              <p:cNvPr id="359" name="Прямоугольник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8461440" y="4806720"/>
                <a:ext cx="1045080" cy="128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7524000">
                <a:off x="8331120" y="5339520"/>
                <a:ext cx="131112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Прямоугольник 17"/>
            <p:cNvGrpSpPr/>
            <p:nvPr/>
          </p:nvGrpSpPr>
          <p:grpSpPr>
            <a:xfrm>
              <a:off x="-651960" y="3357720"/>
              <a:ext cx="10321200" cy="2212200"/>
              <a:chOff x="-651960" y="3357720"/>
              <a:chExt cx="10321200" cy="2212200"/>
            </a:xfrm>
          </p:grpSpPr>
          <p:pic>
            <p:nvPicPr>
              <p:cNvPr id="362" name="Прямоугольник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-651960" y="3357720"/>
                <a:ext cx="10321200" cy="221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rot="666600">
                <a:off x="-694080" y="4410720"/>
                <a:ext cx="1041012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Прямоугольник 16"/>
            <p:cNvGrpSpPr/>
            <p:nvPr/>
          </p:nvGrpSpPr>
          <p:grpSpPr>
            <a:xfrm>
              <a:off x="-1097280" y="3810960"/>
              <a:ext cx="10308960" cy="2212200"/>
              <a:chOff x="-1097280" y="3810960"/>
              <a:chExt cx="10308960" cy="2212200"/>
            </a:xfrm>
          </p:grpSpPr>
          <p:pic>
            <p:nvPicPr>
              <p:cNvPr id="365" name="Прямоугольник 16" descr=""/>
              <p:cNvPicPr/>
              <p:nvPr/>
            </p:nvPicPr>
            <p:blipFill>
              <a:blip r:embed="rId14"/>
              <a:stretch/>
            </p:blipFill>
            <p:spPr>
              <a:xfrm>
                <a:off x="-1097280" y="3810960"/>
                <a:ext cx="10308960" cy="221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 rot="666600">
                <a:off x="-1143000" y="4863600"/>
                <a:ext cx="1040400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7" name="Picture 6" descr="C:\Users\Mama\AppData\Local\Microsoft\Windows\Temporary Internet Files\Content.IE5\IR0II7RP\MCj03985290000[1].wmf"/>
          <p:cNvPicPr/>
          <p:nvPr/>
        </p:nvPicPr>
        <p:blipFill>
          <a:blip r:embed="rId15"/>
          <a:stretch/>
        </p:blipFill>
        <p:spPr>
          <a:xfrm flipH="1">
            <a:off x="-142920" y="2571840"/>
            <a:ext cx="2928960" cy="18698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32"/>
          <p:cNvSpPr/>
          <p:nvPr/>
        </p:nvSpPr>
        <p:spPr>
          <a:xfrm>
            <a:off x="285840" y="50004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йденный пу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33"/>
          <p:cNvSpPr/>
          <p:nvPr/>
        </p:nvSpPr>
        <p:spPr>
          <a:xfrm>
            <a:off x="3429000" y="4287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96b77"/>
                </a:solidFill>
                <a:latin typeface="Arial"/>
              </a:rPr>
              <a:t>18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4"/>
          <p:cNvSpPr/>
          <p:nvPr/>
        </p:nvSpPr>
        <p:spPr>
          <a:xfrm>
            <a:off x="285840" y="17859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6b77"/>
                </a:solidFill>
                <a:latin typeface="Arial"/>
              </a:rPr>
              <a:t>Время дв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35"/>
          <p:cNvSpPr/>
          <p:nvPr/>
        </p:nvSpPr>
        <p:spPr>
          <a:xfrm>
            <a:off x="3714840" y="1000080"/>
            <a:ext cx="19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96b77"/>
                </a:solidFill>
                <a:latin typeface="Arial"/>
              </a:rPr>
              <a:t>6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м/ч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Управляющая кнопка: далее 36"/>
          <p:cNvSpPr/>
          <p:nvPr/>
        </p:nvSpPr>
        <p:spPr>
          <a:xfrm>
            <a:off x="928800" y="6143760"/>
            <a:ext cx="428400" cy="28548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Управляющая кнопка: назад 37"/>
          <p:cNvSpPr/>
          <p:nvPr/>
        </p:nvSpPr>
        <p:spPr>
          <a:xfrm>
            <a:off x="357120" y="614376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2"/>
          <p:cNvSpPr/>
          <p:nvPr/>
        </p:nvSpPr>
        <p:spPr>
          <a:xfrm>
            <a:off x="285840" y="11430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сть движен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34" descr="фломастре1.gif"/>
          <p:cNvPicPr/>
          <p:nvPr/>
        </p:nvPicPr>
        <p:blipFill>
          <a:blip r:embed="rId16"/>
          <a:stretch/>
        </p:blipFill>
        <p:spPr>
          <a:xfrm>
            <a:off x="8286840" y="1928880"/>
            <a:ext cx="566640" cy="525240"/>
          </a:xfrm>
          <a:prstGeom prst="rect">
            <a:avLst/>
          </a:prstGeom>
          <a:ln w="0">
            <a:noFill/>
          </a:ln>
        </p:spPr>
      </p:pic>
      <p:sp>
        <p:nvSpPr>
          <p:cNvPr id="376" name="Правая фигурная скобка 35"/>
          <p:cNvSpPr/>
          <p:nvPr/>
        </p:nvSpPr>
        <p:spPr>
          <a:xfrm rot="5981400">
            <a:off x="4215240" y="1389600"/>
            <a:ext cx="357120" cy="842004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8420040"/>
              <a:gd name="textAreaBottom" fmla="*/ 8411040 h 842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"/>
                  <a:pt x="10800" y="76"/>
                </a:cubicBezTo>
                <a:lnTo>
                  <a:pt x="10800" y="10724"/>
                </a:lnTo>
                <a:cubicBezTo>
                  <a:pt x="10800" y="10762"/>
                  <a:pt x="16200" y="10800"/>
                  <a:pt x="21600" y="10800"/>
                </a:cubicBezTo>
                <a:cubicBezTo>
                  <a:pt x="16200" y="10800"/>
                  <a:pt x="10800" y="10838"/>
                  <a:pt x="10800" y="10876"/>
                </a:cubicBezTo>
                <a:lnTo>
                  <a:pt x="10800" y="21524"/>
                </a:lnTo>
                <a:cubicBezTo>
                  <a:pt x="10800" y="2156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3643200" y="58579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Штриховая стрелка вправо 31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0.604 0.14629 E">
                                      <p:cBhvr>
                                        <p:cTn id="70" dur="3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4 0.14629 L 0.00556 -0.0007 E">
                                      <p:cBhvr>
                                        <p:cTn id="86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32" descr="Рисунок1.gif"/>
          <p:cNvPicPr/>
          <p:nvPr/>
        </p:nvPicPr>
        <p:blipFill>
          <a:blip r:embed="rId1"/>
          <a:stretch/>
        </p:blipFill>
        <p:spPr>
          <a:xfrm>
            <a:off x="401760" y="2749680"/>
            <a:ext cx="8308800" cy="30715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34"/>
          <p:cNvSpPr/>
          <p:nvPr/>
        </p:nvSpPr>
        <p:spPr>
          <a:xfrm>
            <a:off x="2071800" y="1214280"/>
            <a:ext cx="4572000" cy="1008360"/>
          </a:xfrm>
          <a:prstGeom prst="rect">
            <a:avLst/>
          </a:prstGeom>
          <a:solidFill>
            <a:srgbClr val="c1985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У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38"/>
          <p:cNvSpPr/>
          <p:nvPr/>
        </p:nvSpPr>
        <p:spPr>
          <a:xfrm>
            <a:off x="1643040" y="1143000"/>
            <a:ext cx="5572080" cy="114300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ре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Штриховая стрелка вправо 4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3500280" y="57168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"/>
          <p:cNvSpPr/>
          <p:nvPr/>
        </p:nvSpPr>
        <p:spPr>
          <a:xfrm>
            <a:off x="714240" y="1071720"/>
            <a:ext cx="5214960" cy="3071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ФОРМУЛ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уквенное выражение или равенство, показывающее зависимость между велич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714240" y="1071720"/>
            <a:ext cx="5214960" cy="307152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та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ФОРМУ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Штриховая стрелка вправо 5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C:\Users\Mama\AppData\Local\Microsoft\Windows\Temporary Internet Files\Content.IE5\44C5K45D\MPj04394640000[1].jpg"/>
          <p:cNvPicPr/>
          <p:nvPr/>
        </p:nvPicPr>
        <p:blipFill>
          <a:blip r:embed="rId1"/>
          <a:stretch/>
        </p:blipFill>
        <p:spPr>
          <a:xfrm>
            <a:off x="3786120" y="428760"/>
            <a:ext cx="4786560" cy="596880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1"/>
          <p:cNvSpPr/>
          <p:nvPr/>
        </p:nvSpPr>
        <p:spPr>
          <a:xfrm>
            <a:off x="428760" y="1143000"/>
            <a:ext cx="5929200" cy="42861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0" y="0"/>
            <a:ext cx="571680" cy="35712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7"/>
          <p:cNvSpPr/>
          <p:nvPr/>
        </p:nvSpPr>
        <p:spPr>
          <a:xfrm>
            <a:off x="618480" y="2313000"/>
            <a:ext cx="2721240" cy="520560"/>
          </a:xfrm>
          <a:prstGeom prst="rect">
            <a:avLst/>
          </a:prstGeom>
          <a:solidFill>
            <a:srgbClr val="ffffff"/>
          </a:solidFill>
          <a:ln w="42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Прямоугольник 5"/>
          <p:cNvGrpSpPr/>
          <p:nvPr/>
        </p:nvGrpSpPr>
        <p:grpSpPr>
          <a:xfrm>
            <a:off x="3213000" y="1994040"/>
            <a:ext cx="3108600" cy="1120680"/>
            <a:chOff x="3213000" y="1994040"/>
            <a:chExt cx="3108600" cy="1120680"/>
          </a:xfrm>
        </p:grpSpPr>
        <p:pic>
          <p:nvPicPr>
            <p:cNvPr id="392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213000" y="1994040"/>
              <a:ext cx="31086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7"/>
            <p:cNvSpPr/>
            <p:nvPr/>
          </p:nvSpPr>
          <p:spPr>
            <a:xfrm>
              <a:off x="3574440" y="2170080"/>
              <a:ext cx="242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 = V * 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Прямоугольник 8"/>
          <p:cNvSpPr/>
          <p:nvPr/>
        </p:nvSpPr>
        <p:spPr>
          <a:xfrm>
            <a:off x="743400" y="3313080"/>
            <a:ext cx="1460880" cy="520560"/>
          </a:xfrm>
          <a:prstGeom prst="rect">
            <a:avLst/>
          </a:prstGeom>
          <a:solidFill>
            <a:srgbClr val="ffffff"/>
          </a:solidFill>
          <a:ln w="42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Прямоугольник 9"/>
          <p:cNvGrpSpPr/>
          <p:nvPr/>
        </p:nvGrpSpPr>
        <p:grpSpPr>
          <a:xfrm>
            <a:off x="3303720" y="3067200"/>
            <a:ext cx="3024000" cy="1120680"/>
            <a:chOff x="3303720" y="3067200"/>
            <a:chExt cx="3024000" cy="1120680"/>
          </a:xfrm>
        </p:grpSpPr>
        <p:pic>
          <p:nvPicPr>
            <p:cNvPr id="39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3303720" y="3067200"/>
              <a:ext cx="30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11"/>
            <p:cNvSpPr/>
            <p:nvPr/>
          </p:nvSpPr>
          <p:spPr>
            <a:xfrm>
              <a:off x="3670560" y="3241800"/>
              <a:ext cx="232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 = S : V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Прямоугольник 10"/>
          <p:cNvSpPr/>
          <p:nvPr/>
        </p:nvSpPr>
        <p:spPr>
          <a:xfrm>
            <a:off x="744480" y="4527720"/>
            <a:ext cx="2189160" cy="520560"/>
          </a:xfrm>
          <a:prstGeom prst="rect">
            <a:avLst/>
          </a:prstGeom>
          <a:solidFill>
            <a:srgbClr val="ffffff"/>
          </a:solidFill>
          <a:ln w="42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Прямоугольник 11"/>
          <p:cNvGrpSpPr/>
          <p:nvPr/>
        </p:nvGrpSpPr>
        <p:grpSpPr>
          <a:xfrm>
            <a:off x="3303720" y="4280040"/>
            <a:ext cx="3017880" cy="1120680"/>
            <a:chOff x="3303720" y="4280040"/>
            <a:chExt cx="3017880" cy="1120680"/>
          </a:xfrm>
        </p:grpSpPr>
        <p:pic>
          <p:nvPicPr>
            <p:cNvPr id="400" name="Прямоугольник 11" descr=""/>
            <p:cNvPicPr/>
            <p:nvPr/>
          </p:nvPicPr>
          <p:blipFill>
            <a:blip r:embed="rId4"/>
            <a:stretch/>
          </p:blipFill>
          <p:spPr>
            <a:xfrm>
              <a:off x="3303720" y="4280040"/>
              <a:ext cx="30178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15"/>
            <p:cNvSpPr/>
            <p:nvPr/>
          </p:nvSpPr>
          <p:spPr>
            <a:xfrm>
              <a:off x="3670560" y="4456080"/>
              <a:ext cx="232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</a:t>
              </a: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 : 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Прямоугольник 14"/>
          <p:cNvSpPr/>
          <p:nvPr/>
        </p:nvSpPr>
        <p:spPr>
          <a:xfrm>
            <a:off x="1220040" y="1214280"/>
            <a:ext cx="20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15" descr="вопрос.gif"/>
          <p:cNvPicPr/>
          <p:nvPr/>
        </p:nvPicPr>
        <p:blipFill>
          <a:blip r:embed="rId5"/>
          <a:stretch/>
        </p:blipFill>
        <p:spPr>
          <a:xfrm>
            <a:off x="428760" y="11430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2"/>
          <p:cNvSpPr/>
          <p:nvPr/>
        </p:nvSpPr>
        <p:spPr>
          <a:xfrm>
            <a:off x="428760" y="1143000"/>
            <a:ext cx="5929200" cy="428616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ПРОВЕР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КАК ВЫ ПОНЯЛИ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6:09:52Z</dcterms:created>
  <dc:creator>Mama</dc:creator>
  <dc:description/>
  <dc:language>en-US</dc:language>
  <cp:lastModifiedBy>Ученик</cp:lastModifiedBy>
  <dcterms:modified xsi:type="dcterms:W3CDTF">2012-03-28T12:05:03Z</dcterms:modified>
  <cp:revision>52</cp:revision>
  <dc:subject/>
  <dc:title>Слайд 1</dc:title>
</cp:coreProperties>
</file>