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4C7-6D06-4E5F-A28C-E82BD67D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B8D-8803-4606-8B6F-89449AA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D7E-C123-43C3-BA3E-D2E4F51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23D-C621-4883-9D04-626763B4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409-8ED7-493A-9A63-17ED5583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7B6-121C-4DA6-AE74-679F53B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61A-D446-4A6C-AD29-98D6E56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F2A2-3D77-44F4-8445-423F051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D582-6B17-4676-9BAA-026F2E2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A6A-1704-4DFF-AD1D-3E8D9CE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CE2-FB5E-4F91-8CA1-4F1AE25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9AB-3568-4324-9618-E8D5D2D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3A8B-B76A-44AE-9EDE-26F3F8A7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BB6-C3CB-4FBC-8B0A-0C1A67E3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A36-D727-4395-9768-33B0D609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8975-9D72-4411-ABF3-5577117B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25ED-436B-49EE-B54D-E492DECE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55F-D6DB-435E-9FEB-E3592676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9DC-78CD-4764-88E0-DF25DE3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193-0BD4-4748-89CF-3696A9F7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37B-9B6E-4DD0-9EA2-82B9EB0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63C-FF8E-4304-B30C-574C989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889-E9FC-45F3-B26B-4F25CBA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346-0849-412E-821E-11A1231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494-8367-456A-9A83-E386EB3274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08FB-DC56-486B-A68E-A1F1BF1F2A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Повторение грамматики и других разделов русского языка в 9-11 классах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забыли – вспоминаем, чего не знаем – учи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Тире в  БСП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25360"/>
          <a:ext cx="8229600" cy="561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ухой треск ракетницы – и в небе вспыхнуло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СП , в котором передаётся быстрая смена событий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Биденко несколько раз заговаривал с мальчиком, но Ваня упорно молчал .( ССП с противопоставлением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аздался сухой треск ракетницы – в небе вспыхнули два зелёных огня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БСП - быстрая смена событий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Биденко несколько раз заговаривал с мальчиком – Ваня упорно молчал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СП Противопоставление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Тире в БСП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2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2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гда приехали на станцию, солнце уже садилось. ( СПП с придаточным времени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Засмеётся, точно колокольчик прозвенит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П с придаточным сравнительным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риехали на станцию – солнце уже садилось. (Временные отношения между частями БСП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Засмеётся – колокольчик прозвени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сравнительные отношения между частями в БСП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тренируемс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ые разнообразные предметы быта многие художники изображали и на картинах бытового жанра и 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сторических полотнах такие подробности помогают представить повседневную жизнь наших пред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амые разнообразные предметы быта многие художники изображали и на картинах бытового жанра, и на исторических полотнах: такие подробности помогают представить повседневную жизнь наших пред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пятая при однородных членах с повторяющимся союзом 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воеточие, т.к. вторая часть указывает на причин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тренируемс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природой Алексей жил одной жизнью он понимал и журчанье ручья и говор листвы и шёпот тра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.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природой Алексей жил одной жизнью: он понимал и журчанье ручья, и говор листвы, и шёпот тра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воеточие, т. к. второе  поясняет, раскрывает содержание первого, возможна подстановка слов: ТО ЕСТЬ, А ИМЕННО. Запятая при однородных членах с повторяющимся союзом 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тренируемс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В тесноте надышали с окошек лило ручь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Увидишься с Горьким поговори 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Делу время потехе ч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 тесноте надышали –  с окошек лило.  (= ТАК ЧТО с окошек лило). Выв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Увидишься с Горьким – поговори с ним.  (Возможна подстановка в 1 ч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, КОГД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Делу время  - потехе час.( Возможна подстановка  А, здесь сопоставление сообщений 1 и 2 часте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Способы оформления цитат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 виде прямой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В виде косвенной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В качестве предложения с вводными сло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Отдельными словами и словосочетани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Бессоюзным сложным предложени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имеры цитирова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.И. Писарев писал: « Красота языка заключается  в его ясности и выразительности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. И. Писарев писал, что красота языка заключается в его ясности и вырази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.И. Писарев писал: красота языка в его ясности и вырази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овторение синтаксиса и пунктуации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Знаки препинания в простом и сложном предлож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Знаки препинания в бессоюзном сложном предлож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Способы оформления цитат и знаки препинания при цитиров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Односоставные предложения и их ви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Вводные конструкции и знаки препинания при 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Определения согласованные и несогласованные и их обособ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имеры цитирова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цитата приводится не полностью, то пропуск обозначается многоточием, которое ставится после открывающихся кавыче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лстой писал: «… в искусстве простота, краткость и ясность есть высшее совершенство формы искусства, которая достигается только при большом даровании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имеры цитирова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ередине цитаты ставится многоточие, если пропущена часть текста внутри её, и после цитаты, когда цитируемое предложение приводится не до конц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воря о достоинствах народной поэзии, А.Фадеев напоминал « Не случайно наши классики…рекомендовали читать сказки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 точка  в конце предложения не ставится, так как  цитата в последнем предложении является самостоятельным предложение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имеры цитирова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мнению Д.И. Писарева, « мы были бы очень умными и счастливыми людьми, если бы многие истины…перестали быть для нас мёртвыми и избитыми фразами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Не заключаются в кавычки эпиграфы и цитаты - стихи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.И. Тютчев даёт совет читателю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шь жить в себе самом умей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ть целый мир в душе тво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инственно – волшебных ду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х оглушит наружный ум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.И.Тютчев даёт совет читателю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Лишь жить в себе самом умей -// Есть целый мир в душе твоей// Таинственно- волшебных дум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имеры цитирова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ли цитата не является самостоятельным предложением, точка стави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.В.Ломоносов писал, что «красота, великолепие и богатство российского языка явствует довольно из книг…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р цитирования словосочетания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рифметику Магницкого и грамматику Смотрицкого Ломоносов назвал «вратами своей учёност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дносоставные предложе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отличает односоставные от двусоставны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односоставных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равило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односоставных предложениях присутствует один главный член: либо подлежащее, либо сказуем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двусоставном предложении присутствуют оба главных члена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односостав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ённо -личные, неопределённо -личные, безличные, назывные, обобщённо –лич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роверьте себя, дополнив своими примерами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носоставные с одним главным членом – подлежащ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зывные(Рассвет. Мороз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одним главным членом – сказуемы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ённо – личные( Жду от тебя известий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определённо – личные (В дверь постучали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зличные  ( Мне нездоровится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общённо – личные ( Тише едешь – дальше будешь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Значение вводных слов, словосочетаний, предложений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ношение говорящего к сообщаем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уверенность, неуверенность) –думаю, разумеется, бесспорно, безусловн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личные чувства ( радость, сожаление, сомнение ит.д.) – к счастью, к несчастью, на рад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точник высказывания – по словам того – то, как говорят в народе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рядок мыслей, связь: во- первых, во- вторых; таким образом; итак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утные замечания или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Знаки при вводных конструкциях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) Запяты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ямо скажем, мы не желаем иметь с вами дел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)Тире или скобки (они вводят добавочные замечан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днажды - не помню почему - спектакля не был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лодия белорусской песни (если вы её не слышали) несколько своеобраз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водные конструкции можно всегда изъять, предложение в смысловом значении сохранит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Garamond"/>
              </a:rPr>
              <a:t>Чем отличаются данные предложения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лака рассеялись, и на тёмно-синем небе показались звёз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лака рассеялись, и, ласково мигая, на тёмно-синем небе показались звёз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лака рассеялись, на тёмно-синем небе показались звёз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лака  рассеялись; ласково мигая, на тёмно-синем небе показались звёз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Необходимо отличать вводные слова от членов предложен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ё казалось просто слажен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ё , казалось, уже слаже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чём различие функций одного и того же слова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ЗАЛОС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Расставьте правильно знаки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крестные горы к моему сожалению были лишены древесной расти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этот момент к моему сожалению прибавилось и чувство разоча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варианте правильно указаны знаки препинан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уд писателя – мука, но он же (1)конечно(2) и счастье. Писатель никогда не свободен, не знает полного отдыха; он и счастлив и несчастлив своим трудом в минуту, когда(3)кажется(4) и не думает о нё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1,2    2)1,3    3)3,4    4)1,2,3,4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Найдите правильное объяснение знаков препинан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небе появились сизые тучи и повеяло сыр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) предложение с однородными членами, запятая не нуж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) сложносочинённое предложение, перед И запятая не нуж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3)предложение с однородными членами, перед И нужна запят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4) сложносочинённое предложение, перед И нужна запят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пределение. Виды определений.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55" name="_s130061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30060"/>
            <p:cNvCxnSpPr>
              <a:stCxn id="159" idx="0"/>
              <a:endCxn id="157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30059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30055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предел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30056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гласован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30057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акой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ей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30058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согласован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Учимся различать согласованные и несогласованные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Способы выражения согласов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имя прилагательное (полно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причастие( полно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порядковое числ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местоимения, которые склоняются как прилагате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Способы выра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Несогласованных опреде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существительное или местоимение в косвенном падеж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 словосочет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 прилаг.+ сущ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 простая сравн. степень прилага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нареч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глагол в инфинити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Обособление согласованных определений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После определяемого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причастные обор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прилагательные с зависимыми сл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несколько однородных определений, если есть интонационное обособ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еред определяемым словом есть ещё одно о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Перед определяемым сло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частные обороты и прилагательные с зависимыми словами, если имеют добавочное значение( уступки или причин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Материал для наблюде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Человек,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 помнящий прошл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шает себя буду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На окне,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еребряном от ине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цвели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чь,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блачная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уманная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кутал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Весен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,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есёлый и беспут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ходил повсю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частный оборот стоит после определяемого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Прилагательное с зависимыми словами стоит после определяемого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Два однородных определеоия (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об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Перед определяемым словом есть ещё одно 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тренируемс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Внешний вид рощи влажной от дождя постоянно менял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Повторяемый эхом ребяческий крик гремит с утра и до ночи по ле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Мне нравится его речь простая и эмоциональ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Вытащенные на берег рыбачьи лодки образовали на песке длинный ряд тёмных ки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Обессиленный мыслью о парусе дедушка впадал в забыт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Внешний вид рощи, влажной от дождя, постоянно менял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Повторяемый эхом ребяческий крик гремит с утра и до ночи по ле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Мне нравится его речь, простая и эмоциональ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Вытащенные на берег рыбачьи лод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разовали на песке длинный ряд тёмных ки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Обессиленный мыслью о парусе, дедушка впадал в забыть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Вывод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между простыми предложениями в сложном может быть вставлен соединительный союз, а его нет – ставится запятая или точка с запя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Запомните!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особляются независимо от места по отношению к определяемому слову любые определения, если определяемое сло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вляется ЛИЧНЫМ МЕСТОИМ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Несогласованные определе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Обособля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вязаны сочинительной связью с согласованным определе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башка,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бел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в чёрную полос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дела на нём неплох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Не обязательно обособля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сли несогласованное определение стоит перед согласован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жали школьники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в форменных костюмчик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умытые, краснощё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тренируемс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сенний день с ярким солнцем звенящими капелями был наполнен рад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сь в солнечных пятнах яблоневый сад спускался по склону хол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валенках с длинной белой бородой он походил на рождественского де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Весенний</a:t>
            </a:r>
            <a:r>
              <a:rPr b="0" lang="en-US" sz="30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нь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, с ярким солнцем,</a:t>
            </a:r>
            <a:r>
              <a:rPr b="0" lang="en-US" sz="30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звенящими капелями</a:t>
            </a:r>
            <a:r>
              <a:rPr b="0" lang="en-US" sz="3000" spc="-1" strike="noStrike">
                <a:solidFill>
                  <a:srgbClr val="999933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ыл наполнен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достью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Весь в солнечных пятна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яблоневый сад спускался по склону хол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В валенка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с длинной белой бород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он походил на рождественского де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вторим орфографию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Словарны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Правописание приста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Грамматические формы словоупотреб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 Фонети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 Состав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 Н и НН в разных частях реч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. Проверяемые, непроверяемые, чередующиеся   безударные гласные в корн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 НЕ с разными частями реч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. Гласные в суффиксах и окончаниях глаголов и причас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. Гласные О и Ё после шипящих в корн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роверьте словарные слова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бонемент, аккомпанемент, актёр, ансамбль, аплодировать, афиша, бенефис, грим, галерея, декорация, диалог, драма, комедия, композитор, овация, программа, пьеса, режиссёр, реплика, сеанс, сцена, труппа, экр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Назовите с</a:t>
            </a:r>
            <a:r>
              <a:rPr b="0" lang="en-US" sz="29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лова с приставками, объясните их правописание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ставка,рассказчик, исчезать, предположение, воспаление, сделать, беспокойный, здание, здоровье, вписать, бесчувственный, низвергаться, расстилаться, превосходный, прикры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 дверь) , приморский пляж, преодоле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грады, прибывать к станции, пребывать на вокза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оставьте существительные в именительном падеж мн. ч.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ректор, доктор, профессор, сторож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тер, китель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поль, ордер, отпуск, бухгалтер, инженер, торт, шофёр, редактор, лектор, офиц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ректора, доктора, профессора, сторожа, катера, кители, тополя, ордера, отпуска, бухгалтеры, инженеры, торты, шоферы, редакторы, лекторы,  офиц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оставьте существительные в форму Р. п. мн. числа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ельсины, помидоры, граммы, носки, чулки, ботинки, метры, гектары, башкиры, цыгане, оладьи, мандарины, судьи, блюдца, яблоки, кольца, ружьё, полотенца, места, дела. облака, стёк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Garamond"/>
              </a:rPr>
              <a:t>Когда ставится запятая,  а когда точка с запятой в БСП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) Заря разгоралась, вот уж золотые полосы протянулись по неб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) Заря разгоралась; подул предрассветный ветер; жаворонки звонко запели и своим пением, казалось, приветствовали наступление  ут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 1) БСП предложения связаны по смыслу, мало распространены, внутри них нет своих зна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 2) БСП простые предложения менее связаны по смыслу, объединены тематически, более распространены  (однородные члены и вводное слово), имеются запяты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 БСП передаётся последовательность и одновремённост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влений. Интонация перечисления, есть пауз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ельсинов, помидоров, граммов, носков, чулок, ботинок, метров, гектаров, башкир, цыган, оладий, мандаринов, судей, блюдец, яблок, колец, ружей, полотенец, мест, дел, облаков, стёк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слове количество букв и звуков совпадает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груст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слыши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метк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буль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ышится 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Укажите правильное продолжение предложен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Начав заниматься музы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у вас остаётся мало времени для развле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) в значительной степени развиваются творческие 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3) у меня появилось много интересных знако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4) я познакомился с нотной грамо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Проверьте себя. </a:t>
            </a:r>
            <a:br>
              <a:rPr sz="3800"/>
            </a:b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чав заниматься музыкой, я познакомился с нотной грамо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стройте данное предложение в предло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В простое с однородными членам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В сложное пред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слове нет суффикса</a:t>
            </a:r>
            <a:br>
              <a:rPr sz="3800"/>
            </a:b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-ЩИК- ? 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табель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кровель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подле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мусор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лещи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из вариантов правильно указано, где пишется НН 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тари(1)у лук был грозным оружие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лё(2)ая стрела, пуще(3)ая рукой опытного стрелка, могла пронзить толсте(4)ую стен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1,2,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2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3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в слове пущенная и толстенная- НН, а в слове калёная Н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помните правила, обратившись к материалу учеб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ряду пропущена проверяемая гласная в корне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пом..гать, д..кумент, безотл..гательны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изл..жение, д..рижировать, д..лёка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в..новатый ,пов..р, вбл..з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акв..рельный, з..ря, ук..рот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Вывод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отличие от запятой  точка с запятой  ставится в тех случаях, если простые предложения, связанные тематически, сообщают о явлениях, менее связанных по смыслу, они более распространены  (однородными членами, причастиями, деепричастиями, зависимыми словами) и в них есть запят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ставьте правильно ударение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гент, досыта, инструмент, красивее, обеспечение, партер, процент, планер, средства, столяр, хвоя, цемент, центнер, щав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Ент, дОсыта, досЫта, инструмЕнт, красИвее, обеспЕчение, партЕр, процЕнт, плАнер, планЁр, срЕдства. столЯр, хвОя, цемЕнт, цЕнтнер, щав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ряду в обоих словах пишется И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разобид..шься, высуш..нны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наде..шься, раскле..вш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услыш..шь, просе..нны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брос..шь, вид..м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В каком предложении НЕ со словом пишется слитно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Почти (не)умолкая, галдели воробьи и соро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Исчезнуть Васильева заставили причины, следствием (не)установлен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Претензии до сих пор (не)высказа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Фильм оказался (не)интересным, скуч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Garamond"/>
              </a:rPr>
              <a:t>НЕ с разными частями речи</a:t>
            </a:r>
            <a:endParaRPr b="0" lang="en-US" sz="29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95280" y="1052640"/>
          <a:ext cx="8291520" cy="466560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ре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зд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лит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 и деепричас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и всегда разд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не употребляются без Н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ас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С кратки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При полном, если есть зависимые сло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При полном есть противопост. с союзом 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причастие без НЕ не употребляет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ое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атель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Если есть противопоставление с союзом 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Если есть специальные сло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еко НЕ нисколько НЕ Ничуть НЕ вовсе Н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Если слово не употребляется без Н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если возможно заменить синонимом без Н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НЕ  в местоимениях - под ударением, НИ – без ударен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19280" y="1628640"/>
          <a:ext cx="6161040" cy="4476960"/>
        </p:xfrm>
        <a:graphic>
          <a:graphicData uri="http://schemas.openxmlformats.org/drawingml/2006/table">
            <a:tbl>
              <a:tblPr/>
              <a:tblGrid>
                <a:gridCol w="2778120"/>
                <a:gridCol w="338292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с НЕ и 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с НЕ и 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нет предлога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т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есть предлог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 к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 ч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 ч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 че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для ч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для ч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Укажите, где НЕ пишется раздельно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(Не)успевшие отцвести лесные цветы поблек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Я увидел ( не)похожего на брата седоватого мужчин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) В играх Серёжа оказался очень (не) ловки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) (Не) доумевая , Петя посмотрел на от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Запишите предложения, прокомментируйте.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(Н..)чем (н..)чего (не) сделае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Обидеть – то каждый может, а пожалеть – то (не)к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Любят того, кто (не) обидит (н..)ко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(Н..) (с)кого спрашивать, когда сам винова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) Родную мать (н..)кем (не) замени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овторяем чередующиеся гласные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л..ниться над руч..ём, ск..кать (в)доль дороги, заг..рать на берегу, оз..рить со..нцем,пр..кл..няться перед кем(нибудь),изл..жить про(с,з)ьбу, обм..кнуть в краску, расст..лить скатерть,  уд..рать без оглядки,зам..рает от восторга, нач..нает изд..лека, создать отр..сль, выт..щить р..сток, зар..внять доро..ку, пром..чить ноги, пом..рить друзей, разж..гать костёр, подск..чить от восторг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Двоеточие в БСП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чему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Луны не было, потому что она поздно всходил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П с придаточным причины – почему не было луны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почему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Луны не было: она в ту пору поздно всходила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СП Второе предложение указывает на причину того, о чём говорится в 1-ом предложении, союза нет – это БСП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лОниться над ручЬём, скАкать вдоль дороги, загОрать на берегу, озАрить соЛнцем, преклОняться перед кем-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будь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лОжить проСьбу, обмАкнуть в краску, расстЕлить скатерть, удИрать без оглядки, замИрает от восторга, начИнает издАлека, создать отрАсль, вытАщить рОсток, зарОвнять дороЖку, промОчить ноги, помИрить друзей, разжИгать костёр, подскОчить от восторг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Дефис в разных частях речи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ложные слова с первым корн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ОЛ-  пишутся слитно или через дефи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ерез дефис пишутся слова, если второй корень начинает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) с гласной бук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-яблока, пол-апельс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с буквы 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-лимона, пол-листа, пол-лип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) с заглавной бук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-Москвы, пол-Европ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литно пишется пол-  в остальных случа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у –        пишем слитн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Через дефис пишутся существительные: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образованные сложением целых с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оп-кран жар-пт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названия стран света и сторон: юго-восток ,северо-зап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сложные названия иван-да-марья, перекати-п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Через дефис пишутся прилагательные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сложные прилагательные, образованные от слов,связанных сочинительной связью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одово–ягодный, русско-англий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ахматно – шашечн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прилагательные, образованные от существительных, обозначающих стороны света: юго-западный, северо-восто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оттенки цвет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рко-красный, бледно-розов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Через дефис пишутся наречия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 если оканчиваются 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ому  -ему  -ки  -ьи   и имеют при этом приставку П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-моему, по-собачьи, по-английс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если имеют приставку ВО- (В)-   , а суффиксы:   -ЫХ, -ИХ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первых, в-четвёртых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если наречие образовано повторением одного и того же слова или синонимичными словами: мало-помалу, еле-еле, чуть-чу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бок о бок, точь-в-точь -       запомни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Через дефис пишутся местоимени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 С приставкой кое-: кое-кто, кое-чт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чание: как только появляется предлог между кое- и корнем, пишем всё раздельн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е с кем; кое для ч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 С суффиксами : -то, -либо, -нибудь,  -та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ё-таки, кто-нибудь,кто-либо, что-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Слитно, раздельно или через дефис?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егко)атле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)крут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ле)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л)ст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лу)м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порт)лаг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бело)зу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юго)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)креп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рест)нак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мать(по)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порт)тов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ино)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саблей (на)перев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емонтно)стро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онно)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лу)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)диков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л)т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осточно)сиби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орт)мороже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енерал)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железо)бет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умр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гкоатлет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крут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леграм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стак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ртлаге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лозуб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юго-запа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креп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ест-накре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мать по- разн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рттов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инопро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блей наперев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монтно-строите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носпортив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икови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тор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точносибир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рт-мороже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ест-накре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рал-май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елезобет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О,Ё, в корнях после шипящих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828800"/>
          <a:ext cx="6156360" cy="376884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реч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юбой части реч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рн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нельзя пров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ь буквой 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можн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Запишите слова, применяя правило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..в, ш..лк, щ..голь, ш..ссе, ш..колад, ж..рнов, щ..тка, ч..рточка, трущ..ба, чащ..ба, ж..кей, ж..лтый, ш..рох, ж..луд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..порный, реш..тка,пч..лка,зач..ркнуты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ч..т, расч..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Двоеточие в БСП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6148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же забелелось на востоке, так что можно было разглядеть отдельные предметы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СПП с придаточным следствия – Что явилось следствием того , что Уже забелелось на востоке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же забелелось на востоке: можно было разглядеть отдельные предметы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СП – в нём вторая часть указывает на следствие, вытекающее из того, о чём говорится в первой части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ов, шёлк, щёголь, шоссе, шоколад, жёрнов, щётка, чёрточка, трущоб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щоба, жокей, жёлтый,  шорох, жёлудь, чопорный, решётка, пчёлка, зачёркнутый, расчёт, расчё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Благодарю за внимание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Желаю  успехов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Двоеточие в БСП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17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Я понимал, чт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учить нас может только случайность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СПП с придаточным изъяснительным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что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Я понимал: выручить нас может только случайность ( второе предложение дополняет первое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а именно: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огода была ужасная: ветер выл, снег падал хлопьями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2-я часть раскрывает 1 –ю)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5:24:59Z</dcterms:created>
  <dc:creator>Евгения</dc:creator>
  <dc:description/>
  <dc:language>en-US</dc:language>
  <cp:lastModifiedBy>Евгения</cp:lastModifiedBy>
  <dcterms:modified xsi:type="dcterms:W3CDTF">2012-10-18T19:31:22Z</dcterms:modified>
  <cp:revision>59</cp:revision>
  <dc:subject/>
  <dc:title>Готовимся к ЕГЭ</dc:title>
</cp:coreProperties>
</file>