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632-5076-43C7-A4EF-C3F7C5AB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3B3-1760-4F21-92E6-7303E5B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C2B-012E-4255-88BB-6118602E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463-F956-4073-9AB5-BF97891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A08-72BA-46E9-A21B-59AA990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B41-7898-406D-BA51-00A2A3D2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E1D-BED3-4E0A-AB05-6F85D405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A23-DCC7-433F-9B36-3A0F526F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439-0FAE-42D4-8D9C-3400F3B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029-962D-4016-A8C8-96C1E7B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5D4-B6E1-4546-AA26-8915E36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C4E-0D45-4776-9313-9F96816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200B-BC5D-441A-912E-4E4468ACC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19120" y="533520"/>
            <a:ext cx="8244000" cy="26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ши соседи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ита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57200" y="437976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Литвинова Светлана Алексе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БОУ СОШ №30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здник Фонарей в Китае - завершение новогодних праз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3905280" y="2819520"/>
            <a:ext cx="5238720" cy="4038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ие они китайц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609480" y="1285920"/>
            <a:ext cx="80773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Text Box 9"/>
          <p:cNvSpPr/>
          <p:nvPr/>
        </p:nvSpPr>
        <p:spPr>
          <a:xfrm>
            <a:off x="90360" y="5029200"/>
            <a:ext cx="89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нечный остров. Тихое журчани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китайской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койные и размеренные китайцы наблюдают за рыб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ni chi fan ma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ты ел рис, ты сыт?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228600" y="17438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е значение при вступлении в контакт с китайц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ловесное приветствие. Первым приветствует партнера по общению тот, кто моложе; приветствие почти всегда сопровождается поклон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0" y="4570920"/>
            <a:ext cx="92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84582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наиболее популярных является приветствие, которое дословно переводится так: «ты ел рис, ты сыт?» («ни чи фань ма?», ni chi fan 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ая форма приветствия несёт особый смысл. Общеизвестно, что слову «рис» придается особое значение в традиционном китайском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ьба за существование в Китае подчас напрямую зависела от его налич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этой причине такая форма является во многом символичной: если ты «ел рис», значит, в твоем доме достаток, и у тебя все в поря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 приветствие обычно следует ответ: «Да, спасибо! А вы?» («Ши, се се! Ни нэ?», shi xie xie ni 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Bookman Old Style"/>
              </a:rPr>
              <a:t>ЭКСКУРСИЯ ПО КИТА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nacionalnie_gimni_-_kitay MpTri.Net.mp3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154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895480" cy="388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365760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символ китайцев - Буд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1722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дийские мон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"/>
          <p:cNvPicPr/>
          <p:nvPr/>
        </p:nvPicPr>
        <p:blipFill>
          <a:blip r:embed="rId1"/>
          <a:srcRect l="0" t="11674" r="0" b="11674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367240"/>
            <a:ext cx="91440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амая длинная автомобильная пробка в мире зафиксирована в Китае. Ее длина достигает 260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6" descr=""/>
          <p:cNvPicPr/>
          <p:nvPr/>
        </p:nvPicPr>
        <p:blipFill>
          <a:blip r:embed="rId1"/>
          <a:srcRect l="49" t="0" r="49" b="0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еликая Китайская Стена является визитной карточкой страны, привлекающей к себе не только толпы туристов-иностранцев, но и жителей Китая. Это сооружение является самым большим строительно-техническим сооружением в мире. Её протяженность от края до края составляет 2450 км, но если посчитать протяженность всех её ответвлений, то получается порядка 6 000 киломе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4" name="Звук_самолета_-_Звук_самолета...ммммм.mp3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0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"/>
          <p:cNvPicPr/>
          <p:nvPr/>
        </p:nvPicPr>
        <p:blipFill>
          <a:blip r:embed="rId1"/>
          <a:srcRect l="49" t="0" r="49" b="0"/>
          <a:stretch/>
        </p:blipFill>
        <p:spPr>
          <a:xfrm>
            <a:off x="0" y="14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5029200"/>
            <a:ext cx="9067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ликая Китайская стена — символ национальной гордости, многовековой борьбы, и величия. Правительство страны тратит колоссальные деньги на сохранение этого памятника архитектуры, исчисляемые миллиардами долларов США в год, надеясь сохранить стену для будущих поко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"/>
          <p:cNvPicPr/>
          <p:nvPr/>
        </p:nvPicPr>
        <p:blipFill>
          <a:blip r:embed="rId1"/>
          <a:srcRect l="0" t="591" r="0" b="591"/>
          <a:stretch/>
        </p:blipFill>
        <p:spPr>
          <a:xfrm>
            <a:off x="0" y="25560"/>
            <a:ext cx="9372600" cy="4317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кеанариум «Водный мир» был построен в Гуанчжоу в 1998 году. С тех пор он стал излюбленным местом туристов, посещающих Гуанчжоу. У входа в океанариум находится стеклянный туннель, в котором искусственно воссозданы коралловые рифы Южно-Китайского моря: вы можете увидеть не только сами кораллы, но и морских обитателей, живущих в них. За туннелем с коралловыми рифами находится малый аквариум, в который помещены хищные обитатели рифовых пещер. Следом идет второй туннель, в котором воссоздан животный и растительный мир пресных водоемов – горных рек и оз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едалеко находится Аквариум Акул, в котором плавают акулы и скаты. В конце аквариума располагается стадион, на котором выступают дельфины и морские ль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" descr=""/>
          <p:cNvPicPr/>
          <p:nvPr/>
        </p:nvPicPr>
        <p:blipFill>
          <a:blip r:embed="rId1"/>
          <a:srcRect l="9406" t="0" r="9406" b="0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47242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анцзянский природный зоопарк находится в деревне Лицунь, в пригороде Гуанчжоу. Этот зоопарк был создан на только для туристических, но и для научных и исследовательский целей. В Санцзянском природном зоопарке собрано около 10 тысяч животных (это более 300 различных вид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тот зоопарк знаменит тем, что в нем можно увидеть таких редких животных, как антилопа гну, черная антилопа, таиландский аллигатор, белый тигр, белый лев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366880"/>
            <a:ext cx="91440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рам Конфуция находится в Пекине, к северо-востоку от парка Бэйхай. Храм был построен в 1306 году. Территория храма обнесена кирпичной стеной. С южной стороны этой стены находятся главные ворота, ведущие к хра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144792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11" name="Китайская песня про Маму (mp3ostrov.com).mp3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3500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524880" cy="7010280"/>
          </a:xfrm>
          <a:prstGeom prst="rect">
            <a:avLst/>
          </a:prstGeom>
          <a:ln w="0">
            <a:noFill/>
          </a:ln>
        </p:spPr>
      </p:pic>
      <p:pic>
        <p:nvPicPr>
          <p:cNvPr id="113" name="китайская песня! (mp3ostrov.com).mp3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7760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 стра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1"/>
          <a:srcRect l="38410" t="19160" r="0" b="7410"/>
          <a:stretch/>
        </p:blipFill>
        <p:spPr>
          <a:xfrm>
            <a:off x="228600" y="1905120"/>
            <a:ext cx="5257800" cy="411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Picture 12" descr=""/>
          <p:cNvPicPr/>
          <p:nvPr/>
        </p:nvPicPr>
        <p:blipFill>
          <a:blip r:embed="rId2"/>
          <a:srcRect l="0" t="23528" r="0" b="23528"/>
          <a:stretch/>
        </p:blipFill>
        <p:spPr>
          <a:xfrm>
            <a:off x="380880" y="2133720"/>
            <a:ext cx="1600200" cy="84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13"/>
          <p:cNvSpPr/>
          <p:nvPr/>
        </p:nvSpPr>
        <p:spPr>
          <a:xfrm>
            <a:off x="5562720" y="1752480"/>
            <a:ext cx="358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тай самая большая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ению стр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рритория страны составляет 9 миллионов 600 тысяч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еление Китая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иллиард 313 миллио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лица Китая – Пек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3382920" y="3657600"/>
            <a:ext cx="2103480" cy="23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1" name="Text Box 18"/>
          <p:cNvSpPr/>
          <p:nvPr/>
        </p:nvSpPr>
        <p:spPr>
          <a:xfrm>
            <a:off x="609480" y="61326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ь Китайской Народной Республ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у Цзиньт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селение Китая составля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миллиард 313 милли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52280" y="2362320"/>
            <a:ext cx="8839440" cy="19047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Китай — одна из самых быстро развив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н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достигли больших успехов в разви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304920" y="4876920"/>
            <a:ext cx="8686800" cy="16761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 в стране — кита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ежная единица — ю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480" y="33480"/>
            <a:ext cx="487044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297240" y="33480"/>
            <a:ext cx="582444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3"/>
          <a:stretch/>
        </p:blipFill>
        <p:spPr>
          <a:xfrm>
            <a:off x="-23760" y="3962520"/>
            <a:ext cx="521028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571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радиции  на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220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менит своей долгой историей и прошлы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ление Китая — это очень мирные и трудолюбивые люди. Они уважают старших, любят детей и терпеливы к окружающим. Китайцы, по своей природе, запасливы и скромны. Они верят в гармонию и никогда не идут на конфликт. Китайцы приветливо встречают иностранцев и относятся к ним очень терп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657600" cy="26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14316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Text Box 13"/>
          <p:cNvSpPr/>
          <p:nvPr/>
        </p:nvSpPr>
        <p:spPr>
          <a:xfrm>
            <a:off x="457200" y="630252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ережная г.Хар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267080" y="630252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брика по выращиванию жемч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ародные празд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57200" y="1905120"/>
            <a:ext cx="4191120" cy="1981080"/>
          </a:xfrm>
          <a:prstGeom prst="flowChartMagneticTape">
            <a:avLst/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-й день первого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ого года по лун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ю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 Ве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flipH="1">
            <a:off x="4876920" y="1752480"/>
            <a:ext cx="3962160" cy="1905120"/>
          </a:xfrm>
          <a:prstGeom prst="flowChartMagneticTape">
            <a:avLst/>
          </a:prstGeom>
          <a:solidFill>
            <a:srgbClr val="f2f6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-й день первого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лунному календарю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Фона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743200" y="4343400"/>
            <a:ext cx="4114800" cy="1752480"/>
          </a:xfrm>
          <a:prstGeom prst="flowChartMagneticTap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-й день пятого месяц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нному календарю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здник начала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тайский Новый год - Праздник Весны с многовековой истор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0" y="1371600"/>
            <a:ext cx="4172040" cy="3390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3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4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енко Наталья Александровна</dc:creator>
  <dc:description/>
  <dc:language>en-US</dc:language>
  <cp:lastModifiedBy>Admin</cp:lastModifiedBy>
  <dcterms:modified xsi:type="dcterms:W3CDTF">2012-11-28T18:10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