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1E27-B7E9-4248-81D2-50A1B8AD5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71040" y="810648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2D5AE-B74C-4535-AB7B-2116E2B5C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172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C9390-0CC0-44E2-B329-24D6D28CE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092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5080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7104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092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5080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0BE48-6C46-4B2C-AC69-1CFD96CC1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36D68-03D4-4D1E-A3AF-4970EEED65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732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FEAAB-DAC7-4DC7-888B-F0B3996ADC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51E4E-769D-49FD-AE9D-EEF2A88113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FA024-ECC9-4124-9F13-49FB288AD3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1D436-7555-4E4B-87D5-17D9785CD6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29DB5-6329-4F2E-9D69-3444EC4570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4574-45B2-44BC-BD58-3F4FBE7D8E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732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A9E1-C05B-4CAA-981A-A918CC444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172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3344A-8364-4510-83EA-1E6FF3B297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A1AB3-ECF4-424A-B872-B016F2816A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1040" y="810648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D18AA-96EE-48CF-8381-1E8E7CC1BE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172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ABE49-7CC3-4872-82A6-2BB841FCBB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092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5080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7104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092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5080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4DCD1-F4A5-4C5F-89DE-6DE0A3AD16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732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882F-4FE6-4910-BC75-4B596A88CF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172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71040" y="810648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172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092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5080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7104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092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5080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E00B-ACFA-4B14-A8C4-57837CDD3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8A01-BCEE-44DE-883F-A2F27CFD3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D8B8-A3DD-438A-A0E2-E65696F93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B7EC-A074-41BA-B906-BA4A4DBD5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172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2CD9-D979-419C-AF05-D6707841F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2D9F-6F3B-4922-91C8-237410F66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sldNum" idx="1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B3FB5E-EE67-41FA-AFC5-C7F1286D5C3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2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86379C3-5D1A-4318-8F54-FD7E444E557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732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b7"/>
                </a:solidFill>
                <a:latin typeface="Times New Roman"/>
                <a:ea typeface="msmincho"/>
              </a:rPr>
              <a:t>Моя   Школ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3962520"/>
            <a:ext cx="67816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баян Р.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Кисловодс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Райский угол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905120"/>
            <a:ext cx="3927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smincho"/>
              </a:rPr>
              <a:t>МКОУ СОШ №10 находится в живописном и историческом  месте  города. Со всех окон школы видны прекрасные горные холмы  Сосновки и Солдатки. Рядом со школой музей им. Ярошенко, музей «Патриот», Стена Славы, краеведческий музей, а также самое главное –один из лучших оздоровительных парков Европ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5356080" y="2637000"/>
            <a:ext cx="3787920" cy="2854080"/>
            <a:chOff x="5356080" y="2637000"/>
            <a:chExt cx="3787920" cy="2854080"/>
          </a:xfrm>
        </p:grpSpPr>
        <p:pic>
          <p:nvPicPr>
            <p:cNvPr id="143" name="" descr=""/>
            <p:cNvPicPr/>
            <p:nvPr/>
          </p:nvPicPr>
          <p:blipFill>
            <a:blip r:embed="rId4"/>
            <a:stretch/>
          </p:blipFill>
          <p:spPr>
            <a:xfrm>
              <a:off x="5356080" y="2637000"/>
              <a:ext cx="3787920" cy="28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356080" y="2637000"/>
              <a:ext cx="3787920" cy="28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Мы толерантны друг к друг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2406600"/>
            <a:ext cx="8007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Больше 30 национальностей учащихся обучается в нашей шко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Мы уважаем нравы и традиции всех  ребят.Поем русские и грузинские песни. Танцуем карачаевские танцы.Маленькая дружная страна под названием Шко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7160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Times New Roman"/>
                <a:ea typeface="msmincho"/>
              </a:rPr>
              <a:t>Мы любим путешествова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177336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вказские Минеральные 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691380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0"/>
            <a:ext cx="838512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Пятигорск, Ессентуки, Железноводск- исторические места КМ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1905120"/>
            <a:ext cx="3927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msmincho"/>
              </a:rPr>
              <a:t>Каждую весну и осень учащиеся нашей школы посещают исторические места  городов КМ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17960" y="1905120"/>
            <a:ext cx="3927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msmincho"/>
              </a:rPr>
              <a:t>Лермонтовские места в Пятигорске,прекрасный парк отдыха в Железноводске и целебные родники Ессенту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258920" y="4653000"/>
            <a:ext cx="3133800" cy="1950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364000" y="5157720"/>
            <a:ext cx="225288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Кисловодский пар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1341360"/>
            <a:ext cx="798192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Одним из лучших мест отдыха наших учащихся является кисловодский парк.Сколько живописных уголков живой природы можно запечатлеть на уроках изобразительного искусства. Во время летних лагерей ученики любят проводить часы отдыха в пар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979640" y="4653000"/>
            <a:ext cx="3168720" cy="1876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724360" y="4724280"/>
            <a:ext cx="2170440" cy="16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Мы любим петь и танцева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989000"/>
            <a:ext cx="39272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msmincho"/>
              </a:rPr>
              <a:t>Мы живем на Кавказе. Любим танцевать кавказские танцы. Учащиеся нашей школы посещают ансамбли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msmincho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msmincho"/>
              </a:rPr>
              <a:t>«Юность Кавказа», «Ивери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933720" y="2492280"/>
            <a:ext cx="5210280" cy="3473640"/>
            <a:chOff x="3933720" y="2492280"/>
            <a:chExt cx="5210280" cy="347364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3933720" y="2492280"/>
              <a:ext cx="5210280" cy="347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933720" y="2492280"/>
              <a:ext cx="5210280" cy="34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Так что же такое шко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905120"/>
            <a:ext cx="3927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msmincho"/>
              </a:rPr>
              <a:t>Это наш второй дом, в котором живет наша вторая семья. И в этот дом, хочется возвращаться снова и снова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29160" y="2214720"/>
            <a:ext cx="264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кола это светлый 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 ходим в школу для ученья и общения, чтоб смысл жизни познав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3:40:28Z</dcterms:created>
  <dc:creator>Depo</dc:creator>
  <dc:description/>
  <dc:language>en-US</dc:language>
  <cp:lastModifiedBy>Admin</cp:lastModifiedBy>
  <dcterms:modified xsi:type="dcterms:W3CDTF">2012-11-28T12:14:13Z</dcterms:modified>
  <cp:revision>14</cp:revision>
  <dc:subject/>
  <dc:title>Моя   Школа</dc:title>
</cp:coreProperties>
</file>