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C64-EC20-4CF3-A6AA-21A3EE21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440-749F-4D48-A4B4-F2442C8E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97F-F791-4B32-A9C0-04581AE8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B99-C444-4DFE-A2BE-41CD041C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CE25-DC7C-4D7A-89DF-7BB2A9BF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0385-4FFA-43D9-8CC7-6EACB16F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79F5-376C-4B4D-B9B6-D682367D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274C-2D96-412E-B24C-C30D1702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E2CF-F625-4A53-B0BC-7430FCA9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3FA8-ABCF-4375-A730-085DAAE2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C70F-DCEE-4B7C-A90E-F1204548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5E2-C988-4F5A-85CF-80127784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C0E0-A830-45EE-8878-59BB3D7D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7620-6F0C-490C-A855-3148C889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C3CF-57FF-4AEB-9657-15482DC1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5765-92FA-428D-9D7F-2BE532EA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3238-AD9F-4EE4-9FAC-1F64E2BA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C32-01C8-4899-930B-B7E37066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792-4C8E-4035-9DB2-B51D61FE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4B2-84A0-433B-90A0-03DB53F7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384-4E86-423E-9E09-23EC1EF4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22B-5AAE-45C2-8A07-F7A83B7A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9B5-BA50-4CD2-87F6-492CE09D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36C-4228-4B21-8B33-6EF4ABE6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9E6E-7CA4-4C10-9028-D95144310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936E-9747-4785-B079-816C0D7A9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900000" y="404640"/>
            <a:ext cx="7391520" cy="35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расота цвет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лори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4797360"/>
            <a:ext cx="6192720" cy="100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66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Авторы презентации:учащиеся 2 класс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МКОУ «Бережковская ООШ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уководитель: Байкова В.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39948" t="0" r="1498" b="0"/>
          <a:stretch/>
        </p:blipFill>
        <p:spPr>
          <a:xfrm>
            <a:off x="4648320" y="838080"/>
            <a:ext cx="4194000" cy="4114800"/>
          </a:xfrm>
          <a:prstGeom prst="rect">
            <a:avLst/>
          </a:prstGeom>
          <a:ln w="76320">
            <a:solidFill>
              <a:srgbClr val="ff5050"/>
            </a:solidFill>
            <a:miter/>
          </a:ln>
          <a:effectLst>
            <a:outerShdw dist="107932" dir="18900000" blurRad="0" rotWithShape="0">
              <a:srgbClr val="ff7c80"/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2"/>
          <a:srcRect l="0" t="9576" r="55428" b="17411"/>
          <a:stretch/>
        </p:blipFill>
        <p:spPr>
          <a:xfrm>
            <a:off x="380880" y="1371600"/>
            <a:ext cx="3886200" cy="3581280"/>
          </a:xfrm>
          <a:prstGeom prst="rect">
            <a:avLst/>
          </a:prstGeom>
          <a:ln w="76320">
            <a:solidFill>
              <a:srgbClr val="ff5050"/>
            </a:solidFill>
            <a:miter/>
          </a:ln>
          <a:effectLst>
            <a:outerShdw dist="107932" dir="13500000" blurRad="0" rotWithShape="0">
              <a:srgbClr val="ff7c80"/>
            </a:outerShdw>
          </a:effectLst>
        </p:spPr>
      </p:pic>
      <p:sp>
        <p:nvSpPr>
          <p:cNvPr id="106" name=""/>
          <p:cNvSpPr/>
          <p:nvPr/>
        </p:nvSpPr>
        <p:spPr>
          <a:xfrm>
            <a:off x="612360" y="482760"/>
            <a:ext cx="324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Цветовой кру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6280" y="5334120"/>
            <a:ext cx="839952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ff7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 теплых цветах преобладают оттенки желтого и красног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еплые цвета напоминают нам тепло, ого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Холодные цвета напоминают, например, о холоде, о снег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4793" r="1107" b="7456"/>
          <a:stretch/>
        </p:blipFill>
        <p:spPr>
          <a:xfrm>
            <a:off x="1752480" y="304920"/>
            <a:ext cx="4953240" cy="4647960"/>
          </a:xfrm>
          <a:prstGeom prst="rect">
            <a:avLst/>
          </a:prstGeom>
          <a:ln w="76320">
            <a:solidFill>
              <a:srgbClr val="ff505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109" name=""/>
          <p:cNvSpPr/>
          <p:nvPr/>
        </p:nvSpPr>
        <p:spPr>
          <a:xfrm>
            <a:off x="319320" y="5181480"/>
            <a:ext cx="8561160" cy="125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5050"/>
            </a:solidFill>
            <a:miter/>
          </a:ln>
          <a:effectLst>
            <a:outerShdw dist="153753" dir="2700000" blurRad="0" rotWithShape="0">
              <a:srgbClr val="ff7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ри основных цвета –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красный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желтый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, си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ри составных цвета – оранжевый (желтый и красный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зеленый (желтый и синий), фиолетовый (красный и синий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2902" t="5908" r="0" b="0"/>
          <a:stretch/>
        </p:blipFill>
        <p:spPr>
          <a:xfrm>
            <a:off x="2438280" y="380880"/>
            <a:ext cx="5562720" cy="6096240"/>
          </a:xfrm>
          <a:prstGeom prst="rect">
            <a:avLst/>
          </a:prstGeom>
          <a:ln w="76320">
            <a:solidFill>
              <a:srgbClr val="ff5050"/>
            </a:solidFill>
            <a:miter/>
          </a:ln>
          <a:effectLst>
            <a:outerShdw dist="107932" dir="18900000" blurRad="0" rotWithShape="0">
              <a:srgbClr val="ff7c80"/>
            </a:outerShdw>
          </a:effectLst>
        </p:spPr>
      </p:pic>
      <p:sp>
        <p:nvSpPr>
          <p:cNvPr id="111" name=""/>
          <p:cNvSpPr txBox="1"/>
          <p:nvPr/>
        </p:nvSpPr>
        <p:spPr>
          <a:xfrm>
            <a:off x="685800" y="380880"/>
            <a:ext cx="838080" cy="563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066680"/>
            <a:ext cx="8534160" cy="439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5050"/>
            </a:solidFill>
            <a:miter/>
          </a:ln>
          <a:effectLst>
            <a:outerShdw dist="153753" dir="2700000" blurRad="0" rotWithShape="0">
              <a:srgbClr val="ff7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Times New Roman"/>
              </a:rPr>
              <a:t>Колорит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– это взаимосвязь, гармо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всех цветовых элементов изображения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объединение всех цветовых сочетаний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цветовых оттенков в единый цветовой стро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1107" t="2580" r="49283" b="38708"/>
          <a:stretch/>
        </p:blipFill>
        <p:spPr>
          <a:xfrm>
            <a:off x="304920" y="1828800"/>
            <a:ext cx="4800600" cy="33973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53712" t="860" r="0" b="0"/>
          <a:stretch/>
        </p:blipFill>
        <p:spPr>
          <a:xfrm>
            <a:off x="5334120" y="92160"/>
            <a:ext cx="3504960" cy="53179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612360" y="5638680"/>
            <a:ext cx="22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.Крым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Желтый сара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74880" y="5527800"/>
            <a:ext cx="19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.Судейк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атюрмор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0960" y="457200"/>
            <a:ext cx="37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Теплый колори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картин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71952" t="59831" r="529" b="0"/>
          <a:stretch/>
        </p:blipFill>
        <p:spPr>
          <a:xfrm>
            <a:off x="380880" y="2362320"/>
            <a:ext cx="3124440" cy="2984400"/>
          </a:xfrm>
          <a:prstGeom prst="rect">
            <a:avLst/>
          </a:prstGeom>
          <a:ln w="57240">
            <a:solidFill>
              <a:srgbClr val="3366ff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</p:pic>
      <p:pic>
        <p:nvPicPr>
          <p:cNvPr id="119" name="" descr=""/>
          <p:cNvPicPr/>
          <p:nvPr/>
        </p:nvPicPr>
        <p:blipFill>
          <a:blip r:embed="rId2"/>
          <a:srcRect l="529" t="0" r="32270" b="2162"/>
          <a:stretch/>
        </p:blipFill>
        <p:spPr>
          <a:xfrm>
            <a:off x="4572000" y="533520"/>
            <a:ext cx="4167360" cy="4857480"/>
          </a:xfrm>
          <a:prstGeom prst="rect">
            <a:avLst/>
          </a:prstGeom>
          <a:ln w="57240">
            <a:solidFill>
              <a:srgbClr val="3366ff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</p:pic>
      <p:sp>
        <p:nvSpPr>
          <p:cNvPr id="120" name=""/>
          <p:cNvSpPr/>
          <p:nvPr/>
        </p:nvSpPr>
        <p:spPr>
          <a:xfrm>
            <a:off x="307080" y="685800"/>
            <a:ext cx="41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Холодный колори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картин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5280" y="5562720"/>
            <a:ext cx="29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.Грабар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еприбранный ст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9040" y="5562720"/>
            <a:ext cx="189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Е. Зверь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Луг цвет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2418" t="0" r="1209" b="3320"/>
          <a:stretch/>
        </p:blipFill>
        <p:spPr>
          <a:xfrm>
            <a:off x="5486400" y="3429000"/>
            <a:ext cx="3079800" cy="259092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8900000" blurRad="0" rotWithShape="0">
              <a:srgbClr val="ff7c80"/>
            </a:outerShdw>
          </a:effectLst>
        </p:spPr>
      </p:pic>
      <p:pic>
        <p:nvPicPr>
          <p:cNvPr id="124" name="" descr=""/>
          <p:cNvPicPr/>
          <p:nvPr/>
        </p:nvPicPr>
        <p:blipFill>
          <a:blip r:embed="rId2"/>
          <a:srcRect l="2141" t="6121" r="2141" b="4080"/>
          <a:stretch/>
        </p:blipFill>
        <p:spPr>
          <a:xfrm>
            <a:off x="380880" y="3505320"/>
            <a:ext cx="4419720" cy="259056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3500000" blurRad="0" rotWithShape="0">
              <a:srgbClr val="ff7c80"/>
            </a:outerShdw>
          </a:effectLst>
        </p:spPr>
      </p:pic>
      <p:sp>
        <p:nvSpPr>
          <p:cNvPr id="125" name=""/>
          <p:cNvSpPr/>
          <p:nvPr/>
        </p:nvSpPr>
        <p:spPr>
          <a:xfrm>
            <a:off x="380160" y="247680"/>
            <a:ext cx="8325000" cy="2946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ff7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С помощью колорита художник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передает свои идеи, свои переживан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и переживания изображаемых им людей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состояние и настроение приро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9800" y="6172200"/>
            <a:ext cx="27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Герасимов. Лед прош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040" y="6156360"/>
            <a:ext cx="27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.Жуковский. Куско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Малиновая гости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06:04:01Z</dcterms:created>
  <dc:creator>user</dc:creator>
  <dc:description/>
  <dc:language>en-US</dc:language>
  <cp:lastModifiedBy>WIN7XP</cp:lastModifiedBy>
  <dcterms:modified xsi:type="dcterms:W3CDTF">2012-11-28T16:13:04Z</dcterms:modified>
  <cp:revision>5</cp:revision>
  <dc:subject/>
  <dc:title>Презентация PowerPoint</dc:title>
</cp:coreProperties>
</file>