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F1B-2F6C-4717-8EC0-5D3E3B25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606-5448-4177-8E56-21397596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3B0-2E88-41E5-ADA9-5352AFAB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67B-8185-492A-9728-0990F397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7F6-0FC1-49AF-B586-F8AAE399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0D8-048A-418A-B90A-2864D72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41D-8BDE-4BEB-AC85-5E879C17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D26-C4A3-41D4-9033-750FDF52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0CD2-5A94-4C0A-835B-F859EAB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A02B-BF92-44FB-871D-24B9FDC3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0FDA-8A0D-4171-9024-43D1527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2E5-2BAF-4AE2-84B2-B7FFE53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505B-D988-4A4E-A10A-44EF3E2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53E-73B2-4749-9AA4-A81E1BAC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D349-1979-4152-9C4A-9B61A33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54BF-AA76-4378-9F08-28B849C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F206-B841-4F76-83B6-F4014DA2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1BD-7464-4281-8226-67E88090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7F2-924B-4640-94BA-6AC2A23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C55-83CC-42B5-9106-DE489C4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8C2-B223-40EB-A39E-518B203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D36-A454-42A5-AA6C-602A13CE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09A-0C1F-4FF9-8772-0C8E2B0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D72-C89B-413A-8D36-630AEEC0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F9B9-E00F-4FB9-969A-2F3350373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E2E9-CC40-4C4D-989F-95ECBE71B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900000" y="404640"/>
            <a:ext cx="7391520" cy="35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расота цвет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лори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797360"/>
            <a:ext cx="619272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Авторы презентации:учащиеся 2 кла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КОУ «Бережковская ООШ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ководитель: Байкова В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39948" t="0" r="1498" b="0"/>
          <a:stretch/>
        </p:blipFill>
        <p:spPr>
          <a:xfrm>
            <a:off x="4648320" y="838080"/>
            <a:ext cx="4194000" cy="411480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rcRect l="0" t="9576" r="55428" b="17411"/>
          <a:stretch/>
        </p:blipFill>
        <p:spPr>
          <a:xfrm>
            <a:off x="380880" y="1371600"/>
            <a:ext cx="3886200" cy="358128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3500000" blurRad="0" rotWithShape="0">
              <a:srgbClr val="ff7c80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612360" y="482760"/>
            <a:ext cx="32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Цветовой кру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280" y="5334120"/>
            <a:ext cx="839952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теплых цветах преобладают оттенки желтого и красн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еплые цвета напоминают нам тепло, ого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Холодные цвета напоминают, например, о холоде, о сне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4793" r="1107" b="7456"/>
          <a:stretch/>
        </p:blipFill>
        <p:spPr>
          <a:xfrm>
            <a:off x="1752480" y="304920"/>
            <a:ext cx="4953240" cy="464796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319320" y="5181480"/>
            <a:ext cx="8561160" cy="125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и основных цвета –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расны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желты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си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и составных цвета – оранжевый (желтый и красный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зеленый (желтый и синий), фиолетовый (красный и синий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902" t="5908" r="0" b="0"/>
          <a:stretch/>
        </p:blipFill>
        <p:spPr>
          <a:xfrm>
            <a:off x="2438280" y="380880"/>
            <a:ext cx="5562720" cy="6096240"/>
          </a:xfrm>
          <a:prstGeom prst="rect">
            <a:avLst/>
          </a:prstGeom>
          <a:ln w="76320">
            <a:solidFill>
              <a:srgbClr val="ff5050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sp>
        <p:nvSpPr>
          <p:cNvPr id="111" name=""/>
          <p:cNvSpPr txBox="1"/>
          <p:nvPr/>
        </p:nvSpPr>
        <p:spPr>
          <a:xfrm>
            <a:off x="685800" y="380880"/>
            <a:ext cx="83808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066680"/>
            <a:ext cx="8534160" cy="439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Колорит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– это взаимосвязь, гармо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всех цветовых элементов изображени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бъединение всех цветовых сочетани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цветовых оттенков в единый цветовой стр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107" t="2580" r="49283" b="38708"/>
          <a:stretch/>
        </p:blipFill>
        <p:spPr>
          <a:xfrm>
            <a:off x="304920" y="1828800"/>
            <a:ext cx="4800600" cy="3397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53712" t="860" r="0" b="0"/>
          <a:stretch/>
        </p:blipFill>
        <p:spPr>
          <a:xfrm>
            <a:off x="5334120" y="92160"/>
            <a:ext cx="3504960" cy="5317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12360" y="563868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.Крым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Желтый сар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4880" y="55278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.Судейк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тюрмо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960" y="457200"/>
            <a:ext cx="37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Теплый колори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картин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71952" t="59831" r="529" b="0"/>
          <a:stretch/>
        </p:blipFill>
        <p:spPr>
          <a:xfrm>
            <a:off x="380880" y="2362320"/>
            <a:ext cx="3124440" cy="2984400"/>
          </a:xfrm>
          <a:prstGeom prst="rect">
            <a:avLst/>
          </a:prstGeom>
          <a:ln w="57240">
            <a:solidFill>
              <a:srgbClr val="3366ff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2"/>
          <a:srcRect l="529" t="0" r="32270" b="2162"/>
          <a:stretch/>
        </p:blipFill>
        <p:spPr>
          <a:xfrm>
            <a:off x="4572000" y="533520"/>
            <a:ext cx="4167360" cy="4857480"/>
          </a:xfrm>
          <a:prstGeom prst="rect">
            <a:avLst/>
          </a:prstGeom>
          <a:ln w="57240">
            <a:solidFill>
              <a:srgbClr val="3366ff"/>
            </a:solidFill>
            <a:miter/>
          </a:ln>
          <a:effectLst>
            <a:outerShdw dist="107932" dir="18900000" blurRad="0" rotWithShape="0">
              <a:srgbClr val="000099"/>
            </a:outerShdw>
          </a:effectLst>
        </p:spPr>
      </p:pic>
      <p:sp>
        <p:nvSpPr>
          <p:cNvPr id="120" name=""/>
          <p:cNvSpPr/>
          <p:nvPr/>
        </p:nvSpPr>
        <p:spPr>
          <a:xfrm>
            <a:off x="307080" y="68580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Холодный колор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картин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5280" y="5562720"/>
            <a:ext cx="29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Грабар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прибранный ст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9040" y="5562720"/>
            <a:ext cx="18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Е. Зверь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уг цве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50000">
              <a:srgbClr val="ffcccc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418" t="0" r="1209" b="3320"/>
          <a:stretch/>
        </p:blipFill>
        <p:spPr>
          <a:xfrm>
            <a:off x="5486400" y="3429000"/>
            <a:ext cx="3079800" cy="259092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ff7c80"/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rcRect l="2141" t="6121" r="2141" b="4080"/>
          <a:stretch/>
        </p:blipFill>
        <p:spPr>
          <a:xfrm>
            <a:off x="380880" y="3505320"/>
            <a:ext cx="4419720" cy="2590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ff7c80"/>
            </a:outerShdw>
          </a:effectLst>
        </p:spPr>
      </p:pic>
      <p:sp>
        <p:nvSpPr>
          <p:cNvPr id="125" name=""/>
          <p:cNvSpPr/>
          <p:nvPr/>
        </p:nvSpPr>
        <p:spPr>
          <a:xfrm>
            <a:off x="380160" y="247680"/>
            <a:ext cx="8325000" cy="294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С помощью колорита художни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передает свои идеи, свои пережива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и переживания изображаемых им людей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состояние и настроение приро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9800" y="617220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Герасимов. Лед прош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040" y="6156360"/>
            <a:ext cx="27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.Жуковский. Куско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алиновая гости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6:04:01Z</dcterms:created>
  <dc:creator>user</dc:creator>
  <dc:description/>
  <dc:language>en-US</dc:language>
  <cp:lastModifiedBy>WIN7XP</cp:lastModifiedBy>
  <dcterms:modified xsi:type="dcterms:W3CDTF">2012-11-28T16:13:04Z</dcterms:modified>
  <cp:revision>5</cp:revision>
  <dc:subject/>
  <dc:title>Презентация PowerPoint</dc:title>
</cp:coreProperties>
</file>