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F24-56C8-49F6-9B21-48861A5F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812-DEBE-420F-84D1-17130A9E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3A4-F8D3-494D-9959-D047292F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D38-4FBD-4D03-9905-8D8101DB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57D1-96A9-47EC-A175-58E153A3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C333-7A39-4B5A-A770-66BBB15D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442-0DD0-4284-87D5-567A18D7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BE46-3A35-4D18-87BA-33966EA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AC6E-6CFB-4F93-B5A8-CC901EF0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267C-689B-40E2-9D1A-DC13D2C2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8025-9C99-4847-9144-CC43202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1D0-77B7-4518-836F-60B483CA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6E98-AD9A-41A4-973C-AB5F0C9F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0115-18AE-435C-9B4C-E99ACA07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847E-6ACC-4395-9C80-A88F0D6D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B2E4-8B76-44F0-B757-FC4ABD88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96DA-BF78-47E2-B47C-025B2187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0E7-C6F1-446F-9540-1F1CB641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070-6F88-460C-8EE0-741D64C7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180-13BF-4AC3-95DA-4A2D1C6A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7A4-1AE4-43D2-BA4A-53826DF5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069-D634-4674-8A67-8887AF51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C52-361D-4D3C-B3D2-7CEABFE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B07-A892-4FBD-BEC8-2E7833F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9392-80BB-4C53-8F66-5D01812D9C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BA80-04F6-4B81-ABF4-84D337BBD7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xt.feb-web.ru/feb/lermenc/Pictures/Lre592-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elygorod.ru/img2/RusskieKartinki/Used/616Galkin_AlexandraFedorovn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xclusivebook.ru/admin/pictures/70529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nxer.ru/Images/l2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87280" y="0"/>
            <a:ext cx="615636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юбовная лирика Михаил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Юрьевич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Лермонто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3640" y="3284280"/>
            <a:ext cx="838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Москва, Москва! Люблю тебя как сын! Как русский, - сильно, пламенно и нежно.»- М.Ю. Лермонтов. С именем Лермонтова открывается новая страница русской литературы. Жизнь и творчество этого замечательного поэта протекали в самое тяжелое и мрачное для России время, время засилья "голубых мундиров" и жесточайшей реакции. Поэтому его стремление к прекрасному оправдывается огромным желанием воспеть Родину, какой бы жалкой она ни была. Именно из-за этого тема Родины является одной из ведущих тем в творчестве Лермонто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2736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Картинка 13 из 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013200" cy="4005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87640" y="260280"/>
            <a:ext cx="6156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7"/>
                </a:solidFill>
                <a:latin typeface="Tahoma"/>
              </a:rPr>
              <a:t>    </a:t>
            </a: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Я не могу любовь определить,</a:t>
            </a:r>
            <a:br>
              <a:rPr sz="2200"/>
            </a:b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    Но это страсть сильнейшая! - любить</a:t>
            </a:r>
            <a:br>
              <a:rPr sz="2200"/>
            </a:b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    Необходимость мне; и я любил</a:t>
            </a:r>
            <a:br>
              <a:rPr sz="2200"/>
            </a:b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    Всем напряжением душевных сил.</a:t>
            </a:r>
            <a:br>
              <a:rPr sz="2200"/>
            </a:b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Эти строки из стихотворения "1831-го, июня, 11 дня" - словно эпиграф к лирике Лермонтова, лирике "сильнейших страстей" и глубоких страданий. И хотя Лермонтов вступил в русскую поэзию прямым наследником Пушкина, эта вечная тема - тема любви - зазвучала у него совершенно по-иному. "Пушкин - дневное, Лермонтов - ночное светило нашей поэзии", - писал Д. Мережковский. И воистину, если для Пушкина любовь - источник счастья, то для Лермонтова она неразлучна с печалью.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132000" y="0"/>
            <a:ext cx="601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Михаила Юрьевича мотивы одиночества, противостояния героя-бунтаря "бесчувственной толпе" пронизывают и стихи о любви, в его художественном мире высокое чувство всегда трагично.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Лишь изредка в стихах юного поэта мечта о любви сливалась с мечтою о счастье: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Меня бы примирила ты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С людьми и буйными страстями, -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писал он, обращаясь к Наталии Федоровне Ивановой, в которую был страстно и безнадежно влюблен. Но это лишь одна, не повторившаяся больше нота. Весь же цикл посвященных Ивановой стихов - это история неразделенного и оскорбленного чувства: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Я недостоин, может быть,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Твоей любви; не мне судить,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Но ты обманом наградила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Мои надежды и мечты,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И я скажу, что ты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Несправедливо поступила.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Картинка 1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692280"/>
            <a:ext cx="3090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Перед нами словно страницы дневника, где запечатлены все оттенки пережитого: от вспыхивающей безумной надежды до горького разочарования: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И стих безумный, стих прощальный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В альбом твой бросил для тебя,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Как след единственный, печальный,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Который здесь оставлю я.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Лирическому герою суждено остаться одиноким и непонятым, но это лишь усиливает в нем сознание своей избранности, предназначенности для иной, высшей свободы и иного счастья - счастья творить. Завершающее цикл стихотворение - одно из самых прекрасных у Лермонтова - это не только расставание с женщиной, это и освобождение от унижающей и порабощающей страсти: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 Ты позабыла: я свободы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 Для заблужденья не отдам..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Картинка 320 из 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52640"/>
            <a:ext cx="30243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2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аст между высоким чувством героя и "коварной изменой" героини в самом строе стиха, насыщенном антитезами, столь характерными для романтической поэзии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И целый мир возненавиде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Чтобы тебя любить сильней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т типично романтический прием определяет стиль не только одного стихотворения - на контрастах, противопоставлениях построена вся лирика поэта. И рядом с образом "изменившегося ангела" под его пером возникает другой женский образ, возвышенный и идеальный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Улыбку я твою вида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Она мне сердце восхищала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и стихи посвящены Варваре Лопухиной, любовь к которой не угасала у поэта до конца дней. Пленительный облик этой нежной, одухотворенной женщины предстает перед нами и в живописи, и в поэзии Михаила Юрьевича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...все ее движень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Улыбки, речи и черт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Так полны жизни, вдохновень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Так полны чудной простоты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 и в стихах, посвященных Варваре Александровне, звучит тот же мотив разлуки, роковой неосуществимости счасть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Мы случайно сведены судьбо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Мы себя нашли один в друго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И душа сдружилася с душо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Хоть пути не кончить им вдвое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56000" y="0"/>
            <a:ext cx="658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Отчего же так трагична судьба любящих? Известно, что Лопухина ответила на чувство Лермонтова, между ними не было непреодолимых преград. Разгадка, наверное, кроется в том, что лермонтовский "роман в стихах" не был зеркальным отражением его жизни. Поэт писал о трагической невозможности счастья в этом жестоком мире, "среди ледяного, среди беспощадного света". Перед нами опять возникает романтический контраст между высоким идеалом и низкой действительностью, в которой он осуществиться не может. Поэтому Лермонтова так притягивают ситуации, таящие в себе нечто роковое. Это может быть чувство, восставшее против власти "светских цепей":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  Мне грустно, потому что я тебя люблю,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  И знаю: молодость цветущую твою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  Не пощадит молвы коварное гоненье.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Это может быть гибельная страсть, изображенная в таких стихотворениях, как "Дары Терека", "Морская царевна".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Вдумываясь в эти стихи, невозможно не вспомнить знаменитый "Парус":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   Увы! Он счастия не ищет...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Этой строке вторят другие: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Что без страданий жизнь поэта?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И что без бури океан?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Лермонтовский герой будто бежит от безмятежности, от покоя, за которым для него - сон души, угасание и самого поэтического дара.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 "/>
          <p:cNvPicPr/>
          <p:nvPr/>
        </p:nvPicPr>
        <p:blipFill>
          <a:blip r:embed="rId1"/>
          <a:stretch/>
        </p:blipFill>
        <p:spPr>
          <a:xfrm>
            <a:off x="250920" y="404640"/>
            <a:ext cx="2303280" cy="273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 "/>
          <p:cNvPicPr/>
          <p:nvPr/>
        </p:nvPicPr>
        <p:blipFill>
          <a:blip r:embed="rId2"/>
          <a:stretch/>
        </p:blipFill>
        <p:spPr>
          <a:xfrm>
            <a:off x="250920" y="3429000"/>
            <a:ext cx="2330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7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7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4619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c4d7"/>
                </a:solidFill>
                <a:latin typeface="Tahoma"/>
              </a:rPr>
              <a:t>Нет, в поэтическом мире Лермонтова не найти счастливой любви в обычном ее понимании. Душевное родство возникает здесь вне "чего б то ни было земного", даже вне обычных законов времени и пространства. Вспомним поразительное стихотворение "Сон". Его даже нельзя отнести к любовной лирике, но именно оно помогает понять, что есть любовь для лермонтовского героя. Для него это прикосновение к вечности, а не путь к земному счастью. Такова любовь в том мире, что зовется поэзией Михаила Юрьевича Лермонтова.</a:t>
            </a:r>
            <a:br>
              <a:rPr sz="2200"/>
            </a:br>
            <a:r>
              <a:rPr b="1" lang="ru-RU" sz="2200" spc="-1" strike="noStrike">
                <a:solidFill>
                  <a:srgbClr val="8dc4d7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Картинка 10 из 1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92280"/>
            <a:ext cx="3995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f9699"/>
                                      </p:to>
                                    </p:animClr>
                                    <p:animClr clrSpc="rgb">
                                      <p:cBhvr>
                                        <p:cTn id="2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f9699"/>
                                      </p:to>
                                    </p:animClr>
                                    <p:set>
                                      <p:cBhvr>
                                        <p:cTn id="22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6:08:01Z</dcterms:created>
  <dc:creator>Кристюшка</dc:creator>
  <dc:description/>
  <dc:language>en-US</dc:language>
  <cp:lastModifiedBy>Кристюшка</cp:lastModifiedBy>
  <dcterms:modified xsi:type="dcterms:W3CDTF">2007-10-14T07:28:58Z</dcterms:modified>
  <cp:revision>2</cp:revision>
  <dc:subject/>
  <dc:title> Любовная лирика Михаила          Юрьевича                  Лермонтова.</dc:title>
</cp:coreProperties>
</file>