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507-01F8-4696-87FD-E9A3508E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077-B755-4BEC-A19F-32E87C98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770-C44E-4B14-8CF5-644A7A70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AA3-9AFF-4B47-B073-F5932B39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8E83-6FAA-4F08-B471-4501029A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9034-0963-4303-BCD7-123ED9F2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E02B-EDBD-435B-BD4C-AB2F3725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2DE-3627-47A2-BA19-F7F92409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DF32-ED41-4C16-8570-1F13B5BB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B6A4-0571-482A-9022-2C7101DA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632D-0DE9-4A90-AC65-3EB0F55E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A9A-4AA5-464A-8053-CFD29765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9DA4-10ED-4A0D-866C-7EA2AD53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6704-E6FF-49CF-8332-8DD543E3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B023-F8F9-4449-B9FE-55141C66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9B9E-17C0-4D63-82EF-34A535A4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287D-9061-46F1-A8CD-F73F128B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D9D-8858-45DA-A05F-6CBF883A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81D-18CF-46F6-8E22-4B6CAEBF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C5D-D9C5-4AEB-BCEF-79AB2EF3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D4B-1EF6-4CFA-B7B2-403E68C3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6B8-DA4E-4AD3-929F-4DCD07E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0DE-2C23-4E0D-A342-5553C56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E7B-9842-4C8D-BD36-26CF3F8D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CB46-5206-4A45-9234-7C5A787F58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12D6-0258-46A0-A514-693CE485B3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xt.feb-web.ru/feb/lermenc/Pictures/Lre592-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elygorod.ru/img2/RusskieKartinki/Used/616Galkin_AlexandraFedorovn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xclusivebook.ru/admin/pictures/70529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nxer.ru/Images/l2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87280" y="0"/>
            <a:ext cx="615636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юбовная лирика Михаил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Юрьевич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Лермонто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3640" y="3284280"/>
            <a:ext cx="838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Москва, Москва! Люблю тебя как сын! Как русский, - сильно, пламенно и нежно.»- М.Ю. Лермонтов. С именем Лермонтова открывается новая страница русской литературы. Жизнь и творчество этого замечательного поэта протекали в самое тяжелое и мрачное для России время, время засилья "голубых мундиров" и жесточайшей реакции. Поэтому его стремление к прекрасному оправдывается огромным желанием воспеть Родину, какой бы жалкой она ни была. Именно из-за этого тема Родины является одной из ведущих тем в творчестве Лермонто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2736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Картинка 13 из 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013200" cy="4005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87640" y="260280"/>
            <a:ext cx="6156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7"/>
                </a:solidFill>
                <a:latin typeface="Tahoma"/>
              </a:rPr>
              <a:t>    </a:t>
            </a: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Я не могу любовь определить,</a:t>
            </a:r>
            <a:br>
              <a:rPr sz="2200"/>
            </a:b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    Но это страсть сильнейшая! - любить</a:t>
            </a:r>
            <a:br>
              <a:rPr sz="2200"/>
            </a:b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    Необходимость мне; и я любил</a:t>
            </a:r>
            <a:br>
              <a:rPr sz="2200"/>
            </a:b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    Всем напряжением душевных сил.</a:t>
            </a:r>
            <a:br>
              <a:rPr sz="2200"/>
            </a:br>
            <a:r>
              <a:rPr b="1" lang="en-US" sz="2200" spc="-1" strike="noStrike">
                <a:solidFill>
                  <a:srgbClr val="ffffb7"/>
                </a:solidFill>
                <a:latin typeface="Tahoma"/>
              </a:rPr>
              <a:t>Эти строки из стихотворения "1831-го, июня, 11 дня" - словно эпиграф к лирике Лермонтова, лирике "сильнейших страстей" и глубоких страданий. И хотя Лермонтов вступил в русскую поэзию прямым наследником Пушкина, эта вечная тема - тема любви - зазвучала у него совершенно по-иному. "Пушкин - дневное, Лермонтов - ночное светило нашей поэзии", - писал Д. Мережковский. И воистину, если для Пушкина любовь - источник счастья, то для Лермонтова она неразлучна с печалью.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132000" y="0"/>
            <a:ext cx="601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Михаила Юрьевича мотивы одиночества, противостояния героя-бунтаря "бесчувственной толпе" пронизывают и стихи о любви, в его художественном мире высокое чувство всегда трагично.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Лишь изредка в стихах юного поэта мечта о любви сливалась с мечтою о счастье: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Меня бы примирила ты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С людьми и буйными страстями, -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писал он, обращаясь к Наталии Федоровне Ивановой, в которую был страстно и безнадежно влюблен. Но это лишь одна, не повторившаяся больше нота. Весь же цикл посвященных Ивановой стихов - это история неразделенного и оскорбленного чувства: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Я недостоин, может быть,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Твоей любви; не мне судить,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Но ты обманом наградила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Мои надежды и мечты,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И я скажу, что ты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     Несправедливо поступила.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Картинка 1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692280"/>
            <a:ext cx="3090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Перед нами словно страницы дневника, где запечатлены все оттенки пережитого: от вспыхивающей безумной надежды до горького разочарования: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И стих безумный, стих прощальный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В альбом твой бросил для тебя,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Как след единственный, печальный,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Который здесь оставлю я.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Лирическому герою суждено остаться одиноким и непонятым, но это лишь усиливает в нем сознание своей избранности, предназначенности для иной, высшей свободы и иного счастья - счастья творить. Завершающее цикл стихотворение - одно из самых прекрасных у Лермонтова - это не только расставание с женщиной, это и освобождение от унижающей и порабощающей страсти: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 Ты позабыла: я свободы</a:t>
            </a:r>
            <a:br>
              <a:rPr sz="2300"/>
            </a:br>
            <a:r>
              <a:rPr b="1" lang="en-US" sz="2300" spc="-1" strike="noStrike">
                <a:solidFill>
                  <a:srgbClr val="ffff99"/>
                </a:solidFill>
                <a:latin typeface="Tahoma"/>
              </a:rPr>
              <a:t>   Для заблужденья не отдам..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Картинка 320 из 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52640"/>
            <a:ext cx="30243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2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аст между высоким чувством героя и "коварной изменой" героини в самом строе стиха, насыщенном антитезами, столь характерными для романтической поэзии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И целый мир возненавиде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Чтобы тебя любить сильней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т типично романтический прием определяет стиль не только одного стихотворения - на контрастах, противопоставлениях построена вся лирика поэта. И рядом с образом "изменившегося ангела" под его пером возникает другой женский образ, возвышенный и идеальный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Улыбку я твою вида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Она мне сердце восхищала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и стихи посвящены Варваре Лопухиной, любовь к которой не угасала у поэта до конца дней. Пленительный облик этой нежной, одухотворенной женщины предстает перед нами и в живописи, и в поэзии Михаила Юрьевича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...все ее движень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Улыбки, речи и черт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Так полны жизни, вдохновень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Так полны чудной простоты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 и в стихах, посвященных Варваре Александровне, звучит тот же мотив разлуки, роковой неосуществимости счасть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Мы случайно сведены судьбо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Мы себя нашли один в друго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И душа сдружилася с душо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Хоть пути не кончить им вдвое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56000" y="0"/>
            <a:ext cx="658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Отчего же так трагична судьба любящих? Известно, что Лопухина ответила на чувство Лермонтова, между ними не было непреодолимых преград. Разгадка, наверное, кроется в том, что лермонтовский "роман в стихах" не был зеркальным отражением его жизни. Поэт писал о трагической невозможности счастья в этом жестоком мире, "среди ледяного, среди беспощадного света". Перед нами опять возникает романтический контраст между высоким идеалом и низкой действительностью, в которой он осуществиться не может. Поэтому Лермонтова так притягивают ситуации, таящие в себе нечто роковое. Это может быть чувство, восставшее против власти "светских цепей":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  Мне грустно, потому что я тебя люблю,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  И знаю: молодость цветущую твою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  Не пощадит молвы коварное гоненье.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Это может быть гибельная страсть, изображенная в таких стихотворениях, как "Дары Терека", "Морская царевна".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Вдумываясь в эти стихи, невозможно не вспомнить знаменитый "Парус":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   Увы! Он счастия не ищет...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Этой строке вторят другие: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Что без страданий жизнь поэта?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И что без бури океан?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Лермонтовский герой будто бежит от безмятежности, от покоя, за которым для него - сон души, угасание и самого поэтического дара.</a:t>
            </a:r>
            <a:br>
              <a:rPr sz="1800"/>
            </a:br>
            <a:r>
              <a:rPr b="1" lang="ru-RU" sz="1800" spc="-1" strike="noStrike">
                <a:solidFill>
                  <a:srgbClr val="ffcc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 "/>
          <p:cNvPicPr/>
          <p:nvPr/>
        </p:nvPicPr>
        <p:blipFill>
          <a:blip r:embed="rId1"/>
          <a:stretch/>
        </p:blipFill>
        <p:spPr>
          <a:xfrm>
            <a:off x="250920" y="404640"/>
            <a:ext cx="2303280" cy="273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 "/>
          <p:cNvPicPr/>
          <p:nvPr/>
        </p:nvPicPr>
        <p:blipFill>
          <a:blip r:embed="rId2"/>
          <a:stretch/>
        </p:blipFill>
        <p:spPr>
          <a:xfrm>
            <a:off x="250920" y="3429000"/>
            <a:ext cx="2330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7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7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4619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dc4d7"/>
                </a:solidFill>
                <a:latin typeface="Tahoma"/>
              </a:rPr>
              <a:t>Нет, в поэтическом мире Лермонтова не найти счастливой любви в обычном ее понимании. Душевное родство возникает здесь вне "чего б то ни было земного", даже вне обычных законов времени и пространства. Вспомним поразительное стихотворение "Сон". Его даже нельзя отнести к любовной лирике, но именно оно помогает понять, что есть любовь для лермонтовского героя. Для него это прикосновение к вечности, а не путь к земному счастью. Такова любовь в том мире, что зовется поэзией Михаила Юрьевича Лермонтова.</a:t>
            </a:r>
            <a:br>
              <a:rPr sz="2200"/>
            </a:br>
            <a:r>
              <a:rPr b="1" lang="ru-RU" sz="2200" spc="-1" strike="noStrike">
                <a:solidFill>
                  <a:srgbClr val="8dc4d7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Картинка 10 из 1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92280"/>
            <a:ext cx="3995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f9699"/>
                                      </p:to>
                                    </p:animClr>
                                    <p:animClr clrSpc="rgb">
                                      <p:cBhvr>
                                        <p:cTn id="2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f9699"/>
                                      </p:to>
                                    </p:animClr>
                                    <p:set>
                                      <p:cBhvr>
                                        <p:cTn id="22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6:08:01Z</dcterms:created>
  <dc:creator>Кристюшка</dc:creator>
  <dc:description/>
  <dc:language>en-US</dc:language>
  <cp:lastModifiedBy>Кристюшка</cp:lastModifiedBy>
  <dcterms:modified xsi:type="dcterms:W3CDTF">2007-10-14T07:28:58Z</dcterms:modified>
  <cp:revision>2</cp:revision>
  <dc:subject/>
  <dc:title> Любовная лирика Михаила          Юрьевича                  Лермонтова.</dc:title>
</cp:coreProperties>
</file>