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C78-0032-413E-8414-3AA885F3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2DD-4AA8-43AE-954C-EC328179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2B0-7C54-434C-8212-1E6BB991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D48-18F1-4C1B-BAF2-9F4B90F4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1EF2-C2AD-49D8-9EE0-F7562D7D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6D61-28ED-4A0F-884D-CEDE2292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BA6D-53FB-4739-BFF4-FBA6747B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D0EB-03A8-416B-940C-DB32D617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5616-A0DD-48D1-AF7C-650665B1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C223-4EB5-4671-970F-25233F3E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F665-075F-4339-AFA3-29C5775D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1CC-132F-4659-9A79-B668ABD8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D81E-41A7-42D7-B88E-9F90F729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463F-D25E-493C-A67D-9FD5AE33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F9A1-2C95-4E14-A41D-6F0A79B3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C2F8-0A0E-4145-A751-EE3A8865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EAF9-CA38-466F-B8F9-35ED47D6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6EB-117D-4CA3-B383-3C92EDE5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3D9-76D7-43A1-88F6-5396DF6E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070-713F-4E67-A6CF-8707FCE8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A33-72EC-4F05-ACA8-AB7C05D6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6C9-364E-451D-82EA-8BBFD698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04F-A9BD-4D54-BD4B-9461F6EA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43C-0092-4BD2-B50A-08AA9DC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CE08-83EF-4D21-B4A8-D5FD292615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E4ED-BA3D-44C1-A7B1-E03A09FF56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95280" y="114300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«Со своим уставом в чужой монастырь не ходят». 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Но «Один в поле не воин»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124080" y="53352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Карта путеше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4495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П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послов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Река Погов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3124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Сказочн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2209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Деревня Небы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23880" y="457200"/>
            <a:ext cx="71629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Путешествие в страну послови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и погово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http://content.foto.mail.ru/mail/ladrod/2/i-7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362320" y="8380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Сказочный 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182880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Устное народное творче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57400" y="76212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609480"/>
            <a:ext cx="4876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Поле послов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5238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обери послов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Физ. 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Я пословиц много знаю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Вам и вам их расскажу (повороты влево и вправо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Приходите в гости к нам (ходьба на месте, поклон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И садитесь по мест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33720" y="68580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Говорливая речка «Поговор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66680" y="5335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Деревня «Небылиц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Синквей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инквейн - стихотворение из пяти строк, написанное по определенным правил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 строка - заголовок, в который вносится ключевое слово, понятие, тема синквейна, выраженное в форме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 у щ е с т в и т е л ь н о г о.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 строка -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два п р и л а г а т е л ь н ы х. 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3 строка -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три г л а г о л а. 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4 строка -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фраза, несущая определенный смысл.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5 строка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-  вывод, одно(два) слова, существительное(обычно).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Пословиц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Мудрая, верна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Учит, обобщает, помогает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Передается из уст в уст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Народная мудрост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07:22:57Z</dcterms:created>
  <dc:creator>айжан</dc:creator>
  <dc:description/>
  <dc:language>en-US</dc:language>
  <cp:lastModifiedBy>айжан</cp:lastModifiedBy>
  <dcterms:modified xsi:type="dcterms:W3CDTF">2012-09-23T12:50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