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6BB5-1A49-49AE-B15F-2576305E3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5910-E4FE-4A61-A723-B99B65485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B735-B31D-4CE0-A239-847F122D2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2C84-AB15-4CDA-A50E-02B3F31CC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809DD-BE01-4439-8923-802FA54D6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D1F6E-B926-475D-9EA5-0491F43C2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0094A-6838-4566-911E-BEB4A2B58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65E2D-B4EE-437F-9E9B-16A63DB4E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EC5C2-492A-46BE-8489-8B43A275E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AC6F5-6DC6-45B2-B9A6-FF421F2A7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FA6EA-C4E2-496A-A025-0B1F13BBD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3DD7-ADB0-4D06-9F49-8113998AA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7595D-26EE-4CF7-BC69-B98C37875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B1192-50B0-473A-9BB9-61C1DF925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7905D-4D50-4843-8873-7A7531C7E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F8A2C-321E-420B-B6D8-0BB4C289B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8F139-8EF6-456A-B7C2-B40D131E2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C4F7-600D-4448-ABB3-9ADFC159B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E0DD-50F0-45EF-A622-C1C72AA89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CB3E-523D-42A1-9581-A458D1694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4AC2-E246-4131-9424-264901EF7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C2E4-437F-4C39-9800-93C79E13F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6315-A111-451C-BEB6-C30C7D214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541A-A528-48C6-9FB2-85BE5A2B4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76D66-5D3E-4E7F-B19B-CCBA3B6F5A49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9AFD4-E618-4642-845F-DA60AAC6EBC8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295280" y="1143000"/>
            <a:ext cx="6705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6668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Comic Sans MS"/>
              </a:rPr>
              <a:t>«Со своим уставом в чужой монастырь не ходят». </a:t>
            </a:r>
            <a:br>
              <a:rPr sz="4000"/>
            </a:br>
            <a:r>
              <a:rPr b="1" i="1" lang="en-US" sz="4000" spc="-1" strike="noStrike">
                <a:solidFill>
                  <a:srgbClr val="ff0000"/>
                </a:solidFill>
                <a:latin typeface="Comic Sans MS"/>
              </a:rPr>
              <a:t>Но «Один в поле не воин»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3124080" y="533520"/>
            <a:ext cx="4800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Comic Sans MS"/>
              </a:rPr>
              <a:t>Карта путешеств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581280" y="4495680"/>
            <a:ext cx="2438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Comic Sans MS"/>
              </a:rPr>
              <a:t>Пол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Comic Sans MS"/>
              </a:rPr>
              <a:t>послови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Comic Sans MS"/>
              </a:rPr>
              <a:t>Река Поговор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371600" y="312408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Comic Sans MS"/>
              </a:rPr>
              <a:t>Сказочный ле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648320" y="220968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Comic Sans MS"/>
              </a:rPr>
              <a:t>Деревня Небыл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1523880" y="457200"/>
            <a:ext cx="716292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Comic Sans MS"/>
              </a:rPr>
              <a:t>Путешествие в страну пословиц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Comic Sans MS"/>
              </a:rPr>
              <a:t>и поговор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http://content.foto.mail.ru/mail/ladrod/2/i-76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2362320" y="838080"/>
            <a:ext cx="5410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Tahoma"/>
              </a:rPr>
              <a:t>Сказочный ле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828800" y="1828800"/>
            <a:ext cx="6172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Tahoma"/>
              </a:rPr>
              <a:t>Устное народное творчество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2057400" y="762120"/>
            <a:ext cx="5257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286000" y="609480"/>
            <a:ext cx="48769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Comic Sans MS"/>
              </a:rPr>
              <a:t>Поле послови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28600" y="1523880"/>
            <a:ext cx="5638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Собери пословиц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8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Comic Sans MS"/>
              </a:rPr>
              <a:t>Физ. минутк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Comic Sans MS"/>
              </a:rPr>
              <a:t>Я пословиц много знаю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Comic Sans MS"/>
              </a:rPr>
              <a:t>Вам и вам их расскажу (повороты влево и вправо)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Comic Sans MS"/>
              </a:rPr>
              <a:t>Приходите в гости к нам (ходьба на месте, поклон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Comic Sans MS"/>
              </a:rPr>
              <a:t>И садитесь по местам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2133720" y="685800"/>
            <a:ext cx="5867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Comic Sans MS"/>
              </a:rPr>
              <a:t>Говорливая речка «Поговорк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0" y="46080"/>
            <a:ext cx="9144000" cy="681192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066680" y="533520"/>
            <a:ext cx="6477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Comic Sans MS"/>
              </a:rPr>
              <a:t>Деревня «Небылиц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8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omic Sans MS"/>
              </a:rPr>
              <a:t>Синквейн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7848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Синквейн - стихотворение из пяти строк, написанное по определенным правилам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   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1 строка - заголовок, в который вносится ключевое слово, понятие, тема синквейна, выраженное в форме </a:t>
            </a: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с у щ е с т в и т е л ь н о г о. 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2 строка - </a:t>
            </a: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два п р и л а г а т е л ь н ы х. </a:t>
            </a: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3 строка - </a:t>
            </a: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три г л а г о л а. </a:t>
            </a: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4 строка - </a:t>
            </a: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фраза, несущая определенный смысл.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 </a:t>
            </a: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5 строка </a:t>
            </a: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-  вывод, одно(два) слова, существительное(обычно). 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8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Comic Sans MS"/>
              </a:rPr>
              <a:t>Пословица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Comic Sans MS"/>
              </a:rPr>
              <a:t>Мудрая, верная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Comic Sans MS"/>
              </a:rPr>
              <a:t>Учит, обобщает, помогает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Comic Sans MS"/>
              </a:rPr>
              <a:t>Передается из уст в уста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Comic Sans MS"/>
              </a:rPr>
              <a:t>Народная мудрость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3T07:22:57Z</dcterms:created>
  <dc:creator>айжан</dc:creator>
  <dc:description/>
  <dc:language>en-US</dc:language>
  <cp:lastModifiedBy>айжан</cp:lastModifiedBy>
  <dcterms:modified xsi:type="dcterms:W3CDTF">2012-09-23T12:50:01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