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8578-D79A-42A0-B852-BFDD0E81C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9A11-A9D1-4079-BAF0-FB900C03E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0C4-C1AD-42B2-A023-95C8A744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C13-27BA-4AF0-BCC7-7746DBF3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F20-AFB4-4E4F-AEEC-88193C4C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E066-8A66-4AF3-B29B-10058361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0FD-F8FB-424D-B5BE-FB7D81BE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02A-A094-45E8-BAAC-5D4A6299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664-543F-4164-BCC9-6E331504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5AC-95D1-4F39-A83E-AC646B69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20D-0AD8-4C1A-A4A3-FA9108CE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63B-5883-49FB-A42C-B8075851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FB8-CD7D-47FC-8905-BEBD0629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66C-BED5-4FCE-91F1-EA4CCFE5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7F00-E844-48F8-9044-3FA91F941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xdream.flamber.ru/files/photos/1174585339/1189966811_f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Картинка 12 из 42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785960"/>
            <a:ext cx="7929720" cy="4786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642960" y="642960"/>
            <a:ext cx="77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МА-главное слово в каждой судьб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 (500x373, 31Kb)"/>
          <p:cNvPicPr/>
          <p:nvPr/>
        </p:nvPicPr>
        <p:blipFill>
          <a:blip r:embed="rId1"/>
          <a:stretch/>
        </p:blipFill>
        <p:spPr>
          <a:xfrm>
            <a:off x="250920" y="204840"/>
            <a:ext cx="864216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Не важно как его зовут…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будешь называть 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М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0"/>
            <a:ext cx="8748720" cy="79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иво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ленький мальчик спросил маму: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чему ты плачешь?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тому что я - женщина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Я не понимаю!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ма обняла его и сказала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Этого ты не поймешь никогда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гда мальчик спросил y отца: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чему мама иногда плачет без причин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женщины иногда плачут без причин, - всё, что смог ответить отец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том мальчик вырос, стал мужчиной, но не переставал удивляться: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чему же женщины плачут?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конец, он спросил у Бога. И Бог ответил: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Задумав женщину, Я хотел, чтобы она была совершенной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дал ей плечи такие сильные, чтобы держать весь мир, и такие нежные, чтобы поддерживать детскую головку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дал ей дух настолько сильный, чтобы вынести роды и другую боль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дал ей волю, настолько сильную, что она идёт вперёд, когда другие падают, и она заботится о павших, и больных, и усталых, не жалуясь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дал ей доброту любить детей при любых обстоятельствах, даже если они обижают её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дал ей силу поддерживать мужа, несмотря на все его недостатки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сделал её из его ребра, чтобы она защищала его сердце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дал ей мудрость понять, что хороший муж никогда не причиняет жене боль намеренно, но иногда испытывает её силу и решимость стать рядом с ним, без колебаний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наконец, Я дал ей слёзы. И право проливать их где и когда необходимо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ебе, сын Мой, надо понять, что красота женщины не в её одежде, причёске или маникюре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ё красота в глазах, которые открывают дверь к её сердцу - тому месту, где обитает любовь...</a:t>
            </a:r>
            <a:br>
              <a:rPr sz="1400"/>
            </a:br>
            <a:br>
              <a:rPr sz="16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20.jpg (349x530, 65Kb)"/>
          <p:cNvPicPr/>
          <p:nvPr/>
        </p:nvPicPr>
        <p:blipFill>
          <a:blip r:embed="rId1"/>
          <a:stretch/>
        </p:blipFill>
        <p:spPr>
          <a:xfrm>
            <a:off x="0" y="0"/>
            <a:ext cx="3324240" cy="5048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348000" y="0"/>
            <a:ext cx="57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учила ме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ВАЖАТЬ ЧУЖОЙ ТРУ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«Если вы собрались переубивать друг друга — идите на улицу, я только что полы вымыла»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276720" y="90792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учила ме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СЛИТЬ ЛОГИЧ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тому что я так сказала, вот почему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276720" y="155736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учила ме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МАТЬ О ПОСЛЕДСТВИЯ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от вывалишься сейчас из окна — не возьму тебя с собой в магазин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348000" y="242100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научила ме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ЙКОСТ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е выйдешь из-за стола, пока не доешь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348000" y="3068640"/>
            <a:ext cx="57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учила ме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ЗАВИДОВАТ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а в мире миллионы детей, которым не так повезло с родителями, как тебе»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3348000" y="400536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учила ме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ЕЛО СМОТРЕТЬ В БУДУЩЕЕ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ж погоди, дома я с тобой поговорю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0" y="515772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научила ме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М САМОЛЕ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сли не перестанешь косить глазами — на всю жизнь так останешься»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0" y="580536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преподала мн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Ы ГЕНЕ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«Это у тебя все от отца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0" y="62164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научила мен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ШЕЙ СПРАВЕДЛИВОСТ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тоб твои дети были такие же, как ты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008000" y="1341360"/>
            <a:ext cx="8136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й милый, родной челов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мне всегда помог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много в жизни моей разных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шь, мама одна о них з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кой согреет, советом помож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нимет меня и ничто не трево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987640" y="40464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804000" y="580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ижебовская Т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116000" y="249228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Прости меня, мама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Ennio Moriconne - Le Vent, Le Gri.mp3" descr=""/>
          <p:cNvPicPr/>
          <p:nvPr/>
        </p:nvPicPr>
        <p:blipFill>
          <a:blip r:embed="rId1"/>
          <a:stretch/>
        </p:blipFill>
        <p:spPr>
          <a:xfrm>
            <a:off x="3952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0.0)">
                                      <p:cBhvr>
                                        <p:cTn id="91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2411280" y="-38160"/>
            <a:ext cx="6481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кажи ей спасибо за то, что не зр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Живешь ты свою ненапрасную жизн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 то, что тебя окружают друзья,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 это спасибо скаж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 небо, что солнцем согрело теб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 горы, которые пали у ног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даже за злую метель феврал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 первый апрельский цвето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 детские сказки про «диких гусей»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 юность, которой сосчитаны дн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гда постепенно ты станешь взросле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е теплоту сохран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едь к ней на часик, спроси «как дела?»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на тебе будет рад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знай, что она тебе всё отдал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ей ничего не надо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2143080" y="357120"/>
            <a:ext cx="414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анова, Епистиния Фёд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357120" y="1071720"/>
            <a:ext cx="82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пистини́я Фёдоровна Степа́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 — мать 9 сыновей, которые погибли при защите Советской Род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600px-Stepanova"/>
          <p:cNvPicPr/>
          <p:nvPr/>
        </p:nvPicPr>
        <p:blipFill>
          <a:blip r:embed="rId1"/>
          <a:stretch/>
        </p:blipFill>
        <p:spPr>
          <a:xfrm>
            <a:off x="428760" y="1857240"/>
            <a:ext cx="4929120" cy="25718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5"/>
          <p:cNvSpPr/>
          <p:nvPr/>
        </p:nvSpPr>
        <p:spPr>
          <a:xfrm>
            <a:off x="2857680" y="4573800"/>
            <a:ext cx="6286320" cy="64260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ь о Епистинии Федоровне Степан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4" descr="http://upload.wikimedia.org/wikipedia/commons/5/54/Coat_of_Arms_of_Timashevsk_rayon_%28Krasnodar_krai%29.png"/>
          <p:cNvPicPr/>
          <p:nvPr/>
        </p:nvPicPr>
        <p:blipFill>
          <a:blip r:embed="rId2"/>
          <a:stretch/>
        </p:blipFill>
        <p:spPr>
          <a:xfrm>
            <a:off x="0" y="4643280"/>
            <a:ext cx="2071800" cy="22147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6"/>
          <p:cNvSpPr/>
          <p:nvPr/>
        </p:nvSpPr>
        <p:spPr>
          <a:xfrm>
            <a:off x="2271600" y="5460840"/>
            <a:ext cx="46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матери на гербе Тимаше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25640" y="4320"/>
            <a:ext cx="871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ого знака ордена «Родительская сла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dmord"/>
          <p:cNvPicPr/>
          <p:nvPr/>
        </p:nvPicPr>
        <p:blipFill>
          <a:blip r:embed="rId1"/>
          <a:stretch/>
        </p:blipFill>
        <p:spPr>
          <a:xfrm>
            <a:off x="1143000" y="1928880"/>
            <a:ext cx="72151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 (500x374, 29Kb)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  <p:pic>
        <p:nvPicPr>
          <p:cNvPr id="51" name="SP0000.WAV" descr=""/>
          <p:cNvPicPr/>
          <p:nvPr/>
        </p:nvPicPr>
        <p:blipFill>
          <a:blip r:embed="rId2"/>
          <a:stretch/>
        </p:blipFill>
        <p:spPr>
          <a:xfrm>
            <a:off x="11872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 (500x374, 33Kb)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 (500x374, 33Kb)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1405523_1181850961_3 (500x372, 24Kb)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 (500x372, 55Kb)"/>
          <p:cNvPicPr/>
          <p:nvPr/>
        </p:nvPicPr>
        <p:blipFill>
          <a:blip r:embed="rId1"/>
          <a:stretch/>
        </p:blipFill>
        <p:spPr>
          <a:xfrm>
            <a:off x="179280" y="214200"/>
            <a:ext cx="87138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 (500x372, 25Kb)"/>
          <p:cNvPicPr/>
          <p:nvPr/>
        </p:nvPicPr>
        <p:blipFill>
          <a:blip r:embed="rId1"/>
          <a:stretch/>
        </p:blipFill>
        <p:spPr>
          <a:xfrm>
            <a:off x="179280" y="214200"/>
            <a:ext cx="87138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 (500x373, 48Kb)"/>
          <p:cNvPicPr/>
          <p:nvPr/>
        </p:nvPicPr>
        <p:blipFill>
          <a:blip r:embed="rId1"/>
          <a:stretch/>
        </p:blipFill>
        <p:spPr>
          <a:xfrm>
            <a:off x="250920" y="204840"/>
            <a:ext cx="87138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 (500x373, 32Kb)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5:33:25Z</dcterms:created>
  <dc:creator>Администратор</dc:creator>
  <dc:description/>
  <dc:language>en-US</dc:language>
  <cp:lastModifiedBy>Света</cp:lastModifiedBy>
  <dcterms:modified xsi:type="dcterms:W3CDTF">2006-01-01T00:55:51Z</dcterms:modified>
  <cp:revision>12</cp:revision>
  <dc:subject/>
  <dc:title>Слайд 1</dc:title>
</cp:coreProperties>
</file>