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749-4F07-4CCE-A391-F755A857C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F5E6-5C4C-4D91-B78D-8CA1C6798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DF3-DDC7-4EEB-A96A-2782340E0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7BEC-3D60-4930-AD06-C54F461E0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157-E46A-4B14-AD8A-DC80493D4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78BB-0058-4333-842B-84E403696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F29-B170-4EF5-AF58-A2906B48C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C36A-D6FE-47DC-8201-7E9D242B4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E8E-F30F-4552-B956-88EDAD32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BE3-5B10-4464-86E2-BCA1507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159-E9A8-42AA-92BC-49EA9CBB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1D0-87A8-4466-880A-178155E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180-AD2A-407F-93DA-4897D4C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ADD-E2D7-40FF-B98C-9BEE20F2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732-F901-4848-855C-4E2F497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51A-BAE4-45B6-A356-F037D79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FC5-6099-49A5-976F-840E984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713-6517-4960-9098-A1F2C817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29F-0D88-4D85-A6F4-1561384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295-0A49-4513-A051-CECEB77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3341-5610-4D6D-A653-A605E2FA0522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тский лагерь "Солнечный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F33-1FC6-4127-9AC2-62363256E65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8920" y="90792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8080"/>
                </a:solidFill>
                <a:latin typeface="Arial"/>
              </a:rPr>
              <a:t>МАТЕМАТИКА В ПРОФЕССИИ МОИХ РОДИТЕЛЕ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619280" y="3827520"/>
            <a:ext cx="698328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дготовил: Артём Брюхачё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Учащийся 5 </a:t>
            </a:r>
            <a:r>
              <a:rPr b="1" lang="ru-RU" sz="2600" spc="-1" strike="noStrike" baseline="30000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993300"/>
                </a:solidFill>
                <a:latin typeface="Arial"/>
              </a:rPr>
              <a:t> класс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Руководитель: Фабер Галина Никола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619280" y="473040"/>
            <a:ext cx="547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МКОУ «Гимназия имени Горького А.М.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276720" y="627696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ahoma"/>
              </a:rPr>
              <a:t>2012-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1. Выяснить какую роль играет математика в профессии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2. Выяснить какие математические умения использую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203640" y="3284640"/>
            <a:ext cx="565308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ahoma"/>
              </a:rPr>
              <a:t>Она педагог-психолог, работает в Москаленском Доме детского творчества</a:t>
            </a: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76720" y="620280"/>
            <a:ext cx="5076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Times New Roman"/>
              </a:rPr>
              <a:t>Это моя мама – Елена Фёдоровна Д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001 398 (копия)"/>
          <p:cNvPicPr/>
          <p:nvPr/>
        </p:nvPicPr>
        <p:blipFill>
          <a:blip r:embed="rId1"/>
          <a:stretch/>
        </p:blipFill>
        <p:spPr>
          <a:xfrm>
            <a:off x="611280" y="1125360"/>
            <a:ext cx="2271600" cy="338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5280" y="333360"/>
            <a:ext cx="8497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В профессии психолог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математика играет важную ро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1.Психолог проводит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ahoma"/>
              </a:rPr>
              <a:t>психолого-педагогическую диагностику</a:t>
            </a: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 –  изучает индивидуальные особенности личности воспитанников и педагогов.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Математика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нужна  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для обработки да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и подсчёта результа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исследов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3" descr="Педагог года 045"/>
          <p:cNvPicPr/>
          <p:nvPr/>
        </p:nvPicPr>
        <p:blipFill>
          <a:blip r:embed="rId1"/>
          <a:stretch/>
        </p:blipFill>
        <p:spPr>
          <a:xfrm>
            <a:off x="5364000" y="371628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755640" y="333360"/>
            <a:ext cx="770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В профессии психолога математика играет важную ро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2. Психолог составляет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ahoma"/>
              </a:rPr>
              <a:t> программы для занятий с воспитанниками и педагог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Математика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нужна, чтобы правильно составить план – подсчитать количество часов и темы занят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755640" y="333360"/>
            <a:ext cx="80643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В профессии психолога математика играет важную ро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3. Психолог проводит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ahoma"/>
              </a:rPr>
              <a:t> развивающие занятия с деть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Математика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нужна, чтобы играть с детьми в игры, учить их считать, логически мысли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3" descr="IMG_0358"/>
          <p:cNvPicPr/>
          <p:nvPr/>
        </p:nvPicPr>
        <p:blipFill>
          <a:blip r:embed="rId1"/>
          <a:stretch/>
        </p:blipFill>
        <p:spPr>
          <a:xfrm>
            <a:off x="1619280" y="4437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MG_0375"/>
          <p:cNvPicPr/>
          <p:nvPr/>
        </p:nvPicPr>
        <p:blipFill>
          <a:blip r:embed="rId2"/>
          <a:stretch/>
        </p:blipFill>
        <p:spPr>
          <a:xfrm>
            <a:off x="5292720" y="436572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55640" y="333360"/>
            <a:ext cx="80643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ahoma"/>
              </a:rPr>
              <a:t>В профессии психолога математика играет важную ро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Психолог составляет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ahoma"/>
              </a:rPr>
              <a:t>отчёт по итогам</a:t>
            </a:r>
            <a:r>
              <a:rPr b="0" lang="ru-RU" sz="3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ahoma"/>
              </a:rPr>
              <a:t>своей рабо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Математика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нужна, чтобы </a:t>
            </a: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подсчитать сколько психолог провел занятий, диагностик, семинаров, консультаций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и т.д. И на основе полученных данных </a:t>
            </a:r>
            <a:r>
              <a:rPr b="0" lang="ru-RU" sz="3200" spc="-1" strike="noStrike" u="sng">
                <a:solidFill>
                  <a:srgbClr val="808080"/>
                </a:solidFill>
                <a:uFillTx/>
                <a:latin typeface="Tahoma"/>
              </a:rPr>
              <a:t>сделать анализ</a:t>
            </a:r>
            <a:r>
              <a:rPr b="0" lang="ru-RU" sz="3200" spc="-1" strike="noStrike">
                <a:solidFill>
                  <a:srgbClr val="808080"/>
                </a:solidFill>
                <a:latin typeface="Tahoma"/>
              </a:rPr>
              <a:t> своей рабо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258920" y="508464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03280" y="515772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619280" y="537372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835280" y="558972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476360" y="5157720"/>
            <a:ext cx="72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403280" y="1476360"/>
            <a:ext cx="64818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ahoma"/>
              </a:rPr>
              <a:t>Желаю успехов в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ahoma"/>
              </a:rPr>
              <a:t>изучении математики!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5:53:26Z</dcterms:created>
  <dc:creator>1</dc:creator>
  <dc:description/>
  <dc:language>en-US</dc:language>
  <cp:lastModifiedBy>User</cp:lastModifiedBy>
  <dcterms:modified xsi:type="dcterms:W3CDTF">2012-11-28T17:31:22Z</dcterms:modified>
  <cp:revision>23</cp:revision>
  <dc:subject/>
  <dc:title>Министерство образования и науки Российской Федерации Всероссийский детский центр «Орленок»</dc:title>
</cp:coreProperties>
</file>