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902C-73D6-4F13-8E49-DA3AA80BA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9524-D2C1-41C2-BA15-20384DC2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E2D4-7871-489E-8B8C-21ADF67FA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3359-C3BB-4380-88C7-D3B5C6D12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72E3-4B47-4B4B-827C-1E526270A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5B83-D64B-4CF8-BCC2-063989AE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02FE-0876-4FDB-AADE-06124278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6A95-AB94-4D6D-A28E-F4525816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F8C1-C9BF-4F15-8B0D-D2710C57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851C-21D0-44A7-860D-3C651C6C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BDFE-7D2B-47B0-AC41-37DFF36D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63B3-27BA-4ABA-AEE2-DCB992A4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AA86B-B394-4481-BDE4-BCBEE66B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7B913-AC9D-4F86-9E70-9A81CA25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55B2-48B2-43F6-BDA0-7D6AE376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1BF6-DA14-4A20-A86A-02D7F6B82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56A1-F105-43D2-A43F-3C315601E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04FB-F66E-4A80-BBB1-1117BC2D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C166-0CB6-4602-9B54-3F557CA1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26CF-0AA6-4A42-8D16-177E5DE1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AEF8-E547-4282-9460-D418F51C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769F-529A-4D91-8CD5-C8830705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C587-3A36-4CF9-9CF5-48FF7DFD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0F42-AECD-4B5E-BF25-B786F925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1B32-9698-4C45-A9F3-F933EE93895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08C7-07B5-4C2A-BA5A-FD65F359930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5"/>
          <p:cNvSpPr txBox="1"/>
          <p:nvPr/>
        </p:nvSpPr>
        <p:spPr>
          <a:xfrm>
            <a:off x="2195640" y="2133720"/>
            <a:ext cx="541944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Меры длины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88" name="WordArt 6"/>
          <p:cNvSpPr txBox="1"/>
          <p:nvPr/>
        </p:nvSpPr>
        <p:spPr>
          <a:xfrm>
            <a:off x="395280" y="260280"/>
            <a:ext cx="592452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Древняя Русь</a:t>
            </a:r>
            <a:endParaRPr b="0" i="1" lang="en-US" sz="7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3276720" y="3573360"/>
            <a:ext cx="5724360" cy="30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68360" y="260280"/>
            <a:ext cx="41752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6633"/>
                </a:solidFill>
                <a:latin typeface="Tahoma"/>
              </a:rPr>
              <a:t>Четверть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13" descr="Картинка 3 из 9"/>
          <p:cNvPicPr/>
          <p:nvPr/>
        </p:nvPicPr>
        <p:blipFill>
          <a:blip r:embed="rId1"/>
          <a:srcRect l="0" t="0" r="0" b="25224"/>
          <a:stretch/>
        </p:blipFill>
        <p:spPr>
          <a:xfrm>
            <a:off x="250920" y="1844640"/>
            <a:ext cx="4603680" cy="388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55640" y="6165720"/>
            <a:ext cx="3672000" cy="0"/>
          </a:xfrm>
          <a:prstGeom prst="line">
            <a:avLst/>
          </a:prstGeom>
          <a:ln w="63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705120" y="1700280"/>
            <a:ext cx="514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Расстояние межд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раздвинутым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большим и указательны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пальцам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3586320" y="304812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2980440" y="189000"/>
            <a:ext cx="2373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6633"/>
                </a:solidFill>
                <a:latin typeface="Tahoma"/>
              </a:rPr>
              <a:t>Пядь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390996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13" descr="Картинка 3 из 9"/>
          <p:cNvPicPr/>
          <p:nvPr/>
        </p:nvPicPr>
        <p:blipFill>
          <a:blip r:embed="rId1"/>
          <a:stretch/>
        </p:blipFill>
        <p:spPr>
          <a:xfrm>
            <a:off x="250920" y="1341360"/>
            <a:ext cx="4603680" cy="5199120"/>
          </a:xfrm>
          <a:prstGeom prst="rect">
            <a:avLst/>
          </a:prstGeom>
          <a:ln w="0">
            <a:noFill/>
          </a:ln>
        </p:spPr>
      </p:pic>
      <p:sp>
        <p:nvSpPr>
          <p:cNvPr id="128" name="TextBox 8"/>
          <p:cNvSpPr/>
          <p:nvPr/>
        </p:nvSpPr>
        <p:spPr>
          <a:xfrm>
            <a:off x="6072120" y="585792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37000" y="2240280"/>
            <a:ext cx="5607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Расстояние от конц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большого пальц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до конца мизинц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при наибольше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возможном их раздвижен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19-23 с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"/>
          <p:cNvPicPr/>
          <p:nvPr/>
        </p:nvPicPr>
        <p:blipFill>
          <a:blip r:embed="rId1"/>
          <a:srcRect l="0" t="3824" r="1866" b="5510"/>
          <a:stretch/>
        </p:blipFill>
        <p:spPr>
          <a:xfrm>
            <a:off x="457200" y="1771560"/>
            <a:ext cx="8075520" cy="40766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2571840" y="333360"/>
            <a:ext cx="3260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6633"/>
                </a:solidFill>
                <a:latin typeface="Tahoma"/>
              </a:rPr>
              <a:t>Аршин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40360" y="5445000"/>
            <a:ext cx="3311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Длина аршина – </a:t>
            </a:r>
            <a:r>
              <a:rPr b="1" lang="en-US" sz="3200" spc="-1" strike="noStrike">
                <a:solidFill>
                  <a:srgbClr val="663300"/>
                </a:solidFill>
                <a:latin typeface="Tahoma"/>
              </a:rPr>
              <a:t>71</a:t>
            </a: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 с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346560" y="0"/>
            <a:ext cx="1841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6633"/>
                </a:solidFill>
                <a:latin typeface="Tahoma"/>
              </a:rPr>
              <a:t>Фут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284720" y="1268280"/>
            <a:ext cx="5398920" cy="5399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86760" y="5733720"/>
            <a:ext cx="426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Длина фута - 30,48 с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5"/>
          <p:cNvSpPr/>
          <p:nvPr/>
        </p:nvSpPr>
        <p:spPr>
          <a:xfrm>
            <a:off x="3200040" y="270000"/>
            <a:ext cx="3170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6633"/>
                </a:solidFill>
                <a:latin typeface="Tahoma"/>
              </a:rPr>
              <a:t>Верст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1332000" y="3933720"/>
            <a:ext cx="554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Используется для определение расстояния между пунктам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324000" y="3259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13"/>
          <p:cNvSpPr/>
          <p:nvPr/>
        </p:nvSpPr>
        <p:spPr>
          <a:xfrm>
            <a:off x="395280" y="2060640"/>
            <a:ext cx="82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Верста - русская мера длины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равная пятистам саженям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что в метрической системе составля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чуть больше километр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0" y="4076640"/>
            <a:ext cx="5580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Вёрстами в народ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называлис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и дорожные столб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отмерявшие указан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расстоя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3128760" y="125280"/>
            <a:ext cx="3170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6633"/>
                </a:solidFill>
                <a:latin typeface="Tahoma"/>
              </a:rPr>
              <a:t>Верст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10" descr=""/>
          <p:cNvPicPr/>
          <p:nvPr/>
        </p:nvPicPr>
        <p:blipFill>
          <a:blip r:embed="rId1"/>
          <a:stretch/>
        </p:blipFill>
        <p:spPr>
          <a:xfrm>
            <a:off x="5222880" y="1628640"/>
            <a:ext cx="392112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92000" y="1700280"/>
            <a:ext cx="6202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Работу выполнил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учащиеся 6 класс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МБОУ Рябчинской СОШ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3300"/>
                </a:solidFill>
                <a:latin typeface="Tahoma"/>
              </a:rPr>
              <a:t>Петракова Кристин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3300"/>
                </a:solidFill>
                <a:latin typeface="Tahoma"/>
              </a:rPr>
              <a:t>Горох Мар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0" y="190080"/>
            <a:ext cx="914400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Ресур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www.alviv.okis.r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http://community.livejournal.com/ru_foto/46541504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http://praeger.narod.ru/measure/LENGHT/249.ht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http://dia-films.ru/1082-200.ht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skaz-pushkina.r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http://www.1723.ru/think/versta.h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http://www.apparel.kz/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http://www.diary.ru/~lance-casey/p143617625.ht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468360" y="59500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1" name="" descr="Система русских мер"/>
          <p:cNvPicPr/>
          <p:nvPr/>
        </p:nvPicPr>
        <p:blipFill>
          <a:blip r:embed="rId1"/>
          <a:stretch/>
        </p:blipFill>
        <p:spPr>
          <a:xfrm>
            <a:off x="5724360" y="2492280"/>
            <a:ext cx="3275280" cy="4365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2235600"/>
            <a:ext cx="5867280" cy="68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00"/>
                </a:solidFill>
                <a:latin typeface="Tahoma"/>
                <a:ea typeface="Arial"/>
              </a:rPr>
              <a:t>Русская система мер</a:t>
            </a:r>
            <a:r>
              <a:rPr b="0" lang="en-US" sz="2400" spc="-1" strike="noStrike">
                <a:solidFill>
                  <a:srgbClr val="8c0000"/>
                </a:solidFill>
                <a:latin typeface="Tahoma"/>
                <a:ea typeface="Arial"/>
              </a:rPr>
              <a:t> — система мер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0000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8c0000"/>
                </a:solidFill>
                <a:latin typeface="Tahoma"/>
                <a:ea typeface="Arial"/>
              </a:rPr>
              <a:t>традиционно применявших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0000"/>
                </a:solidFill>
                <a:latin typeface="Tahoma"/>
                <a:ea typeface="Arial"/>
              </a:rPr>
              <a:t>на Руси и в Российской импер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0000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8c0000"/>
                </a:solidFill>
                <a:latin typeface="Tahoma"/>
                <a:ea typeface="Arial"/>
              </a:rPr>
              <a:t>На смену русской систем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0000"/>
                </a:solidFill>
                <a:latin typeface="Tahoma"/>
                <a:ea typeface="Arial"/>
              </a:rPr>
              <a:t>пришла метрическая система мер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0000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8c0000"/>
                </a:solidFill>
                <a:latin typeface="Tahoma"/>
                <a:ea typeface="Arial"/>
              </a:rPr>
              <a:t>которая была допуще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0000"/>
                </a:solidFill>
                <a:latin typeface="Tahoma"/>
                <a:ea typeface="Arial"/>
              </a:rPr>
              <a:t>к применению в Росс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0000"/>
                </a:solidFill>
                <a:latin typeface="Tahoma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8c0000"/>
                </a:solidFill>
                <a:latin typeface="Tahoma"/>
                <a:ea typeface="Arial"/>
              </a:rPr>
              <a:t>по закону от 4 июня 1899 г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252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Старинные русские меры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724536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8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Tahoma"/>
              </a:rPr>
              <a:t>Меры  </a:t>
            </a:r>
            <a:br>
              <a:rPr sz="4000"/>
            </a:br>
            <a:r>
              <a:rPr b="1" lang="en-US" sz="4000" spc="-1" strike="noStrike">
                <a:solidFill>
                  <a:srgbClr val="336600"/>
                </a:solidFill>
                <a:latin typeface="Tahoma"/>
              </a:rPr>
              <a:t>длин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6" name="" descr="Старинные русские меры длины"/>
          <p:cNvPicPr/>
          <p:nvPr/>
        </p:nvPicPr>
        <p:blipFill>
          <a:blip r:embed="rId1"/>
          <a:stretch/>
        </p:blipFill>
        <p:spPr>
          <a:xfrm>
            <a:off x="4648320" y="115920"/>
            <a:ext cx="4495680" cy="6626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1854720"/>
            <a:ext cx="534996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c0000"/>
                </a:solidFill>
                <a:latin typeface="Tahoma"/>
                <a:ea typeface="Arial"/>
              </a:rPr>
              <a:t>1 миля </a:t>
            </a:r>
            <a:r>
              <a:rPr b="0" lang="en-US" sz="1800" spc="-1" strike="noStrike">
                <a:solidFill>
                  <a:srgbClr val="8c0000"/>
                </a:solidFill>
                <a:latin typeface="Tahoma"/>
                <a:ea typeface="Arial"/>
              </a:rPr>
              <a:t>= 7 вёрст = 7,468 к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8c0000"/>
                </a:solidFill>
                <a:latin typeface="Tahoma"/>
                <a:ea typeface="Arial"/>
              </a:rPr>
              <a:t>1 верста</a:t>
            </a:r>
            <a:r>
              <a:rPr b="0" lang="en-US" sz="1800" spc="-1" strike="noStrike">
                <a:solidFill>
                  <a:srgbClr val="8c0000"/>
                </a:solidFill>
                <a:latin typeface="Tahoma"/>
                <a:ea typeface="Arial"/>
              </a:rPr>
              <a:t> = 500 саженей = 1066,8 м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c0000"/>
                </a:solidFill>
                <a:latin typeface="Tahoma"/>
                <a:ea typeface="Arial"/>
              </a:rPr>
              <a:t>1 сажень</a:t>
            </a:r>
            <a:r>
              <a:rPr b="0" lang="en-US" sz="1800" spc="-1" strike="noStrike">
                <a:solidFill>
                  <a:srgbClr val="8c0000"/>
                </a:solidFill>
                <a:latin typeface="Tahoma"/>
                <a:ea typeface="Arial"/>
              </a:rPr>
              <a:t> = 3 аршина = 7 футов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c0000"/>
                </a:solidFill>
                <a:latin typeface="Tahoma"/>
                <a:ea typeface="Arial"/>
              </a:rPr>
              <a:t>100 соток = 2,133 600 м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c0000"/>
                </a:solidFill>
                <a:latin typeface="Tahoma"/>
                <a:ea typeface="Arial"/>
              </a:rPr>
              <a:t>1 аршин</a:t>
            </a:r>
            <a:r>
              <a:rPr b="0" lang="en-US" sz="1800" spc="-1" strike="noStrike">
                <a:solidFill>
                  <a:srgbClr val="8c0000"/>
                </a:solidFill>
                <a:latin typeface="Tahoma"/>
                <a:ea typeface="Arial"/>
              </a:rPr>
              <a:t> = 4 четверти = 28 дюймов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c0000"/>
                </a:solidFill>
                <a:latin typeface="Tahoma"/>
                <a:ea typeface="Arial"/>
              </a:rPr>
              <a:t>16 вершков = 0,711 200 м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c0000"/>
                </a:solidFill>
                <a:latin typeface="Tahoma"/>
                <a:ea typeface="Arial"/>
              </a:rPr>
              <a:t>1 четверть (пядь)</a:t>
            </a:r>
            <a:r>
              <a:rPr b="0" lang="en-US" sz="1800" spc="-1" strike="noStrike">
                <a:solidFill>
                  <a:srgbClr val="8c0000"/>
                </a:solidFill>
                <a:latin typeface="Tahoma"/>
                <a:ea typeface="Arial"/>
              </a:rPr>
              <a:t> = 1/12 сажени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c0000"/>
                </a:solidFill>
                <a:latin typeface="Tahoma"/>
                <a:ea typeface="Arial"/>
              </a:rPr>
              <a:t> </a:t>
            </a:r>
            <a:r>
              <a:rPr b="0" lang="en-US" sz="1600" spc="-1" strike="noStrike">
                <a:solidFill>
                  <a:srgbClr val="8c0000"/>
                </a:solidFill>
                <a:latin typeface="Tahoma"/>
                <a:ea typeface="Arial"/>
              </a:rPr>
              <a:t>¼ аршина = 4 вершка = 7 дюймов = 177,8 м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8c0000"/>
                </a:solidFill>
                <a:latin typeface="Tahoma"/>
                <a:ea typeface="Arial"/>
              </a:rPr>
              <a:t>1 фут</a:t>
            </a:r>
            <a:r>
              <a:rPr b="0" lang="en-US" sz="1800" spc="-1" strike="noStrike">
                <a:solidFill>
                  <a:srgbClr val="8c0000"/>
                </a:solidFill>
                <a:latin typeface="Tahoma"/>
                <a:ea typeface="Arial"/>
              </a:rPr>
              <a:t> = 12 дюймам = 304,8 мм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c0000"/>
                </a:solidFill>
                <a:latin typeface="Tahoma"/>
                <a:ea typeface="Arial"/>
              </a:rPr>
              <a:t>1 вершок</a:t>
            </a:r>
            <a:r>
              <a:rPr b="0" lang="en-US" sz="1800" spc="-1" strike="noStrike">
                <a:solidFill>
                  <a:srgbClr val="8c0000"/>
                </a:solidFill>
                <a:latin typeface="Tahoma"/>
                <a:ea typeface="Arial"/>
              </a:rPr>
              <a:t> = 1,75 дюйма = 44,38 мм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2893320" y="189000"/>
            <a:ext cx="3338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6633"/>
                </a:solidFill>
                <a:latin typeface="Tahoma"/>
              </a:rPr>
              <a:t>Локоть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-5400" y="2637000"/>
            <a:ext cx="4400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Расстояние от конц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вытянуто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среднего пальца ру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до локтевого сгиб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ahoma"/>
              </a:rPr>
              <a:t>38-46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10" descr="Картинка 2 из 2"/>
          <p:cNvPicPr/>
          <p:nvPr/>
        </p:nvPicPr>
        <p:blipFill>
          <a:blip r:embed="rId1"/>
          <a:stretch/>
        </p:blipFill>
        <p:spPr>
          <a:xfrm>
            <a:off x="5292720" y="1844640"/>
            <a:ext cx="31291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2769120" y="260280"/>
            <a:ext cx="3516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6633"/>
                </a:solidFill>
                <a:latin typeface="Tahoma"/>
              </a:rPr>
              <a:t>Сажень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2340000" y="3645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1042920" y="50133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35280" y="184464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роисходит от славянского сяг - </a:t>
            </a:r>
            <a:r>
              <a:rPr b="1" lang="ru-RU" sz="3200" spc="-1" strike="noStrike">
                <a:solidFill>
                  <a:srgbClr val="663300"/>
                </a:solidFill>
                <a:latin typeface="Tahoma"/>
              </a:rPr>
              <a:t>ша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2349360"/>
            <a:ext cx="3168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ажень быва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мер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махов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кос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казен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больш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35280" y="2924280"/>
            <a:ext cx="4572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греческ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церков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царск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морск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труб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443640" y="4005360"/>
            <a:ext cx="216396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340080" y="3500280"/>
            <a:ext cx="580392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  <a:ea typeface="Times New Roman"/>
              </a:rPr>
              <a:t>Сажень простая (</a:t>
            </a:r>
            <a:r>
              <a:rPr b="1" lang="en-US" sz="3200" spc="-1" strike="noStrike">
                <a:solidFill>
                  <a:srgbClr val="663300"/>
                </a:solidFill>
                <a:latin typeface="Tahoma"/>
                <a:ea typeface="Times New Roman"/>
              </a:rPr>
              <a:t>152 см)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  <a:ea typeface="Times New Roman"/>
              </a:rPr>
              <a:t>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  <a:ea typeface="Times New Roman"/>
              </a:rPr>
              <a:t>расстояние между размахо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  <a:ea typeface="Times New Roman"/>
              </a:rPr>
              <a:t>вытянутых рук челове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  <a:ea typeface="Times New Roman"/>
              </a:rPr>
              <a:t>от большого паль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  <a:ea typeface="Times New Roman"/>
              </a:rPr>
              <a:t>одной ру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  <a:ea typeface="Times New Roman"/>
              </a:rPr>
              <a:t>до большого пальца другой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97840" y="189000"/>
            <a:ext cx="3516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6633"/>
                </a:solidFill>
                <a:latin typeface="Tahoma"/>
              </a:rPr>
              <a:t>Сажень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50920" y="1341360"/>
            <a:ext cx="4635360" cy="5140440"/>
            <a:chOff x="250920" y="1341360"/>
            <a:chExt cx="4635360" cy="5140440"/>
          </a:xfrm>
        </p:grpSpPr>
        <p:pic>
          <p:nvPicPr>
            <p:cNvPr id="111" name="Picture 10" descr=""/>
            <p:cNvPicPr/>
            <p:nvPr/>
          </p:nvPicPr>
          <p:blipFill>
            <a:blip r:embed="rId1"/>
            <a:srcRect l="0" t="14384" r="0" b="0"/>
            <a:stretch/>
          </p:blipFill>
          <p:spPr>
            <a:xfrm>
              <a:off x="250920" y="1341360"/>
              <a:ext cx="4635360" cy="514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Line 11"/>
            <p:cNvSpPr/>
            <p:nvPr/>
          </p:nvSpPr>
          <p:spPr>
            <a:xfrm>
              <a:off x="539640" y="1341360"/>
              <a:ext cx="38163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7"/>
          <p:cNvSpPr/>
          <p:nvPr/>
        </p:nvSpPr>
        <p:spPr>
          <a:xfrm>
            <a:off x="3851280" y="5084640"/>
            <a:ext cx="5113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Маховая или мерная сажень – </a:t>
            </a:r>
            <a:r>
              <a:rPr b="1" lang="en-US" sz="3200" spc="-1" strike="noStrike">
                <a:solidFill>
                  <a:srgbClr val="663300"/>
                </a:solidFill>
                <a:latin typeface="Tahoma"/>
              </a:rPr>
              <a:t>176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2769120" y="0"/>
            <a:ext cx="3516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6633"/>
                </a:solidFill>
                <a:latin typeface="Tahoma"/>
              </a:rPr>
              <a:t>Сажень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8000" y="2681280"/>
            <a:ext cx="3879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2624760" y="0"/>
            <a:ext cx="3516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6633"/>
                </a:solidFill>
                <a:latin typeface="Tahoma"/>
              </a:rPr>
              <a:t>Сажень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8" descr="Картинка 14 из 21"/>
          <p:cNvPicPr/>
          <p:nvPr/>
        </p:nvPicPr>
        <p:blipFill>
          <a:blip r:embed="rId1"/>
          <a:srcRect l="3191" t="3576" r="3191" b="16891"/>
          <a:stretch/>
        </p:blipFill>
        <p:spPr>
          <a:xfrm>
            <a:off x="3492360" y="2355840"/>
            <a:ext cx="5651640" cy="45021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2"/>
          <p:cNvSpPr/>
          <p:nvPr/>
        </p:nvSpPr>
        <p:spPr>
          <a:xfrm>
            <a:off x="158400" y="3429000"/>
            <a:ext cx="31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Косая сажень – 248 с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3903840" y="5969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14:31:50Z</dcterms:created>
  <dc:creator>Людмила</dc:creator>
  <dc:description/>
  <dc:language>en-US</dc:language>
  <cp:lastModifiedBy>Людмила</cp:lastModifiedBy>
  <dcterms:modified xsi:type="dcterms:W3CDTF">2012-11-28T15:40:35Z</dcterms:modified>
  <cp:revision>7</cp:revision>
  <dc:subject/>
  <dc:title>Слайд 1</dc:title>
</cp:coreProperties>
</file>