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6E2-1C3D-4F21-996E-FB34ECFC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824-F494-4C5B-A940-E0F0AA7E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775-E364-4BA3-B1B2-7883CC2D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ACA-7CFB-4A37-92D7-80293C9F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5DB4-8DBC-4C60-A899-A966C525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E87A-A75F-45C2-96CA-4423D8F0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5DB3-62B8-494B-B8BB-7D1A7BC6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18BE-A702-4453-9C1E-CF0371EA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B00A-07E7-4E60-A412-3682C44B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E953-5F2F-4EC0-B781-ABBC3FDD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FA5A-A915-45EC-9B0E-36EA3EDA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2AC-B6AF-4B14-B182-0ACF41AA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BCDF-826E-46D3-A66E-C516FA87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43BD-B88B-4401-B86D-07383DC6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3BC5-6C4B-45AE-8C7F-5AA3BBD0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98AD-506A-46A8-B440-A17357F1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BB4B-52AD-4F9C-877C-1B1AF7EE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BC3-0F62-4E25-871E-693B98D8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33B-18DF-4926-B0E7-DE2C753A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1FC-F551-4DA3-8D78-86BD18BA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77C-AF5B-4843-B66A-F26131C2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888-D192-4B6D-8DA6-3B10DB1A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A88-462C-41AE-B387-7ACC9883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BE1-E774-410C-B57F-64607699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EC68-FB41-4CE5-BC5D-A6115EDDE52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0097-8F86-4BEF-9FEA-7E16923211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5"/>
          <p:cNvSpPr txBox="1"/>
          <p:nvPr/>
        </p:nvSpPr>
        <p:spPr>
          <a:xfrm>
            <a:off x="2195640" y="2133720"/>
            <a:ext cx="54194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еры длины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395280" y="260280"/>
            <a:ext cx="59245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ревняя Русь</a:t>
            </a:r>
            <a:endParaRPr b="0" i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276720" y="3573360"/>
            <a:ext cx="572436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68360" y="260280"/>
            <a:ext cx="4175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Четверт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3" descr="Картинка 3 из 9"/>
          <p:cNvPicPr/>
          <p:nvPr/>
        </p:nvPicPr>
        <p:blipFill>
          <a:blip r:embed="rId1"/>
          <a:srcRect l="0" t="0" r="0" b="25224"/>
          <a:stretch/>
        </p:blipFill>
        <p:spPr>
          <a:xfrm>
            <a:off x="250920" y="1844640"/>
            <a:ext cx="4603680" cy="388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6165720"/>
            <a:ext cx="3672000" cy="0"/>
          </a:xfrm>
          <a:prstGeom prst="line">
            <a:avLst/>
          </a:prstGeom>
          <a:ln w="63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5120" y="1700280"/>
            <a:ext cx="514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Расстояние меж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раздвинуты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большим и указатель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пальца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3586320" y="30481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980440" y="189000"/>
            <a:ext cx="237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Пяд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390996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3" descr="Картинка 3 из 9"/>
          <p:cNvPicPr/>
          <p:nvPr/>
        </p:nvPicPr>
        <p:blipFill>
          <a:blip r:embed="rId1"/>
          <a:stretch/>
        </p:blipFill>
        <p:spPr>
          <a:xfrm>
            <a:off x="250920" y="1341360"/>
            <a:ext cx="4603680" cy="51991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6072120" y="58579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7000" y="2240280"/>
            <a:ext cx="560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Расстояние от конц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большого пальц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до конца мизинц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при наибольш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возможном их раздвиж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19-23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rcRect l="0" t="3824" r="1866" b="5510"/>
          <a:stretch/>
        </p:blipFill>
        <p:spPr>
          <a:xfrm>
            <a:off x="457200" y="1771560"/>
            <a:ext cx="8075520" cy="4076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571840" y="333360"/>
            <a:ext cx="326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Арши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5445000"/>
            <a:ext cx="3311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Длина аршина – </a:t>
            </a: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71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с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346560" y="0"/>
            <a:ext cx="184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Фу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284720" y="1268280"/>
            <a:ext cx="5398920" cy="5399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6760" y="5733720"/>
            <a:ext cx="426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Длина фута - 30,48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3200040" y="270000"/>
            <a:ext cx="317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Верст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332000" y="393372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Используется для определение расстояния между пункта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324000" y="3259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395280" y="206064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Верста - русская мера длин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равная пятистам саженя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что в метрической системе составля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чуть больше километ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0" y="4076640"/>
            <a:ext cx="558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Вёрстами в народ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назыв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и дорожные столб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отмерявшие указа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расстоя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128760" y="125280"/>
            <a:ext cx="317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Верст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1"/>
          <a:stretch/>
        </p:blipFill>
        <p:spPr>
          <a:xfrm>
            <a:off x="5222880" y="1628640"/>
            <a:ext cx="39211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92000" y="1700280"/>
            <a:ext cx="620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Работу выполни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учащиеся 6 класс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МБОУ Рябчинской СОШ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ahoma"/>
              </a:rPr>
              <a:t>Петракова Кристи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ahoma"/>
              </a:rPr>
              <a:t>Горох Ма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190080"/>
            <a:ext cx="9144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Ресур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www.alviv.okis.r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http://community.livejournal.com/ru_foto/46541504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http://praeger.narod.ru/measure/LENGHT/249.ht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http://dia-films.ru/1082-200.ht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skaz-pushkina.r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http://www.1723.ru/think/versta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http://www.apparel.kz/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http://www.diary.ru/~lance-casey/p143617625.ht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468360" y="5950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Система русских мер"/>
          <p:cNvPicPr/>
          <p:nvPr/>
        </p:nvPicPr>
        <p:blipFill>
          <a:blip r:embed="rId1"/>
          <a:stretch/>
        </p:blipFill>
        <p:spPr>
          <a:xfrm>
            <a:off x="5724360" y="2492280"/>
            <a:ext cx="3275280" cy="4365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235600"/>
            <a:ext cx="586728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Русская система мер</a:t>
            </a: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 — система ме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традиционно применявших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на Руси и в Российской имп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На смену русской систе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пришла метрическая система ме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которая была допуще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к применению в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по закону от 4 июня 1899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252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таринные русские мер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724536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Tahoma"/>
              </a:rPr>
              <a:t>Меры  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Tahoma"/>
              </a:rPr>
              <a:t>длин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Старинные русские меры длины"/>
          <p:cNvPicPr/>
          <p:nvPr/>
        </p:nvPicPr>
        <p:blipFill>
          <a:blip r:embed="rId1"/>
          <a:stretch/>
        </p:blipFill>
        <p:spPr>
          <a:xfrm>
            <a:off x="4648320" y="115920"/>
            <a:ext cx="4495680" cy="662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854720"/>
            <a:ext cx="5349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 миля 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= 7 вёрст = 7,468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 верста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 = 500 саженей = 1066,8 м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 сажень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 = 3 аршина = 7 футов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00 соток = 2,133 600 м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 аршин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 = 4 четверти = 28 дюймов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6 вершков = 0,711 200 м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 четверть (пядь)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 = 1/12 сажени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 </a:t>
            </a:r>
            <a:r>
              <a:rPr b="0" lang="en-US" sz="1600" spc="-1" strike="noStrike">
                <a:solidFill>
                  <a:srgbClr val="8c0000"/>
                </a:solidFill>
                <a:latin typeface="Tahoma"/>
                <a:ea typeface="Arial"/>
              </a:rPr>
              <a:t>¼ аршина = 4 вершка = 7 дюймов = 177,8 м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 фут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 = 12 дюймам = 304,8 мм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 вершок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 = 1,75 дюйма = 44,38 м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2893320" y="189000"/>
            <a:ext cx="333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Локот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-5400" y="2637000"/>
            <a:ext cx="4400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Расстояние от кон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вытянут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среднего пальца ру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до локтевого сгиб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38-46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Картинка 2 из 2"/>
          <p:cNvPicPr/>
          <p:nvPr/>
        </p:nvPicPr>
        <p:blipFill>
          <a:blip r:embed="rId1"/>
          <a:stretch/>
        </p:blipFill>
        <p:spPr>
          <a:xfrm>
            <a:off x="5292720" y="1844640"/>
            <a:ext cx="31291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2769120" y="260280"/>
            <a:ext cx="351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Сажен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340000" y="3645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1042920" y="5013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1844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оисходит от славянского сяг - </a:t>
            </a: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ша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2349360"/>
            <a:ext cx="316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ажень быв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ме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мах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кос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каз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больш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924280"/>
            <a:ext cx="4572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гре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церков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цар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мор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труб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43640" y="4005360"/>
            <a:ext cx="21639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40080" y="3500280"/>
            <a:ext cx="58039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Сажень простая (</a:t>
            </a:r>
            <a:r>
              <a:rPr b="1" lang="en-US" sz="3200" spc="-1" strike="noStrike">
                <a:solidFill>
                  <a:srgbClr val="663300"/>
                </a:solidFill>
                <a:latin typeface="Tahoma"/>
                <a:ea typeface="Times New Roman"/>
              </a:rPr>
              <a:t>152 см)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расстояние между размах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вытянутых рук челове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от большого паль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одной ру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до большого пальца другой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97840" y="189000"/>
            <a:ext cx="351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Сажен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0920" y="1341360"/>
            <a:ext cx="4635360" cy="5140440"/>
            <a:chOff x="250920" y="1341360"/>
            <a:chExt cx="4635360" cy="5140440"/>
          </a:xfrm>
        </p:grpSpPr>
        <p:pic>
          <p:nvPicPr>
            <p:cNvPr id="111" name="Picture 10" descr=""/>
            <p:cNvPicPr/>
            <p:nvPr/>
          </p:nvPicPr>
          <p:blipFill>
            <a:blip r:embed="rId1"/>
            <a:srcRect l="0" t="14384" r="0" b="0"/>
            <a:stretch/>
          </p:blipFill>
          <p:spPr>
            <a:xfrm>
              <a:off x="250920" y="1341360"/>
              <a:ext cx="4635360" cy="51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Line 11"/>
            <p:cNvSpPr/>
            <p:nvPr/>
          </p:nvSpPr>
          <p:spPr>
            <a:xfrm>
              <a:off x="539640" y="1341360"/>
              <a:ext cx="38163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7"/>
          <p:cNvSpPr/>
          <p:nvPr/>
        </p:nvSpPr>
        <p:spPr>
          <a:xfrm>
            <a:off x="3851280" y="5084640"/>
            <a:ext cx="511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Маховая или мерная сажень – </a:t>
            </a: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176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2769120" y="0"/>
            <a:ext cx="351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Сажен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2681280"/>
            <a:ext cx="3879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624760" y="0"/>
            <a:ext cx="351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Сажен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8" descr="Картинка 14 из 21"/>
          <p:cNvPicPr/>
          <p:nvPr/>
        </p:nvPicPr>
        <p:blipFill>
          <a:blip r:embed="rId1"/>
          <a:srcRect l="3191" t="3576" r="3191" b="16891"/>
          <a:stretch/>
        </p:blipFill>
        <p:spPr>
          <a:xfrm>
            <a:off x="3492360" y="2355840"/>
            <a:ext cx="5651640" cy="45021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2"/>
          <p:cNvSpPr/>
          <p:nvPr/>
        </p:nvSpPr>
        <p:spPr>
          <a:xfrm>
            <a:off x="158400" y="3429000"/>
            <a:ext cx="31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Косая сажень – 248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903840" y="596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4:31:50Z</dcterms:created>
  <dc:creator>Людмила</dc:creator>
  <dc:description/>
  <dc:language>en-US</dc:language>
  <cp:lastModifiedBy>Людмила</cp:lastModifiedBy>
  <dcterms:modified xsi:type="dcterms:W3CDTF">2012-11-28T15:40:35Z</dcterms:modified>
  <cp:revision>7</cp:revision>
  <dc:subject/>
  <dc:title>Слайд 1</dc:title>
</cp:coreProperties>
</file>