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8A33-8940-4ED8-93D9-C7455E4D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FF8A-C6E6-4113-9DC4-788507A4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7CD-F3BC-46BB-BA61-2BEEDEFE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DEF-F447-400D-BE21-3F402710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CBE8-36A3-45B7-A0AF-04CC4405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FD9-2CA9-4C6E-AA71-BE67408F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73C-963D-41DA-BF19-3116B8CC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8CF-4B5C-4881-BE0A-AEA98D04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6D4-E11E-4913-A37C-AC681970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8B86-8254-4AD2-88B1-0372B53A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1CCD-3D10-465B-82EB-081E271A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AD4-9588-4D7A-8F13-E6BA2561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94C8-6F91-456C-8AF0-1137E2817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ba6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68360" y="1700280"/>
            <a:ext cx="4707000" cy="23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Ф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РЕВНЕЙ ГРЕЦИ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4292640"/>
            <a:ext cx="1652760" cy="2065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64000" y="4365720"/>
            <a:ext cx="25210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ffc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16360" y="3213000"/>
            <a:ext cx="4249800" cy="3268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79280" y="3573360"/>
            <a:ext cx="446400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ревние греки связывал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понятные и гроз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лы прир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существованием могущественных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ссмертных богов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37526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f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4360" y="476280"/>
            <a:ext cx="77914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 деяниях богов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вигах и приключениях герое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вествуют древнегреческие мифы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76720" y="2205000"/>
            <a:ext cx="3621240" cy="2710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43280" y="4211640"/>
            <a:ext cx="35272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9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71640" y="260280"/>
            <a:ext cx="75819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телями и распространителям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генд и сказаний (мифов)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ыли бродячие певцы - аэды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8323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fa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333360"/>
            <a:ext cx="843912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реходя из одного селения в друго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эды мерным голосом декламировал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ккомпонируя себе на кифар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сни и гимны в честь богов и герое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3024360" cy="2852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580000" y="26370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203640" y="4149720"/>
            <a:ext cx="315900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d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732360" cy="5049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900000" y="404640"/>
            <a:ext cx="7239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овую жизнь мифам дал театр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9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781360"/>
            <a:ext cx="3200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енрих Шлима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508720" y="5877000"/>
            <a:ext cx="3485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копки Трои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2381400" cy="294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16360" y="404640"/>
            <a:ext cx="3384720" cy="2708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427640" y="3213000"/>
            <a:ext cx="3981240" cy="2651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324000" y="333360"/>
            <a:ext cx="3671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динственным из европейцев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верившим эпосу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казалс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15:28:07Z</dcterms:created>
  <dc:creator>Добрынина</dc:creator>
  <dc:description/>
  <dc:language>en-US</dc:language>
  <cp:lastModifiedBy>Добрынина</cp:lastModifiedBy>
  <dcterms:modified xsi:type="dcterms:W3CDTF">2012-11-26T12:56:32Z</dcterms:modified>
  <cp:revision>3</cp:revision>
  <dc:subject/>
  <dc:title>Слайд 1</dc:title>
</cp:coreProperties>
</file>