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C20-E248-4417-8005-FC396A3A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0D9-40C4-49F1-83A3-6D70BB0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CC6-0299-4B7F-96F6-048808D3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0F4-4F8C-4B45-BDC1-49531BEB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4BB3-4312-467E-B33B-9B05EA59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607C-0BD3-4C7A-8BDE-8BD46E6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5325-BBEE-4662-BA9D-E7FAF1CB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BC2E-11AE-47DA-A830-9795E74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B96E-81E7-486A-970E-1905153D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D53F-0B07-4BAB-BE92-6C737C4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8A0-C5D3-459E-A66A-D0A0C01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10-868A-4138-A594-1AA04A2E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A56-90B5-4FEE-BA8A-FBC1C14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2FE1-7831-4E20-8449-895E983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1059-5A15-4954-9B56-F610E5C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CDF-A198-4491-9A0F-4E1E36AD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56E-1BE0-4023-93A6-1A966C5F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442D-CD40-48B3-BFFF-C97AD548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534D-4A88-403D-9D17-03A906E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402F-FBB9-422B-9FCC-163E279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F01B-7C22-4C34-B958-2C9CC40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B34D-3E75-49F8-9233-4185048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E39-485B-4A77-8A7C-21CD906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E609-4998-4CB1-84DB-EE255E46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8AFB-2109-4573-9F62-2EBAA3A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162B-DF07-41AD-86C9-E6C58BD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1F80-BC07-4D83-8BC3-DA848BF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9DFC-97E9-4C16-B86A-18B7A274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015D-7934-4466-ABA6-373FACAD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E0CC-B694-4BA1-8461-66BE05DF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72E9-B564-469A-8220-EE6D0926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97F6-8AA1-4712-8448-4002D31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B013-F138-4249-83DD-4A7BDDE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8A5-5914-439C-AEEF-EB579905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E4B2-BC59-41D2-BD93-746D770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CD7F-DACF-49C5-8506-A7067DD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D71F-8273-4E20-AF3B-F4A23DB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34FC-591A-4793-B0B6-480370C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7046-1D44-48C1-B147-9CAFD2C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B30C7-59DD-4CBE-B027-BFBFB64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44A0-EE6D-4938-B651-90AAC956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3B2E-AE41-419F-BCC9-742FA07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C0BB-471A-4756-86E4-00D6A152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29EB-EDDD-4068-BF8C-F5E50B75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48F-3F0F-4953-A7FD-BBFD7B8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EA95-7CF1-489F-9E8F-053E33D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B0A9-4373-4676-8C72-59C697A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D71E-CB08-4B3F-904C-43C7221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AC88-62FF-48C5-8C2C-14A65680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2BFB-427C-4681-B21F-2BB7765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B3AB-1F5C-4A06-9A49-173CE4C6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2B6E-8899-4777-AB7A-EE83120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1353-F5D8-436C-8ECF-1A0CB82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74EC-0859-462C-A987-2B00551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3530-A29A-4051-AE85-E58392DD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099-37D6-49A0-B47C-4BB074C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FB91-571D-4280-8CF1-E570665A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B6C-35B0-4187-A616-A3C1A0A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989-0BAE-4E95-89F5-ABBA152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46B-E66E-4804-A23C-CF8A04F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236-9C76-434A-BE1A-48AE72D48096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4A7-8CDC-4124-AB48-9EFDAEA22A9F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8A25-DAA8-4969-BC01-AF60A14DFC74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820-CB41-4275-8064-2F8606403FCB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2AC-B15A-4136-AA0C-E0DEDDA24EE6}" type="slidenum">
              <a:rPr b="0" lang="en-US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hyperlink" Target="file:///C:/Users/&#1103;/Desktop/&#1084;&#1077;&#1090;&#1086;&#1076;%20&#1087;&#1088;&#1086;&#1077;&#1082;&#1090;&#1086;&#1074;/&#1055;&#1088;&#1086;&#1077;&#1082;&#1090;%20&#1052;&#1072;&#1090;&#1077;&#1084;&#1072;&#1090;&#1080;&#1082;&#1072;%20&#1074;&#1086;&#1082;&#1088;&#1091;&#1075;%20&#1085;&#1072;&#1089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МКОУ Бирюсинская СОШ</a:t>
            </a:r>
            <a:endParaRPr b="1" lang="en-US" sz="20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Verdana"/>
              </a:rPr>
              <a:t>Автор: 1 клас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Verdana"/>
              </a:rPr>
              <a:t>Руководитель : Е.Е. Крахотки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895400"/>
            <a:ext cx="80769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5113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Verdana"/>
              </a:rPr>
              <a:t>Паспорт проекта</a:t>
            </a:r>
            <a:endParaRPr b="1" lang="en-US" sz="24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765000"/>
            <a:ext cx="8291520" cy="583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проекта: Моя малая роди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 Крахоткина Е.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редмет, в рамках которого проводится проект: окружающий ми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ы, близкие к теме проекта: литературное чтение (развитие речи), технолог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учащихся, на которых рассчитан проект: 1 клас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проектной группы: 1 класс, родители учащихся 1класс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краткосрочны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 развитие нравственных чувств через создание образа малой родин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красивые и интересные места родного села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формирование духовно-нравственного отношения и чувства сопричастности к родному дому, семье, школ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 учить работать над проектом ,способствовать активному вовлечению родителей в совместную деятельность с ребенком в условиях семьи и шко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оборудование: фотоаппарат, рабочая тетрадь «Окружающий мир, компьютер, принте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продукты: фоторассказ, коллаж  «Моя малая родина» для оформления шко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жение в проек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- поисковая деятельность учащих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 вывод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фоторасска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фотоколлажа «Моя малая родина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Образовательное учреждение, на базе которого выполнен проект: МКОУ Бирюсинская СОШ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Облако 4"/>
          <p:cNvSpPr/>
          <p:nvPr/>
        </p:nvSpPr>
        <p:spPr>
          <a:xfrm>
            <a:off x="4067280" y="4459320"/>
            <a:ext cx="4968720" cy="2282760"/>
          </a:xfrm>
          <a:prstGeom prst="pie">
            <a:avLst/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Отбор сделанных и найденных 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Aharoni"/>
              </a:rPr>
              <a:t>фотограф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31" name="Загнутый угол 5"/>
          <p:cNvSpPr/>
          <p:nvPr/>
        </p:nvSpPr>
        <p:spPr>
          <a:xfrm>
            <a:off x="0" y="12600"/>
            <a:ext cx="2771640" cy="2408400"/>
          </a:xfrm>
          <a:prstGeom prst="foldedCorner">
            <a:avLst>
              <a:gd name="adj" fmla="val 16666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ставление фоторасск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Солнце 5"/>
          <p:cNvSpPr/>
          <p:nvPr/>
        </p:nvSpPr>
        <p:spPr>
          <a:xfrm>
            <a:off x="0" y="115920"/>
            <a:ext cx="4067280" cy="2736720"/>
          </a:xfrm>
          <a:prstGeom prst="sun">
            <a:avLst>
              <a:gd name="adj" fmla="val 25000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Высокая самооце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88920" y="1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4356000" y="2701800"/>
            <a:ext cx="4399200" cy="3821400"/>
          </a:xfrm>
          <a:prstGeom prst="rect">
            <a:avLst/>
          </a:prstGeom>
          <a:ln w="0">
            <a:noFill/>
          </a:ln>
        </p:spPr>
      </p:pic>
      <p:sp>
        <p:nvSpPr>
          <p:cNvPr id="237" name="Волна 4"/>
          <p:cNvSpPr/>
          <p:nvPr/>
        </p:nvSpPr>
        <p:spPr>
          <a:xfrm>
            <a:off x="4427640" y="-6480"/>
            <a:ext cx="4105080" cy="3024360"/>
          </a:xfrm>
          <a:custGeom>
            <a:avLst/>
            <a:gdLst>
              <a:gd name="textAreaLeft" fmla="*/ 0 w 4105080"/>
              <a:gd name="textAreaRight" fmla="*/ 4105440 w 4105080"/>
              <a:gd name="textAreaTop" fmla="*/ 756000 h 3024360"/>
              <a:gd name="textAreaBottom" fmla="*/ 226836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Работаем над созданием фотоколлаж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66600" y="3500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Улыбающееся лицо 4"/>
          <p:cNvSpPr/>
          <p:nvPr/>
        </p:nvSpPr>
        <p:spPr>
          <a:xfrm>
            <a:off x="0" y="0"/>
            <a:ext cx="1908000" cy="2022480"/>
          </a:xfrm>
          <a:prstGeom prst="smileyFace">
            <a:avLst>
              <a:gd name="adj" fmla="val 9282"/>
            </a:avLst>
          </a:pr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я\Pictures\2012-11-06 фото телефон\фото телефон 025.jpg"/>
          <p:cNvPicPr/>
          <p:nvPr/>
        </p:nvPicPr>
        <p:blipFill>
          <a:blip r:embed="rId3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  <p:sp>
        <p:nvSpPr>
          <p:cNvPr id="245" name="Управляющая кнопка: далее 3">
            <a:hlinkClick r:id="rId4"/>
          </p:cNvPr>
          <p:cNvSpPr/>
          <p:nvPr/>
        </p:nvSpPr>
        <p:spPr>
          <a:xfrm>
            <a:off x="684360" y="5589720"/>
            <a:ext cx="1655640" cy="718920"/>
          </a:xfrm>
          <a:custGeom>
            <a:avLst/>
            <a:gdLst>
              <a:gd name="textAreaLeft" fmla="*/ 46440 w 1655640"/>
              <a:gd name="textAreaRight" fmla="*/ 1609200 w 1655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9730" h="21600">
                <a:moveTo>
                  <a:pt x="0" y="0"/>
                </a:moveTo>
                <a:lnTo>
                  <a:pt x="49730" y="0"/>
                </a:lnTo>
                <a:lnTo>
                  <a:pt x="49730" y="21600"/>
                </a:lnTo>
                <a:lnTo>
                  <a:pt x="0" y="21600"/>
                </a:lnTo>
                <a:close/>
              </a:path>
              <a:path fill="lightenLess" w="49730" h="21600">
                <a:moveTo>
                  <a:pt x="0" y="0"/>
                </a:moveTo>
                <a:lnTo>
                  <a:pt x="49730" y="0"/>
                </a:lnTo>
                <a:lnTo>
                  <a:pt x="48330" y="1400"/>
                </a:lnTo>
                <a:lnTo>
                  <a:pt x="1400" y="1400"/>
                </a:lnTo>
                <a:close/>
              </a:path>
              <a:path fill="darken" w="49730" h="21600">
                <a:moveTo>
                  <a:pt x="49730" y="0"/>
                </a:moveTo>
                <a:lnTo>
                  <a:pt x="49730" y="21600"/>
                </a:lnTo>
                <a:lnTo>
                  <a:pt x="48330" y="20200"/>
                </a:lnTo>
                <a:lnTo>
                  <a:pt x="48330" y="1400"/>
                </a:lnTo>
                <a:close/>
              </a:path>
              <a:path fill="darkenLess" w="49730" h="21600">
                <a:moveTo>
                  <a:pt x="49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30" y="20200"/>
                </a:lnTo>
                <a:close/>
              </a:path>
              <a:path fill="lighten" w="49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730" h="21600">
                <a:moveTo>
                  <a:pt x="17858" y="3794"/>
                </a:moveTo>
                <a:lnTo>
                  <a:pt x="31871" y="10800"/>
                </a:lnTo>
                <a:lnTo>
                  <a:pt x="17858" y="17806"/>
                </a:lnTo>
                <a:close/>
              </a:path>
            </a:pathLst>
          </a:custGeom>
          <a:solidFill>
            <a:srgbClr val="ceb966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08:01Z</dcterms:created>
  <dc:creator>я</dc:creator>
  <dc:description/>
  <dc:language>en-US</dc:language>
  <cp:lastModifiedBy>nb</cp:lastModifiedBy>
  <dcterms:modified xsi:type="dcterms:W3CDTF">2012-11-20T03:02:01Z</dcterms:modified>
  <cp:revision>12</cp:revision>
  <dc:subject/>
  <dc:title>Проект «Моя малая родина»</dc:title>
</cp:coreProperties>
</file>