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438-BEE2-43FA-96A3-2C819264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11D-3D70-4D5A-93DD-F9B057B3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E48-E879-4E52-949A-C1E778C5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C4D-C4D7-447D-A306-097DEC37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7AEC-247C-48E1-AEC3-820F608E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7875-FC1A-40A9-B41D-D79F6CFC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1A45-BDA3-4AD0-8316-9CAAEFF4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D7CE-5083-46E7-BA57-6998D416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B3A9-FB27-4369-87A6-63C6BC2D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F487-7B93-4469-9B4F-246CD713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7B35-F8AC-4DA5-BC1A-56343D0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514-1646-40C4-8F5A-7420B41C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7E3F-D9CD-421A-BB3F-D112ED59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0ACA-CECB-4092-99D9-4022C64B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B319-8808-41BC-B8E4-F26E06BE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F3C6-4A55-4BF2-954C-0592C192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9E27-FD71-4249-96CB-634D9103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8B25-40BA-4A89-92FC-7F210A39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AF8C-77EA-4C2B-B6D0-7EE8AF5B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BFDC-003F-4E91-A073-BF4B16D2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516B-1403-4A15-973F-682E8BF9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0F525-79D2-4982-93BB-59A8DB4C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24C-1514-426B-95F5-BB7039F8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3C7D1-5E34-4D9A-A2CF-0A1686C1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6E74-CAC1-4C7B-9F2C-BA123553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F307-DC0E-4D5F-8C17-C5D6A953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29DA-15E2-4486-B8AE-9E9C41CB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D3C4-19B4-45D9-9DF1-28BAB648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CC2A-96FC-46B7-9981-0FC5C7A5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5B399-572B-4C7B-BEDF-9C4F90E8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2C2F7-9115-47EA-871F-221D8550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F77B-9A11-4CA7-8ECE-8A165E62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2101-174F-42CE-A21C-2A8204FB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ACF-E5A9-4B43-8BB1-6B7F57AE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807B1-F44F-4C4F-B768-2976B603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BB19-AAF6-4654-A010-25CB5C19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A061-A74B-4E6A-A371-203DDF70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B7A7-8026-44B7-B33D-0DAFA56A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1AFD-D9B4-4C63-98C6-B67CF678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F390-3A92-492B-8DEA-2148003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CE27-6D27-45C3-8ACD-F736A13F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488CC-806C-4DB5-8DFC-7B3B86D9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BD15-4CB0-4CFE-9868-879BEE49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FE04A-EB21-4F31-9FFE-86463A9D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AC4-202C-421B-84ED-9B290DC0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5960F-33F6-4AA6-A230-962F68F4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6C32-E0BB-4BF7-AE5D-CE32EAFA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D9870-C154-460A-82CB-9C519EAF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6B627-A2A6-4468-A235-4FE08D30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20FE8-9A65-46BA-8730-EB776AB9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A16D4-C0F3-4A4F-B256-8C58A814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0E86D-839E-423F-BB3B-D6831880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65453-EDF2-4423-9F48-C6958351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40FB8-BB43-4C70-AA01-1591764B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FB84E-75D6-4D82-B03F-54B8C7A6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1EE-95C3-43AD-A5AF-E8C7DABB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7B7B5-54F5-4BB4-9355-BA09B701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C17-D4D9-4EB2-9D33-9D5BB18F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412-3B3C-4ECB-AA1C-3D0FACB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23F-8E3B-4869-92D0-6161CE77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DB31-679B-4167-A966-AAE94FC302B2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86F3-E150-4AF7-82AB-12892C342354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373-B71D-4506-819C-12A8A3CA2F8E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244E-96C7-44AA-88E6-8C3E81FF0521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65E0-B56C-4F22-9FCB-8C5AD24F6250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hyperlink" Target="file:///C:/Users/&#1103;/Desktop/&#1084;&#1077;&#1090;&#1086;&#1076;%20&#1087;&#1088;&#1086;&#1077;&#1082;&#1090;&#1086;&#1074;/&#1055;&#1088;&#1086;&#1077;&#1082;&#1090;%20&#1052;&#1072;&#1090;&#1077;&#1084;&#1072;&#1090;&#1080;&#1082;&#1072;%20&#1074;&#1086;&#1082;&#1088;&#1091;&#1075;%20&#1085;&#1072;&#1089;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МКОУ Бирюсинская СОШ</a:t>
            </a:r>
            <a:endParaRPr b="1" lang="en-US" sz="20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26920" y="1557000"/>
            <a:ext cx="7632720" cy="4032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Verdana"/>
              </a:rPr>
              <a:t>Автор: 1 клас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Verdana"/>
              </a:rPr>
              <a:t>Руководитель : Е.Е. Крахотки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1895400"/>
            <a:ext cx="807696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5113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Verdana"/>
              </a:rPr>
              <a:t>Паспорт проекта</a:t>
            </a:r>
            <a:endParaRPr b="1" lang="en-US" sz="24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765000"/>
            <a:ext cx="8291520" cy="583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проекта: Моя малая роди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  Крахоткина Е.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редмет, в рамках которого проводится проект: окружающий ми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ы, близкие к теме проекта: литературное чтение (развитие речи), технолог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учащихся, на которых рассчитан проект: 1 клас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проектной группы: 1 класс, родители учащихся 1класс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краткосрочны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 развитие нравственных чувств через создание образа малой родин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красивые и интересные места родного села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формирование духовно-нравственного отношения и чувства сопричастности к родному дому, семье, школ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 учить работать над проектом ,способствовать активному вовлечению родителей в совместную деятельность с ребенком в условиях семьи и школ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е оборудование: фотоаппарат, рабочая тетрадь «Окружающий мир, компьютер, принте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е продукты: фоторассказ, коллаж  «Моя малая родина» для оформления школ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ужение в проек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 - поисковая деятельность учащих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 вывод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фоторассказ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фотоколлажа «Моя малая родина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Образовательное учреждение, на базе которого выполнен проект: МКОУ Бирюсинская СОШ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Облако 4"/>
          <p:cNvSpPr/>
          <p:nvPr/>
        </p:nvSpPr>
        <p:spPr>
          <a:xfrm>
            <a:off x="4067280" y="4459320"/>
            <a:ext cx="4968720" cy="2282760"/>
          </a:xfrm>
          <a:prstGeom prst="pie">
            <a:avLst/>
          </a:pr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Отбор сделанных и найденных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Aharoni"/>
              </a:rPr>
              <a:t>фотограф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1260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231" name="Загнутый угол 5"/>
          <p:cNvSpPr/>
          <p:nvPr/>
        </p:nvSpPr>
        <p:spPr>
          <a:xfrm>
            <a:off x="0" y="12600"/>
            <a:ext cx="2771640" cy="2408400"/>
          </a:xfrm>
          <a:prstGeom prst="foldedCorner">
            <a:avLst>
              <a:gd name="adj" fmla="val 16666"/>
            </a:avLst>
          </a:pr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Составление фоторасск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pic>
        <p:nvPicPr>
          <p:cNvPr id="233" name="Объект 3" descr="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Солнце 5"/>
          <p:cNvSpPr/>
          <p:nvPr/>
        </p:nvSpPr>
        <p:spPr>
          <a:xfrm>
            <a:off x="0" y="115920"/>
            <a:ext cx="4067280" cy="2736720"/>
          </a:xfrm>
          <a:prstGeom prst="sun">
            <a:avLst>
              <a:gd name="adj" fmla="val 25000"/>
            </a:avLst>
          </a:pr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Высокая самооце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88920" y="1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4356000" y="2701800"/>
            <a:ext cx="4399200" cy="3821400"/>
          </a:xfrm>
          <a:prstGeom prst="rect">
            <a:avLst/>
          </a:prstGeom>
          <a:ln w="0">
            <a:noFill/>
          </a:ln>
        </p:spPr>
      </p:pic>
      <p:sp>
        <p:nvSpPr>
          <p:cNvPr id="237" name="Волна 4"/>
          <p:cNvSpPr/>
          <p:nvPr/>
        </p:nvSpPr>
        <p:spPr>
          <a:xfrm>
            <a:off x="4427640" y="-6480"/>
            <a:ext cx="4105080" cy="3024360"/>
          </a:xfrm>
          <a:custGeom>
            <a:avLst/>
            <a:gdLst>
              <a:gd name="textAreaLeft" fmla="*/ 0 w 4105080"/>
              <a:gd name="textAreaRight" fmla="*/ 4105440 w 4105080"/>
              <a:gd name="textAreaTop" fmla="*/ 756000 h 3024360"/>
              <a:gd name="textAreaBottom" fmla="*/ 226836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Работаем над созданием фотоколлаж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66600" y="350028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Улыбающееся лицо 4"/>
          <p:cNvSpPr/>
          <p:nvPr/>
        </p:nvSpPr>
        <p:spPr>
          <a:xfrm>
            <a:off x="0" y="0"/>
            <a:ext cx="1908000" cy="2022480"/>
          </a:xfrm>
          <a:prstGeom prst="smileyFace">
            <a:avLst>
              <a:gd name="adj" fmla="val 9282"/>
            </a:avLst>
          </a:pr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Users\я\Pictures\2012-11-06 фото телефон\фото телефон 025.jpg"/>
          <p:cNvPicPr/>
          <p:nvPr/>
        </p:nvPicPr>
        <p:blipFill>
          <a:blip r:embed="rId3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  <p:sp>
        <p:nvSpPr>
          <p:cNvPr id="245" name="Управляющая кнопка: далее 3">
            <a:hlinkClick r:id="rId4"/>
          </p:cNvPr>
          <p:cNvSpPr/>
          <p:nvPr/>
        </p:nvSpPr>
        <p:spPr>
          <a:xfrm>
            <a:off x="684360" y="5589720"/>
            <a:ext cx="1655640" cy="718920"/>
          </a:xfrm>
          <a:custGeom>
            <a:avLst/>
            <a:gdLst>
              <a:gd name="textAreaLeft" fmla="*/ 46440 w 1655640"/>
              <a:gd name="textAreaRight" fmla="*/ 1609200 w 1655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9730" h="21600">
                <a:moveTo>
                  <a:pt x="0" y="0"/>
                </a:moveTo>
                <a:lnTo>
                  <a:pt x="49730" y="0"/>
                </a:lnTo>
                <a:lnTo>
                  <a:pt x="49730" y="21600"/>
                </a:lnTo>
                <a:lnTo>
                  <a:pt x="0" y="21600"/>
                </a:lnTo>
                <a:close/>
              </a:path>
              <a:path fill="lightenLess" w="49730" h="21600">
                <a:moveTo>
                  <a:pt x="0" y="0"/>
                </a:moveTo>
                <a:lnTo>
                  <a:pt x="49730" y="0"/>
                </a:lnTo>
                <a:lnTo>
                  <a:pt x="48330" y="1400"/>
                </a:lnTo>
                <a:lnTo>
                  <a:pt x="1400" y="1400"/>
                </a:lnTo>
                <a:close/>
              </a:path>
              <a:path fill="darken" w="49730" h="21600">
                <a:moveTo>
                  <a:pt x="49730" y="0"/>
                </a:moveTo>
                <a:lnTo>
                  <a:pt x="49730" y="21600"/>
                </a:lnTo>
                <a:lnTo>
                  <a:pt x="48330" y="20200"/>
                </a:lnTo>
                <a:lnTo>
                  <a:pt x="48330" y="1400"/>
                </a:lnTo>
                <a:close/>
              </a:path>
              <a:path fill="darkenLess" w="49730" h="21600">
                <a:moveTo>
                  <a:pt x="49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330" y="20200"/>
                </a:lnTo>
                <a:close/>
              </a:path>
              <a:path fill="lighten" w="49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730" h="21600">
                <a:moveTo>
                  <a:pt x="17858" y="3794"/>
                </a:moveTo>
                <a:lnTo>
                  <a:pt x="31871" y="10800"/>
                </a:lnTo>
                <a:lnTo>
                  <a:pt x="17858" y="17806"/>
                </a:lnTo>
                <a:close/>
              </a:path>
            </a:pathLst>
          </a:cu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2:08:01Z</dcterms:created>
  <dc:creator>я</dc:creator>
  <dc:description/>
  <dc:language>en-US</dc:language>
  <cp:lastModifiedBy>nb</cp:lastModifiedBy>
  <dcterms:modified xsi:type="dcterms:W3CDTF">2012-11-20T03:02:01Z</dcterms:modified>
  <cp:revision>12</cp:revision>
  <dc:subject/>
  <dc:title>Проект «Моя малая родина»</dc:title>
</cp:coreProperties>
</file>