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gif" ContentType="image/gif"/>
  <Override PartName="/ppt/media/image18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704-56A0-4BC5-B1CE-D7AAEF6D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D8D-1994-4D4E-BAC5-4966E67B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29F-A27E-4317-8B89-32055784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C9C-0A0C-47D4-8698-95D7F38F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F269F-AE17-4610-9E5C-3A24664A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B786D-5A4D-4DA7-B5BE-54EE9FE8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486F5-DD8C-49C5-B96E-2EC49C80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E4EB1-7F86-4CA8-98A0-A2A70684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409A2-7707-4409-8BD5-6CB083E4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DB4DE-4E6B-4CD4-88DC-D5DE517D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AEF65-B26C-4F11-8C11-C13E57BD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8AA-4342-4E78-9FF2-9711D1C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7E90C-1480-45BD-93DA-B601458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36C52-1AED-447E-9905-440D1CB7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3BCDF-356D-4431-A59B-D2E2B9CF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A00CC-5783-4DB6-91E8-E08DB2DF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A29DB-2356-4C9B-A882-1C1CE850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933-E36F-4273-ACDD-ECA32044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4BA-E8E2-499E-989B-E0294854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FB1-A968-48E9-A49A-265EFC93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AA4-531F-4AD2-A8AB-1A9B7FB4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9CC-D720-4A67-A517-B1F817AE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C20-CFC1-4418-B0F6-49169FBE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B89-0D7E-446E-8AE3-5B803C47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225B-35DA-474D-B876-35C01ABAA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1FC9-4A96-47DC-B065-0E668C6DF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421000"/>
            <a:ext cx="83487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10199"/>
                </a:solidFill>
                <a:latin typeface="Tahoma"/>
              </a:rPr>
              <a:t>Mystery person</a:t>
            </a: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10199"/>
                </a:solidFill>
                <a:latin typeface="Tahoma"/>
              </a:rPr>
              <a:t>6</a:t>
            </a:r>
            <a:r>
              <a:rPr b="0" lang="en-US" sz="8000" spc="-1" strike="noStrike" baseline="30000">
                <a:solidFill>
                  <a:srgbClr val="010199"/>
                </a:solidFill>
                <a:latin typeface="Tahoma"/>
              </a:rPr>
              <a:t>th</a:t>
            </a:r>
            <a:r>
              <a:rPr b="0" lang="en-US" sz="8000" spc="-1" strike="noStrike">
                <a:solidFill>
                  <a:srgbClr val="010199"/>
                </a:solidFill>
                <a:latin typeface="Tahoma"/>
              </a:rPr>
              <a:t> form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46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erson is a very talented poet and noveli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born in 1799 in Moscow and died in 1837 at the age of 37 years 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ublished his first novel at the age of 15 years 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89000"/>
            <a:ext cx="4211640" cy="640872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191628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studied at prestigious Imperial Lyceum in Tsarskoe Selo near Saint Petersbur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wife  was Natalya Goncharo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udents learn his poems by hea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465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10199"/>
                </a:solidFill>
                <a:latin typeface="Tahoma"/>
              </a:rPr>
              <a:t>Aleksandr Pushki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098960" cy="5038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635280" y="1557360"/>
            <a:ext cx="3362400" cy="417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788160" y="3402000"/>
            <a:ext cx="2355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427280" y="188640"/>
            <a:ext cx="4716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erson is a young m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born on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May 1986 in Minsk in the  Soviet Union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was 4 years old, he and his family moved to Norway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189000"/>
            <a:ext cx="4105440" cy="6264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7622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446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photo of our person at the age of 12 years 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a Norwegian singer-composer, violinist, pianist, writer and ac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on Eurovision in Moscow with a record 387 points, singing "Fairytale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865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10199"/>
                </a:solidFill>
                <a:latin typeface="Tahoma"/>
              </a:rPr>
              <a:t>Alexander Rybak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805200" cy="5051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72428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2843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erson is a man of 35 years 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born in Great Britain in 197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got a wife and three son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rooklin, Romeo and Cr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represents such companies as Adidas and Pepsi.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907920"/>
            <a:ext cx="338436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208908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446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photo of our person at the age of 11 years 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wife was a singer in a popular group "Spice Girls 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wife‘s name is Victo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a sportsm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Рисунок 4" descr=""/>
          <p:cNvPicPr/>
          <p:nvPr/>
        </p:nvPicPr>
        <p:blipFill>
          <a:blip r:embed="rId2"/>
          <a:stretch/>
        </p:blipFill>
        <p:spPr>
          <a:xfrm>
            <a:off x="4660920" y="333360"/>
            <a:ext cx="4483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2920" y="259920"/>
            <a:ext cx="4249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photo of our person at the age of 16 years 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16 he became training in his favourite club Manchester Un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a famous football play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Рисунок 7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375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10199"/>
                </a:solidFill>
                <a:latin typeface="Tahoma"/>
              </a:rPr>
              <a:t>David Beckha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4159440" cy="55454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9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412452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3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4157640" cy="554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18900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David Beckham‘s fami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10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6" descr=""/>
          <p:cNvPicPr/>
          <p:nvPr/>
        </p:nvPicPr>
        <p:blipFill>
          <a:blip r:embed="rId4"/>
          <a:stretch/>
        </p:blipFill>
        <p:spPr>
          <a:xfrm>
            <a:off x="4788000" y="4102200"/>
            <a:ext cx="36734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427280" y="0"/>
            <a:ext cx="4716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erson is a man, who is famous all over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born on the 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ctober in 195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got a wife and two daughter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atya and Ma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got a black dog, Kony by n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260280"/>
            <a:ext cx="4032360" cy="6264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2032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7280" y="4724280"/>
            <a:ext cx="4537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photo of our person at school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4211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Leningrad State University he was the school's judo champion in 1974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a famous politic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became officially the President of Russia in 2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356000" y="123840"/>
            <a:ext cx="4603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10199"/>
                </a:solidFill>
                <a:latin typeface="Tahoma"/>
              </a:rPr>
              <a:t>Vladimir Puti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5400720" cy="398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4240" y="2276640"/>
            <a:ext cx="3749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04:44Z</dcterms:created>
  <dc:creator>Надежда</dc:creator>
  <dc:description/>
  <dc:language>en-US</dc:language>
  <cp:lastModifiedBy>Домашний компьютер</cp:lastModifiedBy>
  <dcterms:modified xsi:type="dcterms:W3CDTF">2010-02-10T06:43:51Z</dcterms:modified>
  <cp:revision>5</cp:revision>
  <dc:subject/>
  <dc:title>  Mystery person  6th form  </dc:title>
</cp:coreProperties>
</file>