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DB3A-7D6B-4BA2-8EDE-3180724CD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3FA2-487E-42BA-A2ED-A087F199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9444-399F-465A-823A-2CF25ECDA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A03A-D9AB-4581-9555-20AA72183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3273-7642-498D-A996-D7161516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7BDB-3B19-449B-9AE8-C17CD8BD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64DD-A97C-41AC-89E7-848DBECB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AD44-3B07-498F-A9FD-99B43DF3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2669-B0E2-4B35-B8B8-4D680C2F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2F3D-8879-473F-9752-CC603111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2FFF-F57F-40C8-B3D7-449132CD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8C74-651E-45C9-BA96-B9C77D1D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EA78-709C-4549-AF9B-05E374D5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0783-56F5-4FDB-828F-CCB33585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A9B7-9D86-443F-A7FE-8F083EE8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BDD3-5A60-486D-9647-AECCD84BB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4A8B-D2DD-4CFA-9E93-A5D0B75B1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443B-0042-4329-BE0F-F127C832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3C71-DC3F-4009-B646-6206A6F4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77ED-3F0F-4B11-9CD5-6534EE2A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EF26-F124-498E-B7C2-F3191170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B3B4-8970-4761-A46F-DAF8C086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1F2F-D616-4D1E-9328-022FFC0B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7AED-19E7-4324-83E3-D3F1BE70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A630-10F5-42E5-B8F3-2F1F37C95148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39CF-1F08-483C-9FE6-925ECB98D5CF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042920" y="1557360"/>
            <a:ext cx="720108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Наша Родина - Россия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07932" dir="189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"/>
          <p:cNvSpPr/>
          <p:nvPr/>
        </p:nvSpPr>
        <p:spPr>
          <a:xfrm>
            <a:off x="2442240" y="5157720"/>
            <a:ext cx="4513320" cy="1313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333300"/>
            </a:solidFill>
            <a:miter/>
          </a:ln>
          <a:effectLst>
            <a:outerShdw dist="107932" dir="13500000" blurRad="0" rotWithShape="0">
              <a:srgbClr val="ffcc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Презентация выполнена Байковой В.А.,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учителем начальных классов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МКОУ «Бережковская основная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общеобразовательная школа»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8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385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38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38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73640" y="838080"/>
            <a:ext cx="7788600" cy="52131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cc6600"/>
            </a:solidFill>
            <a:miter/>
          </a:ln>
          <a:effectLst>
            <a:outerShdw dist="153753" dir="2700000" blurRad="0" rotWithShape="0">
              <a:srgbClr val="ff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«Наше Отечество, наша Родина – матушка Россия.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Отечеством мы зовем Россию потому, что в ней жили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испокон веку отцы и деды наши. Родиной мы зовем ее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потому, что в ней мы родились, в ней говорят родным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нам языком и все в ней для нас родное, а матерью –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потому, что она вскормила нас своим хлебом, вспоила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своими водами, выучила своему языку, как мать,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защищает и бережет нас от всяких врагов…»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К.Д.Ушинский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rcRect l="2744" t="850" r="4116" b="3399"/>
          <a:stretch/>
        </p:blipFill>
        <p:spPr>
          <a:xfrm>
            <a:off x="4724280" y="304920"/>
            <a:ext cx="411480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</p:pic>
      <p:sp>
        <p:nvSpPr>
          <p:cNvPr id="85" name=""/>
          <p:cNvSpPr/>
          <p:nvPr/>
        </p:nvSpPr>
        <p:spPr>
          <a:xfrm>
            <a:off x="1800" y="457200"/>
            <a:ext cx="4946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амятник «Тысячелетие России»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был установлен в память о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зникновении государства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на Руси. Скульптурные группы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отражают всю историю нашей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страны. Ангел и коленопрекло-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ненная женщина олицетворяе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церковь, благословляющую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Россию, вокруг них изображены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ыдающиеся деятели: просветители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народа, государственные люди,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герои войн, писатели и художники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амятник выражает благодарность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отомков всем тем, кто собирал и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укреплял наше Отечество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rcRect l="2583" t="58645" r="2583" b="1209"/>
          <a:stretch/>
        </p:blipFill>
        <p:spPr>
          <a:xfrm>
            <a:off x="4836960" y="457200"/>
            <a:ext cx="3965760" cy="3002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</p:pic>
      <p:pic>
        <p:nvPicPr>
          <p:cNvPr id="87" name="" descr=""/>
          <p:cNvPicPr/>
          <p:nvPr/>
        </p:nvPicPr>
        <p:blipFill>
          <a:blip r:embed="rId3"/>
          <a:srcRect l="861" t="1209" r="0" b="50780"/>
          <a:stretch/>
        </p:blipFill>
        <p:spPr>
          <a:xfrm>
            <a:off x="304920" y="457200"/>
            <a:ext cx="4267080" cy="2990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</p:pic>
      <p:sp>
        <p:nvSpPr>
          <p:cNvPr id="88" name=""/>
          <p:cNvSpPr/>
          <p:nvPr/>
        </p:nvSpPr>
        <p:spPr>
          <a:xfrm>
            <a:off x="367920" y="3622680"/>
            <a:ext cx="33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И.Левитан.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Озеро. Русь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39200" y="362268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.Дубовской.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Родина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3760" y="4665600"/>
            <a:ext cx="877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Картины Н.Дубовского «Родина» и И.Левитана «Озеро. Русь»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прекрасно передают образ нашей Родины – России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rcRect l="0" t="3860" r="0" b="5789"/>
          <a:stretch/>
        </p:blipFill>
        <p:spPr>
          <a:xfrm>
            <a:off x="609480" y="380880"/>
            <a:ext cx="7772400" cy="4173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cccc"/>
            </a:outerShdw>
          </a:effectLst>
        </p:spPr>
      </p:pic>
      <p:sp>
        <p:nvSpPr>
          <p:cNvPr id="92" name=""/>
          <p:cNvSpPr/>
          <p:nvPr/>
        </p:nvSpPr>
        <p:spPr>
          <a:xfrm>
            <a:off x="3585240" y="4495680"/>
            <a:ext cx="47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Г.Нисский.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Подмосковье. Февраль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0680" y="5105520"/>
            <a:ext cx="8546040" cy="13737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cc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ffcc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Весь пейзаж залит золотым светом заходящего солнца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Все наполнено ощущением морозного воздуха,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радостным, бодрым настроением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rcRect l="0" t="0" r="37819" b="3755"/>
          <a:stretch/>
        </p:blipFill>
        <p:spPr>
          <a:xfrm>
            <a:off x="762120" y="304920"/>
            <a:ext cx="7873920" cy="3276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</p:pic>
      <p:sp>
        <p:nvSpPr>
          <p:cNvPr id="95" name=""/>
          <p:cNvSpPr/>
          <p:nvPr/>
        </p:nvSpPr>
        <p:spPr>
          <a:xfrm>
            <a:off x="2592000" y="3733920"/>
            <a:ext cx="483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А.Грицай.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 В Жигулях. Бурный день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Фрагмент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7080" y="4343400"/>
            <a:ext cx="8474400" cy="2288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ff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 картине А.Грицая показана панорама крутых берегов.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Рассекая волны, движется судно. Высеченные лучами солнца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горы и леса яркими пятнами горят на фоне темных буро-синих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олн. Весь пейзаж пронизан воздухом, движением, и поневоле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ощущаешь быстрое течение реки, плеск волн и резкие порывы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етра. Картина отражает размах, мощь русской природы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rcRect l="0" t="0" r="2268" b="4038"/>
          <a:stretch/>
        </p:blipFill>
        <p:spPr>
          <a:xfrm>
            <a:off x="990720" y="838080"/>
            <a:ext cx="7391160" cy="5034240"/>
          </a:xfrm>
          <a:prstGeom prst="rect">
            <a:avLst/>
          </a:prstGeom>
          <a:ln w="9360">
            <a:solidFill>
              <a:srgbClr val="333300"/>
            </a:solidFill>
            <a:miter/>
          </a:ln>
          <a:effectLst>
            <a:outerShdw dist="153753" dir="2700000" blurRad="0" rotWithShape="0">
              <a:srgbClr val="393a18"/>
            </a:outerShdw>
          </a:effectLst>
        </p:spPr>
      </p:pic>
      <p:sp>
        <p:nvSpPr>
          <p:cNvPr id="98" name=""/>
          <p:cNvSpPr/>
          <p:nvPr/>
        </p:nvSpPr>
        <p:spPr>
          <a:xfrm>
            <a:off x="5106600" y="6095880"/>
            <a:ext cx="32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.Игошев.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Моя Родина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rcRect l="537" t="776" r="0" b="3103"/>
          <a:stretch/>
        </p:blipFill>
        <p:spPr>
          <a:xfrm>
            <a:off x="685800" y="609480"/>
            <a:ext cx="7848720" cy="4429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</p:pic>
      <p:sp>
        <p:nvSpPr>
          <p:cNvPr id="100" name=""/>
          <p:cNvSpPr/>
          <p:nvPr/>
        </p:nvSpPr>
        <p:spPr>
          <a:xfrm>
            <a:off x="5412240" y="525780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.Дубовской.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Родина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rcRect l="506" t="1359" r="1013" b="0"/>
          <a:stretch/>
        </p:blipFill>
        <p:spPr>
          <a:xfrm>
            <a:off x="609480" y="380880"/>
            <a:ext cx="8001000" cy="5199120"/>
          </a:xfrm>
          <a:prstGeom prst="rect">
            <a:avLst/>
          </a:prstGeom>
          <a:ln w="76320">
            <a:solidFill>
              <a:srgbClr val="cc6600"/>
            </a:solidFill>
            <a:miter/>
          </a:ln>
          <a:effectLst>
            <a:outerShdw dist="153753" dir="2700000" blurRad="0" rotWithShape="0">
              <a:srgbClr val="560000"/>
            </a:outerShdw>
          </a:effectLst>
        </p:spPr>
      </p:pic>
      <p:sp>
        <p:nvSpPr>
          <p:cNvPr id="102" name=""/>
          <p:cNvSpPr/>
          <p:nvPr/>
        </p:nvSpPr>
        <p:spPr>
          <a:xfrm>
            <a:off x="4727880" y="5791320"/>
            <a:ext cx="32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И.Левитан. Озеро. Русь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19:16:48Z</dcterms:created>
  <dc:creator>user</dc:creator>
  <dc:description/>
  <dc:language>en-US</dc:language>
  <cp:lastModifiedBy>WIN7XP</cp:lastModifiedBy>
  <dcterms:modified xsi:type="dcterms:W3CDTF">2012-11-28T16:18:59Z</dcterms:modified>
  <cp:revision>6</cp:revision>
  <dc:subject/>
  <dc:title>Презентация PowerPoint</dc:title>
</cp:coreProperties>
</file>