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1F8-7620-4B88-96F5-6F05F681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2FE-3F4E-422B-975C-C667667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AE6-1276-4B5E-AFA5-A1DC752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D2E-5051-4638-BFA7-CA6C07C0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BB1-83AC-4E7B-BD16-6A9271E9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DEC-8C7B-44B9-B866-7786113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18B-4F45-4C9B-A622-775528DC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BFE-35F2-49BE-A984-10BC2BE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D37-494E-4BFD-9157-42B12E93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ED4-3209-4F32-A904-5B8C982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3A2-24CB-4D27-B86E-30AD1FC2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09B-A7EE-44C1-951D-2BE6F6B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7DB2-8903-4AD8-A619-0B865D4676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6;&#1088;&#1076;&#1072;_%28&#1075;&#1077;&#1086;&#1084;&#1077;&#1090;&#1088;&#1080;&#1103;%29" TargetMode="External"/><Relationship Id="rId2" Type="http://schemas.openxmlformats.org/officeDocument/2006/relationships/hyperlink" Target="http://ru.wikipedia.org/wiki/&#1044;&#1080;&#1072;&#1084;&#1077;&#1090;&#1088;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56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 u="sng">
                <a:solidFill>
                  <a:srgbClr val="0000ff"/>
                </a:solidFill>
                <a:uFillTx/>
                <a:latin typeface="Arial"/>
              </a:rPr>
              <a:t>Окружн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1439640" cy="1273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587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1440000" cy="127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124000" y="1628640"/>
            <a:ext cx="6264360" cy="4648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0"/>
            <a:ext cx="568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 u="sng">
                <a:solidFill>
                  <a:srgbClr val="0000ff"/>
                </a:solidFill>
                <a:uFillTx/>
                <a:latin typeface="Arial"/>
              </a:rPr>
              <a:t>Окружн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457200"/>
            <a:ext cx="75438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9999"/>
                </a:solidFill>
                <a:latin typeface="Times New Roman"/>
              </a:rPr>
              <a:t>Диаметр (</a:t>
            </a:r>
            <a:r>
              <a:rPr b="1" i="1" lang="en-US" sz="8000" spc="-1" strike="noStrike">
                <a:solidFill>
                  <a:srgbClr val="009999"/>
                </a:solidFill>
                <a:latin typeface="Times New Roman"/>
              </a:rPr>
              <a:t>d)</a:t>
            </a:r>
            <a:r>
              <a:rPr b="1" i="1" lang="ru-RU" sz="8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1905120"/>
            <a:ext cx="4724280" cy="46479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4038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035240" y="1981080"/>
            <a:ext cx="1301400" cy="449604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90512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632448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617220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81952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33412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05740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684160" y="3007800"/>
            <a:ext cx="4002120" cy="244188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9920" y="2117880"/>
            <a:ext cx="2012760" cy="422424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29200" y="38862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81080" y="2362320"/>
            <a:ext cx="49536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010280" y="5257800"/>
            <a:ext cx="50508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трезок, соединяющий две точки окружности, называется её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хордой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. Хорда, проходящая через центр окружности, называется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диаметром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52480" y="380880"/>
            <a:ext cx="6019920" cy="601992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380880" cy="304560"/>
          </a:xfrm>
          <a:prstGeom prst="ellipse">
            <a:avLst/>
          </a:prstGeom>
          <a:solidFill>
            <a:srgbClr val="0000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76920" y="682560"/>
            <a:ext cx="1295280" cy="2673360"/>
          </a:xfrm>
          <a:prstGeom prst="line">
            <a:avLst/>
          </a:prstGeom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922640" y="3490560"/>
            <a:ext cx="2192040" cy="185580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685800"/>
            <a:ext cx="1526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60948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380880"/>
            <a:ext cx="1447920" cy="586764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6171480"/>
            <a:ext cx="30492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181480"/>
            <a:ext cx="30456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04920"/>
            <a:ext cx="30456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81480" y="30481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мая совершенная линия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кружност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( Аристот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мый важный элемент окружности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диус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(Вавилоняне и древние индейцы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диус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(латин.) – луч, употребляли римские поэты Овидий и Вергилий. Евклид говорил «прямая из цент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ермин «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диус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 впервые в «Геометрии» 1569г. ввел французский ученый Рам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1 век римский автор Боэций «Искусство геометрии» впервые ввел термин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лудиаметр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Хорд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(греч.) – струна, ввели в Европе 12-13 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кружности, имеющие общий центр, называютс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нцентрическими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08360" y="1989000"/>
            <a:ext cx="4680000" cy="413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orte"/>
              </a:rPr>
              <a:t>Кр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игура, ограниченная окружностью, назы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ootlight MT Light"/>
              </a:rPr>
              <a:t>кругом</a:t>
            </a:r>
            <a:r>
              <a:rPr b="1" lang="ru-RU" sz="4000" spc="-1" strike="noStrike">
                <a:solidFill>
                  <a:srgbClr val="0000ff"/>
                </a:solidFill>
                <a:latin typeface="Footlight MT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1989000"/>
            <a:ext cx="2138400" cy="2210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0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01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 окружность это не только геометрическое место точек плоскости, равноудалённых от заданной точки. Так же из окружностей можно делать различные аппл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87684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Bodoni MT Poster Compressed"/>
              </a:rPr>
              <a:t>Узоры из окружнос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24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993080" cy="67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83628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ootlight MT Light"/>
              </a:rPr>
              <a:t>Окружностью</a:t>
            </a:r>
            <a:r>
              <a:rPr b="1" lang="ru-RU" sz="4400" spc="-1" strike="noStrike">
                <a:solidFill>
                  <a:srgbClr val="003300"/>
                </a:solidFill>
                <a:latin typeface="Footlight MT Light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38480" y="1095480"/>
            <a:ext cx="466704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00080" y="1047600"/>
            <a:ext cx="7143840" cy="4762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68580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4738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4818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dc4a5b"/>
                </a:solidFill>
                <a:latin typeface="Arial"/>
              </a:rPr>
              <a:t>окружн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5334120" cy="502920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08000" y="-136800"/>
            <a:ext cx="91440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4181f3"/>
                </a:solidFill>
                <a:latin typeface="Arial"/>
              </a:rPr>
              <a:t>Центр </a:t>
            </a:r>
            <a:br>
              <a:rPr sz="8000"/>
            </a:br>
            <a:r>
              <a:rPr b="1" i="1" lang="ru-RU" sz="8000" spc="-1" strike="noStrike">
                <a:solidFill>
                  <a:srgbClr val="4181f3"/>
                </a:solidFill>
                <a:latin typeface="Arial"/>
              </a:rPr>
              <a:t>окружн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362320"/>
            <a:ext cx="4419720" cy="41907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343400"/>
            <a:ext cx="228600" cy="228600"/>
          </a:xfrm>
          <a:prstGeom prst="ellipse">
            <a:avLst/>
          </a:prstGeom>
          <a:solidFill>
            <a:srgbClr val="0000ff"/>
          </a:solidFill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0" y="38862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900"/>
                            </p:stCondLst>
                            <p:childTnLst>
                              <p:par>
                                <p:cTn id="3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900"/>
                            </p:stCondLst>
                            <p:childTnLst>
                              <p:par>
                                <p:cTn id="4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5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чка, равноудаленная от всех точек окружности, называется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центром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резок, соединяющий центр окружности с любой её точкой, называется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адиусом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1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1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05120" y="1523880"/>
            <a:ext cx="5105160" cy="487692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809880"/>
            <a:ext cx="304920" cy="304920"/>
          </a:xfrm>
          <a:prstGeom prst="ellipse">
            <a:avLst/>
          </a:prstGeom>
          <a:solidFill>
            <a:srgbClr val="0000ff"/>
          </a:solidFill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365760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586728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43828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48320" y="2664000"/>
            <a:ext cx="1904760" cy="12254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04920"/>
            <a:ext cx="6324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f48b"/>
                </a:solidFill>
                <a:latin typeface="Times New Roman"/>
              </a:rPr>
              <a:t>Радиус (</a:t>
            </a:r>
            <a:r>
              <a:rPr b="1" i="1" lang="en-US" sz="8000" spc="-1" strike="noStrike">
                <a:solidFill>
                  <a:srgbClr val="00f48b"/>
                </a:solidFill>
                <a:latin typeface="Times New Roman"/>
              </a:rPr>
              <a:t>r</a:t>
            </a:r>
            <a:r>
              <a:rPr b="1" i="1" lang="ru-RU" sz="8000" spc="-1" strike="noStrike">
                <a:solidFill>
                  <a:srgbClr val="00f48b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705200" y="3762360"/>
            <a:ext cx="2248200" cy="24768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5680" y="2592360"/>
            <a:ext cx="1855800" cy="1293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45000" y="4132440"/>
            <a:ext cx="1270080" cy="179352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76920" y="259092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38480" y="41911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066680"/>
            <a:ext cx="5105160" cy="487692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523880"/>
            <a:ext cx="228600" cy="228600"/>
          </a:xfrm>
          <a:prstGeom prst="ellipse">
            <a:avLst/>
          </a:prstGeom>
          <a:solidFill>
            <a:srgbClr val="ff00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672080" y="1700280"/>
            <a:ext cx="1400040" cy="178128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429000"/>
            <a:ext cx="304560" cy="304920"/>
          </a:xfrm>
          <a:prstGeom prst="ellipse">
            <a:avLst/>
          </a:prstGeom>
          <a:solidFill>
            <a:srgbClr val="0000ff"/>
          </a:solidFill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19810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3352680"/>
            <a:ext cx="476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00800" y="838080"/>
            <a:ext cx="504720" cy="7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04920" y="0"/>
            <a:ext cx="84582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Обозначают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67080" y="1066680"/>
            <a:ext cx="3200400" cy="1181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О;r)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2666880"/>
            <a:ext cx="8305920" cy="3810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"Окруж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 центром в точке О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диуса r"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2286000"/>
            <a:ext cx="71625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Читают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1066680"/>
            <a:ext cx="2266920" cy="1200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к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11280" y="260280"/>
            <a:ext cx="64771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ffff"/>
                </a:solidFill>
                <a:latin typeface="Times New Roman"/>
              </a:rPr>
              <a:t>Хорд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676520"/>
            <a:ext cx="5029200" cy="480060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38862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168960" y="2286000"/>
            <a:ext cx="311040" cy="380988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133720"/>
            <a:ext cx="3962520" cy="243828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16280" y="1905120"/>
            <a:ext cx="2977920" cy="373356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01720" y="1676520"/>
            <a:ext cx="1073160" cy="449568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9436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2133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4864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60199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449568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16002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82880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29200" y="38862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705720" y="5791320"/>
            <a:ext cx="504720" cy="71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05720" y="1600200"/>
            <a:ext cx="45720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8:49:08Z</dcterms:created>
  <dc:creator>аа</dc:creator>
  <dc:description/>
  <dc:language>en-US</dc:language>
  <cp:lastModifiedBy>аа</cp:lastModifiedBy>
  <dcterms:modified xsi:type="dcterms:W3CDTF">2010-05-13T11:24:03Z</dcterms:modified>
  <cp:revision>7</cp:revision>
  <dc:subject/>
  <dc:title>Окружности</dc:title>
</cp:coreProperties>
</file>