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9B5-C53B-4B04-A02C-9E4188AA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683-8390-479F-B714-EA97023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6E7-4F6F-4CB5-B6F1-248EB018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C19-AEB9-4081-BE37-ED1646CD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033-7677-4EC4-92BF-C109050E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9EA-948D-4B61-B9C8-FFA8B371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5A8-0B3B-44DC-8F38-4F04E7C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0D3-1273-49E2-8F1B-B4AC65A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E5C-4A53-4684-9E8D-0D64B26D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47A-19A7-4567-B3A7-35B0E2E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95B-5A3C-489A-A93D-D9528C5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E74-EDE4-40F1-927A-7139D3E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5CF-3F2E-4FA4-B7B9-6AE052FEEB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9311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Игра как средство формирования здорового образа жизни в режиме группы продлённого д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средней подви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большой подви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357800" y="321480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Участие  каждого ребёнка в различных играх, соревнован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49520" cy="258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73720" cy="267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411280" y="3664080"/>
            <a:ext cx="42595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1.00-13.00  Прогулка(подвижны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3.00-13.50  Клубный час, занятия с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логопедом, развивающи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3.50-14.30  Об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4.30-15.30  Прогулка(экскурсии,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спортивны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5.30-16.30  Кружки, се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16.30-17.00  Игры, занятия по                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             интере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Театрализованное представление                    «Откуда берутся грязнули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SAM_3202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Анкета «Сформированность гигиенических навык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моешь руки с мыл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моешь руки после туале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имеешь при себе носовой плато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имеешь при себе расчёск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a1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Всегда ли ты ложишься спать в одно и тоже врем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Результаты анкетирования</a:t>
            </a: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 «Сформированность гигиенических навыков»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на начало учебного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Результаты анкетирования</a:t>
            </a: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 «Сформированность гигиенических навыков»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на конец учебного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Сравнительные данные сформированности гигиенических навыков у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Повышение психоэмоциональной устойчив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357800" y="3214800"/>
            <a:ext cx="4548240" cy="34113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1438560" y="1285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a10"/>
                </a:solidFill>
                <a:latin typeface="Arial"/>
              </a:rPr>
              <a:t>День с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718600" y="257184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a10"/>
                </a:solidFill>
                <a:latin typeface="Arial"/>
              </a:rPr>
              <a:t>Театр - экспром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Объект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- процесс формирования здорового образа жизни через игру у детей младшего школьного возраста в режиме гп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Предмет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- использование оздоровительных  мероприятий и игровой деятельности для формирования здорового образа жизни  у детей школьного возраста в режиме гп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Игры на сближение детского коллек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00720" y="3286080"/>
            <a:ext cx="4465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Личная безопаснос</a:t>
            </a: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Цикл игровых занятий «Правила безопасности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Не навреди себ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ткуда берутся болезн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сторожно – лекарств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Лучше не рисковать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«Осторожно! Бездомные животны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d0a1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С помощью игры сформировать здоровый образ жизни у первоклассников, посещающих гп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Обеспечить реализацию игровой деятельности в режиме гпд с целью сохранения здоровь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Организовать участие каждого ребёнка в различных играх, соревнованиях для обеспечения необходимой двигательной активности в течение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Развивать коммуникативные навыки, создавать положительно-эмоциональный  наст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Прививать культурно-гигиенические навыки через игры, беседы и создание побуждающих ситуаций</a:t>
            </a:r>
            <a:r>
              <a:rPr b="0" lang="ru-RU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a1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Физическое здоровье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это активный образ жизни, движение, занятия спортом, подвижные игры, здоровое питание, соблюдение правил личной гигиены, отсутствие заболе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a10"/>
                </a:solidFill>
                <a:latin typeface="Calibri"/>
              </a:rPr>
              <a:t>Психоэмоциональное          здоровье</a:t>
            </a: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d0a10"/>
                </a:solidFill>
                <a:latin typeface="Calibri"/>
              </a:rPr>
              <a:t>это умение понимать других, выражать свои чувства, контролировать эмоции, находить способы безконфликтного взаимодействия с товарищ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a10"/>
                </a:solidFill>
                <a:latin typeface="Calibri"/>
              </a:rPr>
              <a:t>ФАКТОРЫ, ВЛИЯЮЩИЕ НА СОСТОЯНИЕ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НАСЛЕДСТВЕННОСТЬ   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ЭКОЛОГИЯ                       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СОЦИАЛЬНАЯ   СТОРОНА  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МЕДИЦИНА                             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ОБРАЗ   ЖИЗНИ                       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a10"/>
                </a:solidFill>
                <a:latin typeface="Calibri"/>
              </a:rPr>
              <a:t>Формы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Прогулки на свежем воздухе (организация подвижных и спортивных  игр, экскурсии, выход в природу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Проведение клубных часов (час здоровья, беседы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игровой форм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Свободная детская деятельность (дидактические, строительные, подвижные игры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Анкетир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Calibri"/>
              </a:rPr>
              <a:t>Опытно- диагностическое исслед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a10"/>
                </a:solidFill>
                <a:latin typeface="Calibri"/>
              </a:rPr>
              <a:t>Программа здоровьесбережения включает следующие компон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Оптимальная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Соблюдение режима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Формирование гигиенических навы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Повышение психоэмоциональной устойч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Личная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a10"/>
                </a:solidFill>
                <a:latin typeface="Calibri"/>
              </a:rPr>
              <a:t>Игра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 – специфический вид детск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a10"/>
                </a:solidFill>
                <a:latin typeface="Calibri"/>
              </a:rPr>
              <a:t>Подвижная  игра </a:t>
            </a:r>
            <a:r>
              <a:rPr b="0" lang="ru-RU" sz="3200" spc="-1" strike="noStrike">
                <a:solidFill>
                  <a:srgbClr val="0d0a10"/>
                </a:solidFill>
                <a:latin typeface="Calibri"/>
              </a:rPr>
              <a:t>является сознательной детской деятельностью, направленной на достижение поставленной ц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6:58Z</dcterms:created>
  <dc:creator>Loner-XP</dc:creator>
  <dc:description/>
  <dc:language>en-US</dc:language>
  <cp:lastModifiedBy>Admin</cp:lastModifiedBy>
  <dcterms:modified xsi:type="dcterms:W3CDTF">2012-11-19T06:50:00Z</dcterms:modified>
  <cp:revision>15</cp:revision>
  <dc:subject/>
  <dc:title>Игра, как средство формирования здорового образа жизни в режиме группы продлённого дня.</dc:title>
</cp:coreProperties>
</file>