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D2B-19E3-48F9-96C0-F8E451CB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E89-E565-43D2-8D67-908D156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A27-C21A-4BAC-8D1F-636A2574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192-F568-408C-BC7F-CB220A0C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FDC-DD22-4F92-9F8C-2CA18460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F3D-D362-483A-B261-B52408F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7F1-9E60-4BB2-B25C-9443C581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91B-060D-4A56-AFFC-2688195C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1FB-A356-4A9A-972C-3B16CF41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082-EC5A-4077-9E84-89B9C559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35A-6D38-492C-8A79-AD4EEAB0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BEE-9881-4158-995F-26B84E1E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C0F1-D20C-4588-98A0-20F91D6700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9311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a10"/>
                </a:solidFill>
                <a:latin typeface="Calibri"/>
              </a:rPr>
              <a:t>Игра как средство формирования здорового образа жизни в режиме группы продлённого д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 средней подви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 большой подви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357800" y="321480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Участие  каждого ребёнка в различных играх, соревнован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49520" cy="258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73720" cy="267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411280" y="3664080"/>
            <a:ext cx="42595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1.00-13.00  Прогулка(подвижные иг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3.00-13.50  Клубный час, занятия с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  логопедом, развивающие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3.50-14.30  Об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4.30-15.30  Прогулка(экскурсии,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  спортивные иг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5.30-16.30  Кружки, се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6.30-17.00  Игры, занятия по               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  интере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Театрализованное представление                    «Откуда берутся грязнули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SAM_3202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Анкета «Сформированность гигиенических навык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моешь руки с мыл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моешь руки после туале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имеешь при себе носовой плато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имеешь при себе расчёс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ложишься спать в одно и тоже врем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Результаты анкетирования</a:t>
            </a: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 «Сформированность гигиенических навыков»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на начало учебного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Результаты анкетирования</a:t>
            </a: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 «Сформированность гигиенических навыков»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на конец учебного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Сравнительные данные сформированности гигиенических навыков у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Повышение психоэмоциональной устойчив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357800" y="3214800"/>
            <a:ext cx="4548240" cy="34113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1438560" y="1285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a10"/>
                </a:solidFill>
                <a:latin typeface="Arial"/>
              </a:rPr>
              <a:t>День с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5718600" y="257184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a10"/>
                </a:solidFill>
                <a:latin typeface="Arial"/>
              </a:rPr>
              <a:t>Театр - экспром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Объект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- процесс формирования здорового образа жизни через игру у детей младшего школьного возраста в режиме гп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Предмет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- использование оздоровительных  мероприятий и игровой деятельности для формирования здорового образа жизни  у детей школьного возраста в режиме гп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Игры на сближение детского коллек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500720" y="3286080"/>
            <a:ext cx="4465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Личная безопаснос</a:t>
            </a:r>
            <a:r>
              <a:rPr b="0" lang="ru-RU" sz="3600" spc="-1" strike="noStrike">
                <a:solidFill>
                  <a:srgbClr val="0d0a10"/>
                </a:solidFill>
                <a:latin typeface="Calibri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Цикл игровых занятий «Правила безопасности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Не навреди себ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Откуда берутся болезн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Осторожно – лекарство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Лучше не рисковат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Осторожно! Бездомные животные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d0a1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a1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a10"/>
                </a:solidFill>
                <a:latin typeface="Calibri"/>
              </a:rPr>
              <a:t>С помощью игры сформировать здоровый образ жизни у первоклассников, посещающих гп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Обеспечить реализацию игровой деятельности в режиме гпд с целью сохранения здоровь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Организовать участие каждого ребёнка в различных играх, соревнованиях для обеспечения необходимой двигательной активности в течение д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Развивать коммуникативные навыки, создавать положительно-эмоциональный  наст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Прививать культурно-гигиенические навыки через игры, беседы и создание побуждающих ситуаций</a:t>
            </a:r>
            <a:r>
              <a:rPr b="0" lang="ru-RU" sz="1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a10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Физическое здоровье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это активный образ жизни, движение, занятия спортом, подвижные игры, здоровое питание, соблюдение правил личной гигиены, отсутствие заболе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Психоэмоциональное          здоровье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это умение понимать других, выражать свои чувства, контролировать эмоции, находить способы безконфликтного взаимодействия с товарищ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a10"/>
                </a:solidFill>
                <a:latin typeface="Calibri"/>
              </a:rPr>
              <a:t>ФАКТОРЫ, ВЛИЯЮЩИЕ НА СОСТОЯНИЕ ЗДОРОВ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НАСЛЕДСТВЕННОСТЬ   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ЭКОЛОГИЯ                       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СОЦИАЛЬНАЯ   СТОРОНА  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МЕДИЦИНА                             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ОБРАЗ   ЖИЗНИ                       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Формы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Прогулки на свежем воздухе (организация подвижных и спортивных  игр, экскурсии, выход в природу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Проведение клубных часов (час здоровья, беседы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игровой форм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Свободная детская деятельность (дидактические, строительные, подвижные игры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Анкетир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Опытно- диагностическое исслед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Программа здоровьесбережения включает следующие компонен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Оптимальная 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Соблюдение режима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Формирование гигиенических навы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Повышение психоэмоциональной устойч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Личная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a10"/>
                </a:solidFill>
                <a:latin typeface="Calibri"/>
              </a:rPr>
              <a:t>Игра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 – специфический вид детск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a10"/>
                </a:solidFill>
                <a:latin typeface="Calibri"/>
              </a:rPr>
              <a:t>Подвижная  игра 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является сознательной детской деятельностью, направленной на достижение поставленной ц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6:58Z</dcterms:created>
  <dc:creator>Loner-XP</dc:creator>
  <dc:description/>
  <dc:language>en-US</dc:language>
  <cp:lastModifiedBy>Admin</cp:lastModifiedBy>
  <dcterms:modified xsi:type="dcterms:W3CDTF">2012-11-19T06:50:00Z</dcterms:modified>
  <cp:revision>15</cp:revision>
  <dc:subject/>
  <dc:title>Игра, как средство формирования здорового образа жизни в режиме группы продлённого дня.</dc:title>
</cp:coreProperties>
</file>