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8F90-2C8C-4D06-B6C7-51C6E27070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429D-4F74-4E17-BDA9-C49BDCC68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34F3-D97C-4257-BC6D-C304D3819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83B4-F3E1-4464-8DBF-5D1BB60FA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F6AF-EA88-4110-A332-76D467389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FB56-58A9-40E7-8BFF-42432B4CD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4254-29C0-455F-A07F-FEA574B30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3737-C609-47CF-AE43-52D76BF7A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516A-4BE4-46A0-ACE8-EB2BFD582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D181-9DDE-406D-9695-5EEB079BB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DD5C-3424-4DEC-9399-24633CB2B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0BFF-3F5E-41AC-9603-DED64941E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39D4-5EC5-4AAC-9083-7C0A8E06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0CA8-43F6-44A1-929E-EF244C9A5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A6C0-B8DC-41E2-8609-72C209650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B1EF-F14D-442F-9AF3-42371575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A280-E435-425B-B022-425FAB09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98E4-4F09-4AFA-A8E9-AEFE3FEC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E365-9B61-4759-B242-4654BD2E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4986-172A-44A0-81F4-B5F9F9E7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FFF7-F588-4476-9AFD-ABE669C0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F486-9CAC-4AFE-8F75-2D8FB711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A123-5B07-4F87-BE2B-3E9BB8D8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CB40-41DE-47B0-8935-736D09468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er-esenin.ru/" TargetMode="External"/><Relationship Id="rId2" Type="http://schemas.openxmlformats.org/officeDocument/2006/relationships/hyperlink" Target="http://www.ser-esenin.ru/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лов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э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28760" y="15717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ергей Есен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октября 1895 —28 декабря 192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зентация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ителя ГБОУ СОШ № 383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каровой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алины Николаев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2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http://pocciy.com/images/stories/sergey_yesenin.jpg"/>
          <p:cNvPicPr/>
          <p:nvPr/>
        </p:nvPicPr>
        <p:blipFill>
          <a:blip r:embed="rId1"/>
          <a:stretch/>
        </p:blipFill>
        <p:spPr>
          <a:xfrm>
            <a:off x="5286240" y="1785960"/>
            <a:ext cx="2610000" cy="379080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285560"/>
            <a:ext cx="4572000" cy="40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атьяна Сергеевна Есенина - дочь Сергея Есенина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ды жизни 1918 - 1992 год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лен Союза писателей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ила в Ташкенте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ректор музея Сергея Есенина. Два сына Владимир и Серге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http://ps.1september.ru/2004/34/24.jpg"/>
          <p:cNvPicPr/>
          <p:nvPr/>
        </p:nvPicPr>
        <p:blipFill>
          <a:blip r:embed="rId1"/>
          <a:stretch/>
        </p:blipFill>
        <p:spPr>
          <a:xfrm>
            <a:off x="5000760" y="1500120"/>
            <a:ext cx="2361960" cy="3333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268000" y="1052640"/>
            <a:ext cx="4643640" cy="4525920"/>
          </a:xfrm>
          <a:prstGeom prst="rect">
            <a:avLst/>
          </a:prstGeom>
          <a:noFill/>
          <a:ln w="9360">
            <a:solidFill>
              <a:srgbClr val="f2f2f2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тернет-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er-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senin.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Arial"/>
              </a:rPr>
              <a:t>Википед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0d0d"/>
                </a:solidFill>
                <a:latin typeface="Arial"/>
              </a:rPr>
              <a:t>esenin_bio.ht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0d0d"/>
                </a:solidFill>
                <a:latin typeface="Arial"/>
              </a:rPr>
              <a:t>sa-esenin.org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0d0d"/>
                </a:solidFill>
                <a:latin typeface="Arial"/>
              </a:rPr>
              <a:t>my-senin.ru/bio.ht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лов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э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2920" y="1341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тели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ександр Никитич Есенин (1873-1931)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Татьяна Федоровна Есенина (Титова) (1865-1955)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ец Сергея Есенина Александр Никитич мальчиком пел в церкви. Он работал старшим приказчиком в мясной лавке на улице Щипок и куда в 1912 году поступил работать Сергей Есенин конторщиком, когда переехал из своего села Константиново в Москв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http://img.beta.rian.ru/images/28075/33/280753324.jpg"/>
          <p:cNvPicPr/>
          <p:nvPr/>
        </p:nvPicPr>
        <p:blipFill>
          <a:blip r:embed="rId1"/>
          <a:stretch/>
        </p:blipFill>
        <p:spPr>
          <a:xfrm>
            <a:off x="642960" y="1357200"/>
            <a:ext cx="3085920" cy="456264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рестьянска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садьб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одителе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эт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11280" y="1268280"/>
            <a:ext cx="5873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октября 1965 года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 время празднования 70-летия со дня его рождения, был открыт мемориальный Дом-музей Сергея Александровича Есен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611280" y="3357720"/>
            <a:ext cx="4038480" cy="308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6012000" y="3286080"/>
            <a:ext cx="2736720" cy="3168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4038480" cy="4093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4500720" y="549360"/>
            <a:ext cx="4176720" cy="443556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2484360" y="13413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утри д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643280" y="765000"/>
            <a:ext cx="4038840" cy="45262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ргей Есенин закончил школу в 1909 году с похвальным листом. К 100-летию со дня рождения поэта школа была восстановлена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школе развернута экспозиция, посвященная роли земских в образовании и воспитании крестьянских детей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мемориальном есенинском классе можно увидеть грифельную дощечку для письма, которой пользовался Сережа во время учебы в первом классе, фотографии его первых учителей, учебники, литературу для чтения, наглядные учебные пособ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занска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церк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5840" y="1600200"/>
            <a:ext cx="4209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рам в селе Константиново воздвигнут в конце XVIII века по проекту известного зодчего России Ивана Егоровича Старов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церкви было зарегистрировано рождение Сергея Александровича Есенина, и мальчик, конечно же, часто посещал е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щенник И.Я. Смирнов способствовал поступлению двенадцатилетнего Сережи 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ас-Клепиковскую второклассную церковно-учительскую школу, где ныне открыт отдел музея-заповед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http://www.roadplanet.ru/img/reports/594/img/11.jpg"/>
          <p:cNvPicPr/>
          <p:nvPr/>
        </p:nvPicPr>
        <p:blipFill>
          <a:blip r:embed="rId1"/>
          <a:srcRect l="0" t="0" r="39817" b="0"/>
          <a:stretch/>
        </p:blipFill>
        <p:spPr>
          <a:xfrm>
            <a:off x="4857840" y="1643040"/>
            <a:ext cx="3582720" cy="4467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садебный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ом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.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ши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Дом с мезонином" - усадебный дом Л.И. Кашиной, которой С.А. Есенин посвятил немало поэтических строк, вызывает особый интерес у посетителе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ихотворения "Зеленая прическа", "Не напрасно дули ветры" были созданы под впечатлением от встреч поэта с молодой хозяйкой усадьбы. Судьба Л.И. Кашиной - последней константиновской помещицы - легла в основу поэмы "Анна Снегина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http://profimages.ru/upload/iblock/be6/i_85239.jpg"/>
          <p:cNvPicPr/>
          <p:nvPr/>
        </p:nvPicPr>
        <p:blipFill>
          <a:blip r:embed="rId1"/>
          <a:stretch/>
        </p:blipFill>
        <p:spPr>
          <a:xfrm>
            <a:off x="4572000" y="2000160"/>
            <a:ext cx="4200480" cy="2800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учно-культурны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цент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ывши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итературны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узе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его экспозициях представлены: рукописи, прижизненные издания С.А. Есенина и его современников, книга "Радуница" с первым автографом автора, стол, за которым работал поэт на Кавказе, его посмертная маска. Есть в экспозициях личные вещи: пиджак, трубка, перчатки, цилиндр, дорожный чемодан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центре представлены предметы и вещи из особняка на Пречистенке относящиеся к времени проживания в нем Айседоры Дункан и Сергея Есенина: диван красного дерева, кресла, туалетный столик, накидка из лебяжьего пуха, принадлежавшая прославленной балери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4038840" cy="4525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6840" y="214200"/>
            <a:ext cx="46911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орнице на стене - семейные фотографии, Похвальный лист, которым был награжден Сергей Есенин в 1909 году по окончании местной четырехклассной школ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авом углу, как и при жизни Есенина, отстукивают время часы. Они - живые свидетели всего, что происходило много лет назад. Часам уже более восьмидесяти лет, на циферблате название знаменитой часовой фирмы - "В.Габю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были подарены отцу Есенина купцом Крыловым за долгую и безупречную службу в Москве. В 1921 году Александр Никитич вернулся в родное село и вместе с другими своими вещами привез и часы... Они в темном деревянном футляре с кокетливыми резными башенками, желтыми гирями и маятником, черными фигурными стрелками, указывающими на римские цифры X и XII. Поэт о них написал: "Скоро, скоро часы деревянные прохрипят мой двенадцатый час!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5500800" y="285840"/>
            <a:ext cx="3246480" cy="4392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17:47:20Z</dcterms:created>
  <dc:creator>user</dc:creator>
  <dc:description/>
  <dc:language>en-US</dc:language>
  <cp:lastModifiedBy>Игорь</cp:lastModifiedBy>
  <dcterms:modified xsi:type="dcterms:W3CDTF">2012-05-22T16:22:40Z</dcterms:modified>
  <cp:revision>15</cp:revision>
  <dc:subject/>
  <dc:title>Образ Родины  в лирике С.А. Есенина</dc:title>
</cp:coreProperties>
</file>