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AA6-25FE-4EBD-AF12-243BA922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EC6-DF91-49CE-ABFC-B7FEB11B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B94-ABCD-441C-AD04-CD11337D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D33-5BAB-47F6-8A7C-0C68CDF8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2C1A-92E8-4C3A-85E2-1AE2EA01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2C17-3F49-4D43-A431-B15EF864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AB29-33EA-425E-A67E-6F52662E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E518-E98C-464B-94DF-7B8C34F6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2E99-D4E6-479C-A5AE-D388C191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345A-C248-43CE-AD4E-A6B892F3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F04C-76C8-45C9-9BC9-271B0A4C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F21-A837-4CA6-B8E7-E01D1CFE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D0EA-B32F-4067-B36B-6F62FCB4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3DF7-A1D9-4DCF-979E-A509FE86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F58C-9D99-44F6-848B-E4284703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E029-51EB-481E-83BB-4A24DFE6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C37D-D6AB-47AB-8644-4E025CD5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8BC-D809-4BDD-8CE1-8CB5D4B6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DCF-DA55-4D0F-B987-FA3530C2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2D6-AC17-4106-B48E-D5CBD343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1E4-9548-4932-A5B1-57728B88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5F9-FA84-409F-BE76-26F02B82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EBE-5C62-48FD-A770-0C36EC07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351-64CB-43C8-95BF-1CE67E2E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4F92-6148-4BAB-9345-695419552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BD19-D569-4813-813A-F884D40C90B8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360" y="765000"/>
            <a:ext cx="6192720" cy="43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Англицизмы и американизмы в русском языке</a:t>
            </a:r>
            <a:br>
              <a:rPr sz="4800"/>
            </a:br>
            <a:br>
              <a:rPr sz="4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или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английского языка Симановская Н.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Хаматова К.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БУ СОШ №4 г Благовещенск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Терраса, жюри, дайвер, шарф, бриджи, кондиционер, митинг, компьютер, вермишель, снайпер, штаб, крекер, матч, вундеркинд, шедевр, газета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война слов.wmv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My friend bought a hand-made T-shirt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Yesterday I watched a talk-show with A. Malakhov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This song is the remake of the old one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I bought a poster of my favourite actor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This film has got a happy end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I am a baby-sitter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.Н.Толсто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Не нужно от них открещиваться, но ненужно ими и злоупотреблять. Лучше говорить лифт, чем самоподымальщик, или телефон, чем дальнеразговория»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омашнее зада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писать, какие еще заимствованные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нглийские слова вы используете в речи, подобрать русские синони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Индивидуально: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мы говорили о заимствованиях  в русском языке, найдите какие русские слова вошли в лексику английского языка и стали заимствованны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55920" y="596520"/>
            <a:ext cx="6192720" cy="283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Verdana"/>
              </a:rPr>
              <a:t>How are you today?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ечь состоит из слов.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Этот закон не нов.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аждое слово – живое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 особой, своей судьбою.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Бежали столетья и годы,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-разному жили народы.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орговлю вели, воевали,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Бранились, а после – мирились,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Жить в добром соседстве учились.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 вот результат их общенья,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олшебное слов превращенье.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ак, в языке зародившись одном,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лово потом оказалось в другом,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мало прошло испытаний,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о смысл поменяв, то звучанье.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сторию слов сможем мы рассказать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Любому, кто хочет об этом узна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620640"/>
          <a:ext cx="8229600" cy="543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6 - 17 вв. </a:t>
                      </a: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 в</a:t>
                      </a: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 в.</a:t>
                      </a: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 в. </a:t>
                      </a: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2 слова</a:t>
                      </a: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87 слов</a:t>
                      </a: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14 слов</a:t>
                      </a: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14 слов. </a:t>
                      </a:r>
                      <a:endParaRPr b="0" lang="en-US" sz="5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наш урок ж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633240" y="966960"/>
            <a:ext cx="1879920" cy="1612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3"/>
          <a:stretch/>
        </p:blipFill>
        <p:spPr>
          <a:xfrm>
            <a:off x="6588000" y="966960"/>
            <a:ext cx="1828800" cy="1155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4"/>
          <a:stretch/>
        </p:blipFill>
        <p:spPr>
          <a:xfrm>
            <a:off x="1042920" y="3884760"/>
            <a:ext cx="1870200" cy="1730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5"/>
          <a:stretch/>
        </p:blipFill>
        <p:spPr>
          <a:xfrm>
            <a:off x="6875640" y="3686040"/>
            <a:ext cx="17366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245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971640" y="765000"/>
          <a:ext cx="2160360" cy="475164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aily life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ompute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levision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lephone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oaste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lende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ixe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276720" y="765000"/>
          <a:ext cx="2160360" cy="475164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por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ootball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asketball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olleyball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ockey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por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580000" y="765000"/>
          <a:ext cx="2160720" cy="475164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lang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enage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mar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Lose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hoe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ake up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reak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971640" y="404640"/>
          <a:ext cx="2160360" cy="598968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aily life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omputer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levision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елевизо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Radio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адио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елефо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oaster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осте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lender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ленде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ixer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иксе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276720" y="404640"/>
          <a:ext cx="2160360" cy="600264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por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ootball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утбо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asketball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аскетбо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olleyball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олейбо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ockey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Хокке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nni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еннис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ор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580000" y="404640"/>
          <a:ext cx="2160720" cy="604872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lang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enager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дрост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mart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мны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Loser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удачни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hoe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уфл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ake up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акияж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reak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род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Лексико- морфологические заимств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4130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лова, совпадающие с иноязычными образцами: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автомобиль, футбол, беж, хак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2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Слова, морфологически оформленные аффиксами заимствующего языка: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ентабельный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(rentable)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, джинсы(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jean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3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лова, с замещением части иноязычного образца русским элементом: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шорты(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shorts)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, телевидение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  (television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суффиксы </a:t>
            </a: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-ор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-ер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-инг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;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буквосочетания </a:t>
            </a: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дж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тч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2:03:38Z</dcterms:created>
  <dc:creator>Андрей</dc:creator>
  <dc:description/>
  <dc:language>en-US</dc:language>
  <cp:lastModifiedBy>Андрей</cp:lastModifiedBy>
  <dcterms:modified xsi:type="dcterms:W3CDTF">2012-11-28T08:11:59Z</dcterms:modified>
  <cp:revision>12</cp:revision>
  <dc:subject/>
  <dc:title>пр</dc:title>
</cp:coreProperties>
</file>