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4B3E-6A04-466A-BE06-83A7D5F6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1D05-99F7-43C5-8EF7-D2A7B0F4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9FB6-1064-48A9-9590-76D73340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0844-9E7A-4692-A044-3AD2B9B6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2C87-1632-480F-8EDA-C8E4155D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4DFE-5247-4D6F-AD96-E84B357F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D210-1663-4A6B-9940-24ECBAB5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84FF-111C-4778-9047-5E85D512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34AD-6A07-4B75-B9F3-0A97B8B5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FDE5-C800-4435-80A9-E6E8DF0F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D021-35BD-4450-A113-2BD13489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95FA-7156-4439-901B-A751FA3C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56FF-5F04-4EA6-A5B1-27A70E59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38F0-D045-4781-9EC5-A2B68B4A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DC77-63C2-45E3-ABCA-013242B5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DC55-53B3-400C-AE48-5ADDD9DB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104E-5A29-4068-9DD2-31BCDAE5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4364-D7A2-421E-A3F3-CC113040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F1EE-4FAE-4745-A655-2CBD435A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F547-0343-401B-8277-ABD45BE6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5F34-8C36-45CD-B01C-7FDAA108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5BD6-1BFA-4364-BD1B-407334B2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F61C-6EF7-42D0-868C-89592594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56E6-82E0-416E-8E06-E9F18A92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B9CA-4433-45BE-98EC-6085F7474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E1E7-9C9A-4F05-974B-B81E8CA1B51B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76360" y="765000"/>
            <a:ext cx="6192720" cy="439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Verdana"/>
              </a:rPr>
              <a:t>Англицизмы и американизмы в русском языке</a:t>
            </a:r>
            <a:br>
              <a:rPr sz="4800"/>
            </a:br>
            <a:br>
              <a:rPr sz="4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олнили: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английского языка Симановская Н.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русского языка Хаматова К.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БУ СОШ №4 г Благовещенск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Терраса, жюри, дайвер, шарф, бриджи, кондиционер, митинг, компьютер, вермишель, снайпер, штаб, крекер, матч, вундеркинд, шедевр, газета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8" name="война слов.wmv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My friend bought a hand-made T-shirt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Yesterday I watched a talk-show with A. Malakhov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This song is the remake of the old one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I bought a poster of my favourite actor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This film has got a happy end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I am a baby-sitter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.Н.Толсто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Не нужно от них открещиваться, но ненужно ими и злоупотреблять. Лучше говорить лифт, чем самоподымальщик, или телефон, чем дальнеразговория»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Домашнее зада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Записать, какие еще заимствованные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нглийские слова вы используете в речи, подобрать русские синоним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Индивидуально: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мы говорили о заимствованиях  в русском языке, найдите какие русские слова вошли в лексику английского языка и стали заимствованны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55920" y="596520"/>
            <a:ext cx="6192720" cy="283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Verdana"/>
              </a:rPr>
              <a:t>How are you today?</a:t>
            </a:r>
            <a:endParaRPr b="0" lang="en-US" sz="6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ечь состоит из слов.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Этот закон не нов.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Каждое слово – живое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 особой, своей судьбою.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Бежали столетья и годы,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о-разному жили народы.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Торговлю вели, воевали,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Бранились, а после – мирились,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Жить в добром соседстве учились.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И вот результат их общенья,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Волшебное слов превращенье.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Так, в языке зародившись одном,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лово потом оказалось в другом,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Немало прошло испытаний,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То смысл поменяв, то звучанье.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Историю слов сможем мы рассказать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Любому, кто хочет об этом узнать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457200" y="620640"/>
          <a:ext cx="8229600" cy="5435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4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6 - 17 вв. </a:t>
                      </a:r>
                      <a:endParaRPr b="0" lang="en-US" sz="5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8 в</a:t>
                      </a:r>
                      <a:endParaRPr b="0" lang="en-US" sz="5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9 в.</a:t>
                      </a:r>
                      <a:endParaRPr b="0" lang="en-US" sz="5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 в. </a:t>
                      </a:r>
                      <a:endParaRPr b="0" lang="en-US" sz="5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2 слова</a:t>
                      </a:r>
                      <a:endParaRPr b="0" lang="en-US" sz="5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87 слов</a:t>
                      </a:r>
                      <a:endParaRPr b="0" lang="en-US" sz="5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14 слов</a:t>
                      </a:r>
                      <a:endParaRPr b="0" lang="en-US" sz="5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814 слов. </a:t>
                      </a:r>
                      <a:endParaRPr b="0" lang="en-US" sz="5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наш урок ж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633240" y="966960"/>
            <a:ext cx="1879920" cy="1612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3"/>
          <a:stretch/>
        </p:blipFill>
        <p:spPr>
          <a:xfrm>
            <a:off x="6588000" y="966960"/>
            <a:ext cx="1828800" cy="1155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"/>
          <p:cNvPicPr/>
          <p:nvPr/>
        </p:nvPicPr>
        <p:blipFill>
          <a:blip r:embed="rId4"/>
          <a:stretch/>
        </p:blipFill>
        <p:spPr>
          <a:xfrm>
            <a:off x="1042920" y="3884760"/>
            <a:ext cx="1870200" cy="1730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"/>
          <p:cNvPicPr/>
          <p:nvPr/>
        </p:nvPicPr>
        <p:blipFill>
          <a:blip r:embed="rId5"/>
          <a:stretch/>
        </p:blipFill>
        <p:spPr>
          <a:xfrm>
            <a:off x="6875640" y="3686040"/>
            <a:ext cx="173664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2245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971640" y="765000"/>
          <a:ext cx="2160360" cy="4751640"/>
        </p:xfrm>
        <a:graphic>
          <a:graphicData uri="http://schemas.openxmlformats.org/drawingml/2006/table">
            <a:tbl>
              <a:tblPr/>
              <a:tblGrid>
                <a:gridCol w="21603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aily life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omputer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levision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Radio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lephone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oaster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Blender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mixer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276720" y="765000"/>
          <a:ext cx="2160360" cy="4751640"/>
        </p:xfrm>
        <a:graphic>
          <a:graphicData uri="http://schemas.openxmlformats.org/drawingml/2006/table">
            <a:tbl>
              <a:tblPr/>
              <a:tblGrid>
                <a:gridCol w="21603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port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ootball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Basketball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Volleyball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Hockey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nnis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port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5580000" y="765000"/>
          <a:ext cx="2160720" cy="4751640"/>
        </p:xfrm>
        <a:graphic>
          <a:graphicData uri="http://schemas.openxmlformats.org/drawingml/2006/table">
            <a:tbl>
              <a:tblPr/>
              <a:tblGrid>
                <a:gridCol w="21607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lang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enager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mart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Loser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hoes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Make up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reak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971640" y="404640"/>
          <a:ext cx="2160360" cy="5989680"/>
        </p:xfrm>
        <a:graphic>
          <a:graphicData uri="http://schemas.openxmlformats.org/drawingml/2006/table">
            <a:tbl>
              <a:tblPr/>
              <a:tblGrid>
                <a:gridCol w="2160360"/>
              </a:tblGrid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aily life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omputer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levision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елевизор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Radio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адио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lephon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елефон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oaster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остер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Blender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лендер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Mixer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иксер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276720" y="404640"/>
          <a:ext cx="2160360" cy="6002640"/>
        </p:xfrm>
        <a:graphic>
          <a:graphicData uri="http://schemas.openxmlformats.org/drawingml/2006/table">
            <a:tbl>
              <a:tblPr/>
              <a:tblGrid>
                <a:gridCol w="2160360"/>
              </a:tblGrid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port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ootball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утбо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Basketball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аскетбо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Volleyball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олейбо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Hockey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Хокке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nni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еннис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пор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580000" y="404640"/>
          <a:ext cx="2160720" cy="6048720"/>
        </p:xfrm>
        <a:graphic>
          <a:graphicData uri="http://schemas.openxmlformats.org/drawingml/2006/table">
            <a:tbl>
              <a:tblPr/>
              <a:tblGrid>
                <a:gridCol w="2160720"/>
              </a:tblGrid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lang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enager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дрост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mart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мны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Loser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удачни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hoe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уфл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Make up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акияж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reak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род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Лексико- морфологические заимствова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8360" y="14130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1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лова, совпадающие с иноязычными образцами: 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автомобиль, футбол, беж, хакк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2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Слова, морфологически оформленные аффиксами заимствующего языка: 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рентабельный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(rentable)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, джинсы(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jeans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3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лова, с замещением части иноязычного образца русским элементом: 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шорты(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shorts)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, телевидение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  (television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суффиксы </a:t>
            </a:r>
            <a:r>
              <a:rPr b="1" lang="ru-RU" sz="5400" spc="-1" strike="noStrike">
                <a:solidFill>
                  <a:srgbClr val="006699"/>
                </a:solidFill>
                <a:latin typeface="Verdana"/>
              </a:rPr>
              <a:t>-ор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1" lang="ru-RU" sz="5400" spc="-1" strike="noStrike">
                <a:solidFill>
                  <a:srgbClr val="006699"/>
                </a:solidFill>
                <a:latin typeface="Verdana"/>
              </a:rPr>
              <a:t>-ер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1" lang="ru-RU" sz="5400" spc="-1" strike="noStrike">
                <a:solidFill>
                  <a:srgbClr val="006699"/>
                </a:solidFill>
                <a:latin typeface="Verdana"/>
              </a:rPr>
              <a:t>-инг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; 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буквосочетания </a:t>
            </a:r>
            <a:r>
              <a:rPr b="1" lang="ru-RU" sz="5400" spc="-1" strike="noStrike">
                <a:solidFill>
                  <a:srgbClr val="006699"/>
                </a:solidFill>
                <a:latin typeface="Verdana"/>
              </a:rPr>
              <a:t>дж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1" lang="ru-RU" sz="5400" spc="-1" strike="noStrike">
                <a:solidFill>
                  <a:srgbClr val="006699"/>
                </a:solidFill>
                <a:latin typeface="Verdana"/>
              </a:rPr>
              <a:t>тч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2:03:38Z</dcterms:created>
  <dc:creator>Андрей</dc:creator>
  <dc:description/>
  <dc:language>en-US</dc:language>
  <cp:lastModifiedBy>Андрей</cp:lastModifiedBy>
  <dcterms:modified xsi:type="dcterms:W3CDTF">2012-11-28T08:11:59Z</dcterms:modified>
  <cp:revision>12</cp:revision>
  <dc:subject/>
  <dc:title>пр</dc:title>
</cp:coreProperties>
</file>