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035-CF7C-4888-84F2-CD72E22F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F96-EB1A-4ED6-BE71-5E02855D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668-F935-441B-BFE8-0994B115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2DB-9614-4C37-AF88-9A03B5A2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6DC-38E4-445B-939F-7C4EDBE6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108-020E-4897-A7F5-BD34AC18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85D-FE30-40AA-A4ED-D85A6A88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87E-B17D-4B6C-91C3-DF39232B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AF3-FEF4-4E13-ABEE-248D0E9A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0DB-CD2E-401D-8414-5339E9B1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68D-A04E-4BB9-9B09-A72F8BEE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0F2-9D44-4AF9-A2F2-42945EC6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7A90-228A-4511-97C4-142B4E2C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g-fotki.yandex.ru/get/4704/anfilat.9/0_5b658_86c42f0f_X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finnougoria.ru/upload/iblock/bab/IMG_1878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ulpravda.ru/images/0922-02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252000" cy="6940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1 из 7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Гавриловские матреш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632720" cy="55656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еревянные игрушки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з Подлесной Тав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2 из 7"/>
          <p:cNvPicPr/>
          <p:nvPr/>
        </p:nvPicPr>
        <p:blipFill>
          <a:blip r:embed="rId1"/>
          <a:stretch/>
        </p:blipFill>
        <p:spPr>
          <a:xfrm>
            <a:off x="108000" y="3213000"/>
            <a:ext cx="5294160" cy="352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1 из 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1052640"/>
            <a:ext cx="4716360" cy="353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Мордовские вал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3 из 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125360"/>
            <a:ext cx="4149720" cy="561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2 из 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125360"/>
            <a:ext cx="409896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ульптор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пан Дмитриеви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рьзя</a:t>
            </a: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2 из 67"/>
          <p:cNvPicPr/>
          <p:nvPr/>
        </p:nvPicPr>
        <p:blipFill>
          <a:blip r:embed="rId1"/>
          <a:stretch/>
        </p:blipFill>
        <p:spPr>
          <a:xfrm>
            <a:off x="2243160" y="1197000"/>
            <a:ext cx="4282920" cy="54720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едот Васильеви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ч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3 из 563"/>
          <p:cNvPicPr/>
          <p:nvPr/>
        </p:nvPicPr>
        <p:blipFill>
          <a:blip r:embed="rId1"/>
          <a:stretch/>
        </p:blipFill>
        <p:spPr>
          <a:xfrm>
            <a:off x="2268360" y="1125360"/>
            <a:ext cx="422604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ександр Иванович Полежа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6 из 1661"/>
          <p:cNvPicPr/>
          <p:nvPr/>
        </p:nvPicPr>
        <p:blipFill>
          <a:blip r:embed="rId1"/>
          <a:stretch/>
        </p:blipFill>
        <p:spPr>
          <a:xfrm>
            <a:off x="2556000" y="1197000"/>
            <a:ext cx="4378320" cy="54720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2:16Z</dcterms:created>
  <dc:creator>Customer</dc:creator>
  <dc:description/>
  <dc:language>en-US</dc:language>
  <cp:lastModifiedBy>User</cp:lastModifiedBy>
  <dcterms:modified xsi:type="dcterms:W3CDTF">2012-04-25T11:49:01Z</dcterms:modified>
  <cp:revision>4</cp:revision>
  <dc:subject/>
  <dc:title>Слайд 1</dc:title>
</cp:coreProperties>
</file>