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C3E-3637-4D9B-A218-7B52AF38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0E3-22FD-449B-BC8E-CB87435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54D-6252-4B71-903D-4B2BB846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6CE-2A93-441C-A21F-EAD0F6B8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40D-EC89-489E-93DC-D9B4450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53B-0348-46DA-B481-D873BB7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9F2-19FF-4928-BAE3-F7AF6125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B90-3693-4F40-930E-13669B55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841-6656-4664-8568-C7894C4C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3E6-C17D-4055-B3AF-B11C259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48D-3A03-402A-B988-0F17CA4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91F-2ABF-4EF9-9584-8FB3061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155-CD4E-4373-BDD0-0863D56F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-fotki.yandex.ru/get/4704/anfilat.9/0_5b658_86c42f0f_X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finnougoria.ru/upload/iblock/bab/IMG_1878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ulpravda.ru/images/0922-02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52000" cy="694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1 из 7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Гавриловские матреш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55656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еревянные игрушки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з Подлесной Тав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2 из 7"/>
          <p:cNvPicPr/>
          <p:nvPr/>
        </p:nvPicPr>
        <p:blipFill>
          <a:blip r:embed="rId1"/>
          <a:stretch/>
        </p:blipFill>
        <p:spPr>
          <a:xfrm>
            <a:off x="108000" y="3213000"/>
            <a:ext cx="5294160" cy="352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 из 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1052640"/>
            <a:ext cx="471636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Мордовские вал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3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125360"/>
            <a:ext cx="4149720" cy="561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2 из 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125360"/>
            <a:ext cx="409896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ульптор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пан Дмитрие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рьзя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2 из 67"/>
          <p:cNvPicPr/>
          <p:nvPr/>
        </p:nvPicPr>
        <p:blipFill>
          <a:blip r:embed="rId1"/>
          <a:stretch/>
        </p:blipFill>
        <p:spPr>
          <a:xfrm>
            <a:off x="2243160" y="1197000"/>
            <a:ext cx="4282920" cy="5472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от Василье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ч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563"/>
          <p:cNvPicPr/>
          <p:nvPr/>
        </p:nvPicPr>
        <p:blipFill>
          <a:blip r:embed="rId1"/>
          <a:stretch/>
        </p:blipFill>
        <p:spPr>
          <a:xfrm>
            <a:off x="2268360" y="1125360"/>
            <a:ext cx="422604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ександр Иванович Полежа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6 из 1661"/>
          <p:cNvPicPr/>
          <p:nvPr/>
        </p:nvPicPr>
        <p:blipFill>
          <a:blip r:embed="rId1"/>
          <a:stretch/>
        </p:blipFill>
        <p:spPr>
          <a:xfrm>
            <a:off x="2556000" y="1197000"/>
            <a:ext cx="4378320" cy="5472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2:16Z</dcterms:created>
  <dc:creator>Customer</dc:creator>
  <dc:description/>
  <dc:language>en-US</dc:language>
  <cp:lastModifiedBy>User</cp:lastModifiedBy>
  <dcterms:modified xsi:type="dcterms:W3CDTF">2012-04-25T11:49:01Z</dcterms:modified>
  <cp:revision>4</cp:revision>
  <dc:subject/>
  <dc:title>Слайд 1</dc:title>
</cp:coreProperties>
</file>