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23F-D093-4D95-B723-7AFCC1C9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C91-8295-474B-B885-4FF5ABA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A31-B830-48D8-8EE5-21C182C0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858-9DF6-4BAC-A0AB-EBF467DE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C58D-9E68-40DA-A3E6-7A35E7C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788A-7602-444E-BCB6-4A63260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876-9417-4031-90CD-ED5C05B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EF6-CF25-4EB8-8D23-8870737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11F4-A828-4107-89FA-D2AC105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7FB0-B4CE-4431-BD17-E97D835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A175-D251-46C6-B281-52A2F4C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74F-51AB-4427-813B-F3CB704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E377-B446-44BC-9D4A-70AEC92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542-D0E7-43BE-ACEA-125F61C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5923-ACC1-4C88-B246-D85893B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C182-A7CE-4C9F-ABC5-5282E183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DC51-3E69-43A1-8D13-21426BC5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320-5667-4EEC-83AF-4FB38B3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851-20BA-4EAA-B1D4-0A047EDA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DE8-A388-4D67-A405-F207DB2E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F8A-36E2-4C60-9F54-1231F8E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690-4DA4-4158-80F4-7C9A767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225-2A1C-48AF-9D36-2BED7E7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577-2069-4DA4-83BA-B5D06D8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600-16B9-4224-9D11-4DFBFAAEA2B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B330-29AB-4C98-8347-B8200273607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56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Развитие музыкальных способностей детей дошкольного возраста через элементарное музицирование в условиях ознакомления с русским народным фольклором.</a:t>
            </a: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Цель: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7620120" cy="485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оздание условий для удовлетворения потребности детей в эмоциональном и двигательном самовыражении через элементарное музицирование в условиях ознакомления с русским народным фолькло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752120"/>
            <a:ext cx="7626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накомить детей с многообразием русской народной культуры в практике музицир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пособствовать становлению первоначальных навыков музицирования в процессе игры на детских музыкальных и шумовых инструмент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музыкальные способности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навыки общения, взаимоув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оспитывать интерес и любовь к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Times New Roman"/>
              </a:rPr>
              <a:t>Средства реализации задач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7760" y="22860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нятия по элементарному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личные игры: театрализованные, хороводные, дидактическ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лочно-тематические планы по разделу «Русская традиционная культура» программы Л.В.Коломийченко «Социальное развитие детей дошкольного возраст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нообразные формы работы с родител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cc"/>
                </a:solidFill>
                <a:latin typeface="Times New Roman"/>
              </a:rPr>
              <a:t>Цель первого этапа</a:t>
            </a: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: подготовка к работе по данному направлению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пределить уровни развития музыкальных способностей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знакомиться с литературой по данной 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добрать практический материал по возрастным групп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cc"/>
                </a:solidFill>
                <a:latin typeface="Times New Roman"/>
              </a:rPr>
              <a:t>Цель второго этапа работы</a:t>
            </a:r>
            <a:r>
              <a:rPr b="0" i="1" lang="ru-RU" sz="2800" spc="-1" strike="noStrike">
                <a:solidFill>
                  <a:srgbClr val="993366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993366"/>
                </a:solidFill>
                <a:latin typeface="Times New Roman"/>
              </a:rPr>
              <a:t>Активизация естественной потребности ребёнка получать удовольствие от собственной активной музыкальной деятельности.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7760" y="1676160"/>
            <a:ext cx="7626240" cy="5181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буждать детей различать эмоциональное содержание народных произведений, их характер и настро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интерес детей к музицирова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обуждать двигательные реакции на музыку как основу для её эмоционального переж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азвивать стабильное чувство равномерной метрической пульс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обуждать импровизировать в доладовых и доритмических фор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cc"/>
                </a:solidFill>
                <a:latin typeface="Times New Roman"/>
              </a:rPr>
              <a:t>Цель третьего этапа работы</a:t>
            </a:r>
            <a:r>
              <a:rPr b="1" i="1" lang="ru-RU" sz="2800" spc="-1" strike="noStrike">
                <a:solidFill>
                  <a:srgbClr val="ff66cc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пределение эффективности проделанной работы, сопоставление начального и конечного уровней развития музыкальных способностей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Times New Roman"/>
              </a:rPr>
              <a:t>Предполагаемый результат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омплексное развитие музыкальности у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витие социально-коммуникативных каче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Гибкая и тонкая эмоциона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мение находить в музыке средство гармонизации своего внутренн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7:54:27Z</dcterms:created>
  <dc:creator>Кабинет методиста</dc:creator>
  <dc:description/>
  <dc:language>en-US</dc:language>
  <cp:lastModifiedBy>Кабинет методиста</cp:lastModifiedBy>
  <dcterms:modified xsi:type="dcterms:W3CDTF">2006-12-20T14:47:55Z</dcterms:modified>
  <cp:revision>13</cp:revision>
  <dc:subject/>
  <dc:title>Развитие музыкальных способностей детей дошкольного возраста через элементарное музицирование в условиях ознакомления с русским народным фольклором</dc:title>
</cp:coreProperties>
</file>