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E31-A5A1-42F4-8797-946C61D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706-9686-43C8-A822-F8CBBDBF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374-E586-46F5-AADA-917542B3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7F8-6F84-4436-8967-766B0B3C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9E55-26E8-4D65-A0A2-5406E451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7334-9E67-4441-97E9-5F22719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1A36-2E85-465A-BB6B-1C3DC0E9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52C-36E7-47C8-A71E-B000A43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5368-BEF0-4CC7-8D7A-5DE26C6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CBA9-7A4D-4E19-B32A-AB4A0F5B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44B-B843-476F-857D-4258618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D5B-DC5E-4E88-8BEF-3ED617D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4E8C-3B8C-4CCA-B9E6-DB7B69B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A62-814F-4A34-99DE-81100A5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4BEA-26B9-4A3D-843D-BC66934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471-DEDA-4E0A-BDE7-E7957DD0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6EC-2409-484F-872B-677BA132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3F2-9F57-466B-AB5B-ADD929F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CF8-484E-432E-BAA0-CFBB89F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605-462D-4947-81B4-2CCDF20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07E-865E-4874-ADC5-BE09B7DB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FFD-9147-430C-9153-69209EB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1C2-10EE-433B-A09F-11AE972B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D6B-48D8-42FC-A070-0835B36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CD3F-8F66-4513-91EF-B468EFC5689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B1A1-724F-40A5-8D54-509575E394A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56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Развитие музыкальных способностей детей дошкольного возраста через элементарное музицирование в условиях ознакомления с русским народным фольклором.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Цель: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85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оздание условий для удовлетворения потребности детей в эмоциональном и двигательном самовыражении через элементарное музицирование в условиях ознакомления с русским народным фолькло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752120"/>
            <a:ext cx="7626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накомить детей с многообразием русской народной культуры в практике музицир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пособствовать становлению первоначальных навыков музицирования в процессе игры на детских музыкальных и шумовых инструмент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музыкальные способности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навыки общения, взаимоув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ывать интерес и любовь к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Times New Roman"/>
              </a:rPr>
              <a:t>Средства реализации задач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7760" y="22860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нятия по элементарному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личные игры: театрализованные, хороводные, дидактическ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лочно-тематические планы по разделу «Русская традиционная культура» программы Л.В.Коломийченко «Социальное развитие детей дошкольного возраст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нообразные формы работы с родител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cc"/>
                </a:solidFill>
                <a:latin typeface="Times New Roman"/>
              </a:rPr>
              <a:t>Цель первого этапа</a:t>
            </a: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: подготовка к работе по данному направлению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пределить уровни развития музыкальных способностей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знакомиться с литературой по данной 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добрать практический материал по возрастным групп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imes New Roman"/>
              </a:rPr>
              <a:t>Цель второго этапа работы</a:t>
            </a:r>
            <a:r>
              <a:rPr b="0" i="1" lang="ru-RU" sz="2800" spc="-1" strike="noStrike">
                <a:solidFill>
                  <a:srgbClr val="993366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993366"/>
                </a:solidFill>
                <a:latin typeface="Times New Roman"/>
              </a:rPr>
              <a:t>Активизация естественной потребности ребёнка получать удовольствие от собственной активной музыкальной деятельности.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7760" y="1676160"/>
            <a:ext cx="7626240" cy="5181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буждать детей различать эмоциональное содержание народных произведений, их характер и настро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интерес детей к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обуждать двигательные реакции на музыку как основу для её эмоционального переж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стабильное чувство равномерной метрической пульс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буждать импровизировать в доладовых и доритмических фор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cc"/>
                </a:solidFill>
                <a:latin typeface="Times New Roman"/>
              </a:rPr>
              <a:t>Цель третьего этапа работы</a:t>
            </a:r>
            <a:r>
              <a:rPr b="1" i="1" lang="ru-RU" sz="2800" spc="-1" strike="noStrike">
                <a:solidFill>
                  <a:srgbClr val="ff66cc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пределение эффективности проделанной работы, сопоставление начального и конечного уровней развития музыкальных способностей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Times New Roman"/>
              </a:rPr>
              <a:t>Предполагаемый результат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омплексное развитие музыкальности у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витие социально-коммуникативных каче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Гибкая и тонкая эмоциона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мение находить в музыке средство гармонизации своего внутренн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7:54:27Z</dcterms:created>
  <dc:creator>Кабинет методиста</dc:creator>
  <dc:description/>
  <dc:language>en-US</dc:language>
  <cp:lastModifiedBy>Кабинет методиста</cp:lastModifiedBy>
  <dcterms:modified xsi:type="dcterms:W3CDTF">2006-12-20T14:47:55Z</dcterms:modified>
  <cp:revision>13</cp:revision>
  <dc:subject/>
  <dc:title>Развитие музыкальных способностей детей дошкольного возраста через элементарное музицирование в условиях ознакомления с русским народным фольклором</dc:title>
</cp:coreProperties>
</file>