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B418-A441-4489-A21F-046DA7C2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C02-8212-456B-8634-2D95FE56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C3D6-AFB7-4844-BB5F-0A944F6F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CC5E-4DF8-4BAB-A2AD-FAC23D37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C81-63EA-4FFF-AACE-1B7E4E9E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C553-2C82-4250-B61F-0CF2901C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5BDC-B252-43AC-96E1-515EE32E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F38B-D9D0-48B3-AFDB-F2BB2D0E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CCDB-8CE8-4D7B-8094-83A96A7E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7FA-827B-4300-B427-CDAF61CD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04EE-2E60-4BBA-9B71-261E71BF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2CDD-E43D-47DB-9C28-2960E082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4EFC-BF52-4B4B-B652-7795B816D7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ма «Война. Отношение к пленным» (По роману Л.Н. Толстого  «Война и мир» (отрывок) и роману Нодара Думбадзе «Я вижу солнце» (отрыво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428800" y="4071960"/>
            <a:ext cx="325764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полнил ученик 5 «Б» класса  Карпухин Д.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уководитель: учитель высшей категории Согласова Т.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10" descr="война и мир.jpg"/>
          <p:cNvPicPr/>
          <p:nvPr/>
        </p:nvPicPr>
        <p:blipFill>
          <a:blip r:embed="rId1"/>
          <a:stretch/>
        </p:blipFill>
        <p:spPr>
          <a:xfrm>
            <a:off x="500040" y="3357720"/>
            <a:ext cx="2000160" cy="3240000"/>
          </a:xfrm>
          <a:prstGeom prst="rect">
            <a:avLst/>
          </a:prstGeom>
          <a:ln w="0">
            <a:noFill/>
          </a:ln>
        </p:spPr>
      </p:pic>
      <p:pic>
        <p:nvPicPr>
          <p:cNvPr id="44" name="Содержимое 11" descr="Dumbadze.jpg"/>
          <p:cNvPicPr/>
          <p:nvPr/>
        </p:nvPicPr>
        <p:blipFill>
          <a:blip r:embed="rId2"/>
          <a:stretch/>
        </p:blipFill>
        <p:spPr>
          <a:xfrm>
            <a:off x="2714760" y="3357720"/>
            <a:ext cx="240984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143920" cy="657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Вывод: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данное  исследование не только подтвердило   гипотезу  о  том,  что   даже на войне возможно  проявление   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гуманности, но  и  привело  к выводу  о том, что только  добрые и сострадательные  люди,(Денисов, Петя  Ростов, тётя 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осойя)  способны  оказать   помощь , пожалеть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Злые ,бесчеловечные  люди  не посочувствуют не только  чужим, но и своим. Смерть  Пети Ростова  , например, вызвала у  Долохова  только  досаду,  которая выразилась  в  слове  «готов».  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2060"/>
                </a:solidFill>
                <a:latin typeface="Calibri"/>
              </a:rPr>
              <a:t>Проблема: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2500200" y="1928880"/>
            <a:ext cx="4572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зможно ли на войне проявление человеческого участия к пленным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002060"/>
                </a:solidFill>
                <a:latin typeface="Calibri"/>
              </a:rPr>
              <a:t>Гипотеза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71840" y="2071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Да, даже на войне возможно проявление гуманност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Этапы  исследовательской  работ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73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ловарная работ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Война это-конфликт между политическими образованиями (государствами, племенами, политическими группировками и т. д.), происходящий в форме вооруженного противоборства, военных (боевых) действий между их вооружёнными силам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ыявление ассоциаций учащихся 5 «Б» класса к слову «ВОЙНА»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Тестировани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) Возможно ли на войне проявление человечности  ?    1. Да      2. Не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Б) Как надо поступать с пленными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1. Убивать (враги). 2. Отпускать с миром, оказывать помощь (несчастные люди)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alibri"/>
              </a:rPr>
              <a:t>4.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оиск ответов в художественной литератур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) Анализ отрывка из романа Л.Н. Толстого «Война и мир»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Б) Анализ отрывка из романа Н.Думбадзе «Я вижу солнце»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alibri"/>
              </a:rPr>
              <a:t>5.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ыводы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2060"/>
                </a:solidFill>
                <a:latin typeface="Calibri"/>
              </a:rPr>
              <a:t>Словарная работа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4240" y="1285560"/>
            <a:ext cx="707256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Война- это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конфликт между политическими образованиями (государствами, племенами, политическими группировка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 т. д.), происходящий в форме вооруженного противоборства, военных (боевых) действий между их вооружёнными сил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Управляющая кнопка: фильм 8"/>
          <p:cNvSpPr/>
          <p:nvPr/>
        </p:nvSpPr>
        <p:spPr>
          <a:xfrm>
            <a:off x="7858080" y="4643280"/>
            <a:ext cx="71640" cy="46080"/>
          </a:xfrm>
          <a:custGeom>
            <a:avLst/>
            <a:gdLst>
              <a:gd name="textAreaLeft" fmla="*/ 2880 w 71640"/>
              <a:gd name="textAreaRight" fmla="*/ 68760 w 71640"/>
              <a:gd name="textAreaTop" fmla="*/ 2880 h 46080"/>
              <a:gd name="textAreaBottom" fmla="*/ 43200 h 46080"/>
            </a:gdLst>
            <a:ahLst/>
            <a:rect l="textAreaLeft" t="textAreaTop" r="textAreaRight" b="textAreaBottom"/>
            <a:pathLst>
              <a:path w="33488" h="21600">
                <a:moveTo>
                  <a:pt x="0" y="0"/>
                </a:moveTo>
                <a:lnTo>
                  <a:pt x="33488" y="0"/>
                </a:lnTo>
                <a:lnTo>
                  <a:pt x="33488" y="21600"/>
                </a:lnTo>
                <a:lnTo>
                  <a:pt x="0" y="21600"/>
                </a:lnTo>
                <a:close/>
              </a:path>
              <a:path fill="lightenLess" w="33488" h="21600">
                <a:moveTo>
                  <a:pt x="0" y="0"/>
                </a:moveTo>
                <a:lnTo>
                  <a:pt x="33488" y="0"/>
                </a:lnTo>
                <a:lnTo>
                  <a:pt x="32088" y="1400"/>
                </a:lnTo>
                <a:lnTo>
                  <a:pt x="1400" y="1400"/>
                </a:lnTo>
                <a:close/>
              </a:path>
              <a:path fill="darken" w="33488" h="21600">
                <a:moveTo>
                  <a:pt x="33488" y="0"/>
                </a:moveTo>
                <a:lnTo>
                  <a:pt x="33488" y="21600"/>
                </a:lnTo>
                <a:lnTo>
                  <a:pt x="32088" y="20200"/>
                </a:lnTo>
                <a:lnTo>
                  <a:pt x="32088" y="1400"/>
                </a:lnTo>
                <a:close/>
              </a:path>
              <a:path fill="darkenLess" w="33488" h="21600">
                <a:moveTo>
                  <a:pt x="33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088" y="20200"/>
                </a:lnTo>
                <a:close/>
              </a:path>
              <a:path fill="lighten" w="33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488" h="21600">
                <a:moveTo>
                  <a:pt x="9738" y="7301"/>
                </a:moveTo>
                <a:lnTo>
                  <a:pt x="10652" y="7301"/>
                </a:lnTo>
                <a:lnTo>
                  <a:pt x="11035" y="7667"/>
                </a:lnTo>
                <a:lnTo>
                  <a:pt x="20243" y="7667"/>
                </a:lnTo>
                <a:lnTo>
                  <a:pt x="20800" y="8224"/>
                </a:lnTo>
                <a:lnTo>
                  <a:pt x="20800" y="8772"/>
                </a:lnTo>
                <a:lnTo>
                  <a:pt x="22645" y="8772"/>
                </a:lnTo>
                <a:lnTo>
                  <a:pt x="23011" y="8224"/>
                </a:lnTo>
                <a:lnTo>
                  <a:pt x="23751" y="8224"/>
                </a:lnTo>
                <a:lnTo>
                  <a:pt x="23751" y="13376"/>
                </a:lnTo>
                <a:lnTo>
                  <a:pt x="23011" y="13376"/>
                </a:lnTo>
                <a:lnTo>
                  <a:pt x="22645" y="12828"/>
                </a:lnTo>
                <a:lnTo>
                  <a:pt x="20800" y="12828"/>
                </a:lnTo>
                <a:lnTo>
                  <a:pt x="20800" y="14107"/>
                </a:lnTo>
                <a:lnTo>
                  <a:pt x="11217" y="14107"/>
                </a:lnTo>
                <a:lnTo>
                  <a:pt x="11217" y="9877"/>
                </a:lnTo>
                <a:lnTo>
                  <a:pt x="11035" y="9877"/>
                </a:lnTo>
                <a:lnTo>
                  <a:pt x="10652" y="10243"/>
                </a:lnTo>
                <a:lnTo>
                  <a:pt x="9738" y="1024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правляющая кнопка: фильм 9"/>
          <p:cNvSpPr/>
          <p:nvPr/>
        </p:nvSpPr>
        <p:spPr>
          <a:xfrm flipH="1">
            <a:off x="4714200" y="2143080"/>
            <a:ext cx="142920" cy="46080"/>
          </a:xfrm>
          <a:custGeom>
            <a:avLst/>
            <a:gdLst>
              <a:gd name="textAreaLeft" fmla="*/ 2880 w 142920"/>
              <a:gd name="textAreaRight" fmla="*/ 140040 w 142920"/>
              <a:gd name="textAreaTop" fmla="*/ 2880 h 46080"/>
              <a:gd name="textAreaBottom" fmla="*/ 43200 h 46080"/>
            </a:gdLst>
            <a:ahLst/>
            <a:rect l="textAreaLeft" t="textAreaTop" r="textAreaRight" b="textAreaBottom"/>
            <a:pathLst>
              <a:path w="66642" h="21600">
                <a:moveTo>
                  <a:pt x="0" y="0"/>
                </a:moveTo>
                <a:lnTo>
                  <a:pt x="66642" y="0"/>
                </a:lnTo>
                <a:lnTo>
                  <a:pt x="66642" y="21600"/>
                </a:lnTo>
                <a:lnTo>
                  <a:pt x="0" y="21600"/>
                </a:lnTo>
                <a:close/>
              </a:path>
              <a:path fill="lightenLess" w="66642" h="21600">
                <a:moveTo>
                  <a:pt x="0" y="0"/>
                </a:moveTo>
                <a:lnTo>
                  <a:pt x="66642" y="0"/>
                </a:lnTo>
                <a:lnTo>
                  <a:pt x="65242" y="1400"/>
                </a:lnTo>
                <a:lnTo>
                  <a:pt x="1400" y="1400"/>
                </a:lnTo>
                <a:close/>
              </a:path>
              <a:path fill="darken" w="66642" h="21600">
                <a:moveTo>
                  <a:pt x="66642" y="0"/>
                </a:moveTo>
                <a:lnTo>
                  <a:pt x="66642" y="21600"/>
                </a:lnTo>
                <a:lnTo>
                  <a:pt x="65242" y="20200"/>
                </a:lnTo>
                <a:lnTo>
                  <a:pt x="65242" y="1400"/>
                </a:lnTo>
                <a:close/>
              </a:path>
              <a:path fill="darkenLess" w="66642" h="21600">
                <a:moveTo>
                  <a:pt x="66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242" y="20200"/>
                </a:lnTo>
                <a:close/>
              </a:path>
              <a:path fill="lighten" w="66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642" h="21600">
                <a:moveTo>
                  <a:pt x="26314" y="7301"/>
                </a:moveTo>
                <a:lnTo>
                  <a:pt x="27228" y="7301"/>
                </a:lnTo>
                <a:lnTo>
                  <a:pt x="27611" y="7667"/>
                </a:lnTo>
                <a:lnTo>
                  <a:pt x="36820" y="7667"/>
                </a:lnTo>
                <a:lnTo>
                  <a:pt x="37377" y="8224"/>
                </a:lnTo>
                <a:lnTo>
                  <a:pt x="37377" y="8772"/>
                </a:lnTo>
                <a:lnTo>
                  <a:pt x="39222" y="8772"/>
                </a:lnTo>
                <a:lnTo>
                  <a:pt x="39588" y="8224"/>
                </a:lnTo>
                <a:lnTo>
                  <a:pt x="40327" y="8224"/>
                </a:lnTo>
                <a:lnTo>
                  <a:pt x="40327" y="13376"/>
                </a:lnTo>
                <a:lnTo>
                  <a:pt x="39588" y="13376"/>
                </a:lnTo>
                <a:lnTo>
                  <a:pt x="39222" y="12828"/>
                </a:lnTo>
                <a:lnTo>
                  <a:pt x="37377" y="12828"/>
                </a:lnTo>
                <a:lnTo>
                  <a:pt x="37377" y="14107"/>
                </a:lnTo>
                <a:lnTo>
                  <a:pt x="27794" y="14107"/>
                </a:lnTo>
                <a:lnTo>
                  <a:pt x="27794" y="9877"/>
                </a:lnTo>
                <a:lnTo>
                  <a:pt x="27611" y="9877"/>
                </a:lnTo>
                <a:lnTo>
                  <a:pt x="27228" y="10243"/>
                </a:lnTo>
                <a:lnTo>
                  <a:pt x="26314" y="1024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2. Выявление ассоциаций учащихся 5 «Б» класса к слову «ВОЙН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 rot="5400000">
            <a:off x="3250440" y="2678760"/>
            <a:ext cx="16430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Calibri"/>
              </a:rPr>
              <a:t>смер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одержимое 2"/>
          <p:cNvSpPr/>
          <p:nvPr/>
        </p:nvSpPr>
        <p:spPr>
          <a:xfrm>
            <a:off x="3009960" y="3581280"/>
            <a:ext cx="2562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Calibri"/>
              </a:rPr>
              <a:t>ВОЙН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одержимое 2"/>
          <p:cNvSpPr/>
          <p:nvPr/>
        </p:nvSpPr>
        <p:spPr>
          <a:xfrm rot="2883600">
            <a:off x="1590480" y="3019320"/>
            <a:ext cx="1635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Calibri"/>
              </a:rPr>
              <a:t>жал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одержимое 2"/>
          <p:cNvSpPr/>
          <p:nvPr/>
        </p:nvSpPr>
        <p:spPr>
          <a:xfrm rot="18175800">
            <a:off x="4821840" y="2678760"/>
            <a:ext cx="1643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2060"/>
                </a:solidFill>
                <a:uFillTx/>
                <a:latin typeface="Calibri"/>
              </a:rPr>
              <a:t>сочувств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одержимое 2"/>
          <p:cNvSpPr/>
          <p:nvPr/>
        </p:nvSpPr>
        <p:spPr>
          <a:xfrm>
            <a:off x="1428840" y="3929040"/>
            <a:ext cx="1635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Calibri"/>
              </a:rPr>
              <a:t>враж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одержимое 2"/>
          <p:cNvSpPr/>
          <p:nvPr/>
        </p:nvSpPr>
        <p:spPr>
          <a:xfrm rot="18607200">
            <a:off x="2152440" y="4809960"/>
            <a:ext cx="1635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Calibri"/>
              </a:rPr>
              <a:t>гор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одержимое 2"/>
          <p:cNvSpPr/>
          <p:nvPr/>
        </p:nvSpPr>
        <p:spPr>
          <a:xfrm rot="5400000">
            <a:off x="3096720" y="5046480"/>
            <a:ext cx="1635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Calibri"/>
              </a:rPr>
              <a:t>слез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одержимое 2"/>
          <p:cNvSpPr/>
          <p:nvPr/>
        </p:nvSpPr>
        <p:spPr>
          <a:xfrm rot="1942200">
            <a:off x="4951440" y="5070240"/>
            <a:ext cx="21430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Calibri"/>
              </a:rPr>
              <a:t>страд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одержимое 2"/>
          <p:cNvSpPr/>
          <p:nvPr/>
        </p:nvSpPr>
        <p:spPr>
          <a:xfrm>
            <a:off x="5500800" y="3929040"/>
            <a:ext cx="1928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Calibri"/>
              </a:rPr>
              <a:t>ненави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85920" y="50004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3. Тестиров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5920" y="785880"/>
            <a:ext cx="7215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Возможно  ли  на  войне  проявления человечност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-   7      учащих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т-   7     учащих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 Как  надо  поступать  с пленным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Убивать (враги)-   4   учащих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Отпускать с миром, оказывать помощь(несчастные люди, безоружные, уже не участники военных действий)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   учащихся.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анализ отрывка из романа Л.Н. Толстого «Война и ми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4200" y="1214280"/>
          <a:ext cx="8643960" cy="5343840"/>
        </p:xfrm>
        <a:graphic>
          <a:graphicData uri="http://schemas.openxmlformats.org/drawingml/2006/table">
            <a:tbl>
              <a:tblPr/>
              <a:tblGrid>
                <a:gridCol w="738360"/>
                <a:gridCol w="2143080"/>
                <a:gridCol w="3602160"/>
                <a:gridCol w="216036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ерои рома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ношение к пл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ранцуз-барабанщик, пленные францу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я Р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алеет пленного мальчика, первым вызывается пригласить его поесть , испытывал желание помочь ему , чувствовал себя неловко  перед ним из-за Тихона Щербатого и Долохо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Мальчик, засунув свои озябшие руки в карманы и подняв брови, испуганно смотрел на Денисова… путался в своих ответах…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Шлепая босыми ногами по грязи , барабанщик подошел к двери.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лд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ались накормить , обогреть , жале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si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omsieur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чал барабанщик дрожащим почти детским голосом…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и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же на войне остается мирным человеком ,в  пленных видит несчастных людей, отпускает их, жалеет, а мальчика Венсена оставляет при себ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хон Щербат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бивает пленного, чтобы завладеть его сапога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ох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раждебно смотрит на пленного мальчика, спорит с Денисовым о пленных, предлагает их убива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ализ отрывка из романа  Н.Думбадз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 Я вижу солнц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00040" y="1285920"/>
          <a:ext cx="7763040" cy="5151240"/>
        </p:xfrm>
        <a:graphic>
          <a:graphicData uri="http://schemas.openxmlformats.org/drawingml/2006/table">
            <a:tbl>
              <a:tblPr/>
              <a:tblGrid>
                <a:gridCol w="606600"/>
                <a:gridCol w="1608120"/>
                <a:gridCol w="3608280"/>
                <a:gridCol w="194004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ерои ром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ношение к пленны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енный неме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4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ой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троен враждебно , иронизирует над немцем, отказывается помоч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Худой, гладко выбритый , голубоглазый, в зеленом вылинявшем кителе» и огромных  чувяках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 губы у немца дрожали», «дрожащими руками принял  мчади и стал уплетать за обе щеки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тя Сосой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алеет пленного, отдает свой кусок хлеба, а потом и весь обед, сама насыпала ему в карман таба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16:44:24Z</dcterms:created>
  <dc:creator>gfgdsaggf</dc:creator>
  <dc:description/>
  <dc:language>en-US</dc:language>
  <cp:lastModifiedBy>user</cp:lastModifiedBy>
  <dcterms:modified xsi:type="dcterms:W3CDTF">2011-05-01T08:31:14Z</dcterms:modified>
  <cp:revision>48</cp:revision>
  <dc:subject/>
  <dc:title>Немецкая пасха</dc:title>
</cp:coreProperties>
</file>