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6A6-51E1-4B13-8F84-F388C3C5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9C3-FDAF-439E-8848-CFBA51E9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640-9175-42D8-98C0-A55EFD6B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5C0-51A1-4C79-8A23-2CC19949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239-BE29-45CC-9D79-950D6C01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3FB-9784-4A48-9FD4-AA72E28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3FF-AAD7-464A-AD63-7796AB8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A08-62A3-46DF-90D7-3A14878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6A1-5EC2-4B48-8AD2-833ADD90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637-665E-4340-BDDB-D105212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1F2-0B52-4DA4-9F05-CE3A1D1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71D-B44B-465E-80D5-A584AB8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3F25-FE38-4184-BC21-80DC4E98E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 «Война. Отношение к пленным» (По роману Л.Н. Толстого  «Война и мир» (отрывок) и роману Нодара Думбадзе «Я вижу солнце» (отрыво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28800" y="4071960"/>
            <a:ext cx="325764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полнил ученик 5 «Б» класса  Карпухин Д.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ководитель: учитель высшей категории Согласова Т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10" descr="война и мир.jpg"/>
          <p:cNvPicPr/>
          <p:nvPr/>
        </p:nvPicPr>
        <p:blipFill>
          <a:blip r:embed="rId1"/>
          <a:stretch/>
        </p:blipFill>
        <p:spPr>
          <a:xfrm>
            <a:off x="500040" y="3357720"/>
            <a:ext cx="200016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11" descr="Dumbadze.jpg"/>
          <p:cNvPicPr/>
          <p:nvPr/>
        </p:nvPicPr>
        <p:blipFill>
          <a:blip r:embed="rId2"/>
          <a:stretch/>
        </p:blipFill>
        <p:spPr>
          <a:xfrm>
            <a:off x="2714760" y="3357720"/>
            <a:ext cx="240984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14392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Вывод: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данное  исследование не только подтвердило   гипотезу  о  том,  что   даже на войне возможно  проявление  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уманности, но  и  привело  к выводу  о том, что только  добрые и сострадательные  люди,(Денисов, Петя  Ростов, тётя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ойя)  способны  оказать   помощь , пожалеть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лые ,бесчеловечные  люди  не посочувствуют не только  чужим, но и своим. Смерть  Пети Ростова  , например, вызвала у  Долохова  только  досаду,  которая выразилась  в  слове  «готов».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2060"/>
                </a:solidFill>
                <a:latin typeface="Calibri"/>
              </a:rPr>
              <a:t>Проблема: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500200" y="192888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можно ли на войне проявление человеческого участия к пленным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2060"/>
                </a:solidFill>
                <a:latin typeface="Calibri"/>
              </a:rPr>
              <a:t>Гипотеза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7184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а, даже на войне возможно проявление гуманност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Этапы  исследовательской  рабо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Война это-конфликт между политическими образованиями (государствами, племенами, политическими группировками и т. д.), происходящий в форме вооруженного противоборства, военных (боевых) действий между их вооружёнными сил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явление ассоциаций учащихся 5 «Б» класса к слову «ВОЙНА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стирова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) Возможно ли на войне проявление человечности  ?    1. Да      2. Не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) Как надо поступать с пленным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Убивать (враги). 2. Отпускать с миром, оказывать помощь (несчастные люди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иск ответов в художественной литератур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) Анализ отрывка из романа Л.Н. Толстого «Война и мир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) Анализ отрывка из романа Н.Думбадзе «Я вижу солнце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Calibri"/>
              </a:rPr>
              <a:t>Словарная работ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4240" y="1285560"/>
            <a:ext cx="70725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Война- эт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конфликт между политическими образованиями (государствами, племенами, политическими группиров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т. д.), происходящий в форме вооруженного противоборства, военных (боевых) действий между их вооружёнными си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фильм 8"/>
          <p:cNvSpPr/>
          <p:nvPr/>
        </p:nvSpPr>
        <p:spPr>
          <a:xfrm>
            <a:off x="7858080" y="4643280"/>
            <a:ext cx="71640" cy="46080"/>
          </a:xfrm>
          <a:custGeom>
            <a:avLst/>
            <a:gdLst>
              <a:gd name="textAreaLeft" fmla="*/ 2880 w 71640"/>
              <a:gd name="textAreaRight" fmla="*/ 68760 w 7164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33488" h="21600">
                <a:moveTo>
                  <a:pt x="0" y="0"/>
                </a:moveTo>
                <a:lnTo>
                  <a:pt x="33488" y="0"/>
                </a:lnTo>
                <a:lnTo>
                  <a:pt x="33488" y="21600"/>
                </a:lnTo>
                <a:lnTo>
                  <a:pt x="0" y="21600"/>
                </a:lnTo>
                <a:close/>
              </a:path>
              <a:path fill="lightenLess" w="33488" h="21600">
                <a:moveTo>
                  <a:pt x="0" y="0"/>
                </a:moveTo>
                <a:lnTo>
                  <a:pt x="33488" y="0"/>
                </a:lnTo>
                <a:lnTo>
                  <a:pt x="32088" y="1400"/>
                </a:lnTo>
                <a:lnTo>
                  <a:pt x="1400" y="1400"/>
                </a:lnTo>
                <a:close/>
              </a:path>
              <a:path fill="darken" w="33488" h="21600">
                <a:moveTo>
                  <a:pt x="33488" y="0"/>
                </a:moveTo>
                <a:lnTo>
                  <a:pt x="33488" y="21600"/>
                </a:lnTo>
                <a:lnTo>
                  <a:pt x="32088" y="20200"/>
                </a:lnTo>
                <a:lnTo>
                  <a:pt x="32088" y="1400"/>
                </a:lnTo>
                <a:close/>
              </a:path>
              <a:path fill="darkenLess" w="33488" h="21600">
                <a:moveTo>
                  <a:pt x="33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88" y="20200"/>
                </a:lnTo>
                <a:close/>
              </a:path>
              <a:path fill="lighten" w="33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488" h="21600">
                <a:moveTo>
                  <a:pt x="9738" y="7301"/>
                </a:moveTo>
                <a:lnTo>
                  <a:pt x="10652" y="7301"/>
                </a:lnTo>
                <a:lnTo>
                  <a:pt x="11035" y="7667"/>
                </a:lnTo>
                <a:lnTo>
                  <a:pt x="20243" y="7667"/>
                </a:lnTo>
                <a:lnTo>
                  <a:pt x="20800" y="8224"/>
                </a:lnTo>
                <a:lnTo>
                  <a:pt x="20800" y="8772"/>
                </a:lnTo>
                <a:lnTo>
                  <a:pt x="22645" y="8772"/>
                </a:lnTo>
                <a:lnTo>
                  <a:pt x="23011" y="8224"/>
                </a:lnTo>
                <a:lnTo>
                  <a:pt x="23751" y="8224"/>
                </a:lnTo>
                <a:lnTo>
                  <a:pt x="23751" y="13376"/>
                </a:lnTo>
                <a:lnTo>
                  <a:pt x="23011" y="13376"/>
                </a:lnTo>
                <a:lnTo>
                  <a:pt x="22645" y="12828"/>
                </a:lnTo>
                <a:lnTo>
                  <a:pt x="20800" y="12828"/>
                </a:lnTo>
                <a:lnTo>
                  <a:pt x="20800" y="14107"/>
                </a:lnTo>
                <a:lnTo>
                  <a:pt x="11217" y="14107"/>
                </a:lnTo>
                <a:lnTo>
                  <a:pt x="11217" y="9877"/>
                </a:lnTo>
                <a:lnTo>
                  <a:pt x="11035" y="9877"/>
                </a:lnTo>
                <a:lnTo>
                  <a:pt x="10652" y="10243"/>
                </a:lnTo>
                <a:lnTo>
                  <a:pt x="9738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фильм 9"/>
          <p:cNvSpPr/>
          <p:nvPr/>
        </p:nvSpPr>
        <p:spPr>
          <a:xfrm flipH="1">
            <a:off x="4714200" y="2143080"/>
            <a:ext cx="142920" cy="46080"/>
          </a:xfrm>
          <a:custGeom>
            <a:avLst/>
            <a:gdLst>
              <a:gd name="textAreaLeft" fmla="*/ 2880 w 142920"/>
              <a:gd name="textAreaRight" fmla="*/ 140040 w 14292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66642" h="21600">
                <a:moveTo>
                  <a:pt x="0" y="0"/>
                </a:moveTo>
                <a:lnTo>
                  <a:pt x="66642" y="0"/>
                </a:lnTo>
                <a:lnTo>
                  <a:pt x="66642" y="21600"/>
                </a:lnTo>
                <a:lnTo>
                  <a:pt x="0" y="21600"/>
                </a:lnTo>
                <a:close/>
              </a:path>
              <a:path fill="lightenLess" w="66642" h="21600">
                <a:moveTo>
                  <a:pt x="0" y="0"/>
                </a:moveTo>
                <a:lnTo>
                  <a:pt x="66642" y="0"/>
                </a:lnTo>
                <a:lnTo>
                  <a:pt x="65242" y="1400"/>
                </a:lnTo>
                <a:lnTo>
                  <a:pt x="1400" y="1400"/>
                </a:lnTo>
                <a:close/>
              </a:path>
              <a:path fill="darken" w="66642" h="21600">
                <a:moveTo>
                  <a:pt x="66642" y="0"/>
                </a:moveTo>
                <a:lnTo>
                  <a:pt x="66642" y="21600"/>
                </a:lnTo>
                <a:lnTo>
                  <a:pt x="65242" y="20200"/>
                </a:lnTo>
                <a:lnTo>
                  <a:pt x="65242" y="1400"/>
                </a:lnTo>
                <a:close/>
              </a:path>
              <a:path fill="darkenLess" w="66642" h="21600">
                <a:moveTo>
                  <a:pt x="6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2" y="20200"/>
                </a:lnTo>
                <a:close/>
              </a:path>
              <a:path fill="lighten" w="6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642" h="21600">
                <a:moveTo>
                  <a:pt x="26314" y="7301"/>
                </a:moveTo>
                <a:lnTo>
                  <a:pt x="27228" y="7301"/>
                </a:lnTo>
                <a:lnTo>
                  <a:pt x="27611" y="7667"/>
                </a:lnTo>
                <a:lnTo>
                  <a:pt x="36820" y="7667"/>
                </a:lnTo>
                <a:lnTo>
                  <a:pt x="37377" y="8224"/>
                </a:lnTo>
                <a:lnTo>
                  <a:pt x="37377" y="8772"/>
                </a:lnTo>
                <a:lnTo>
                  <a:pt x="39222" y="8772"/>
                </a:lnTo>
                <a:lnTo>
                  <a:pt x="39588" y="8224"/>
                </a:lnTo>
                <a:lnTo>
                  <a:pt x="40327" y="8224"/>
                </a:lnTo>
                <a:lnTo>
                  <a:pt x="40327" y="13376"/>
                </a:lnTo>
                <a:lnTo>
                  <a:pt x="39588" y="13376"/>
                </a:lnTo>
                <a:lnTo>
                  <a:pt x="39222" y="12828"/>
                </a:lnTo>
                <a:lnTo>
                  <a:pt x="37377" y="12828"/>
                </a:lnTo>
                <a:lnTo>
                  <a:pt x="37377" y="14107"/>
                </a:lnTo>
                <a:lnTo>
                  <a:pt x="27794" y="14107"/>
                </a:lnTo>
                <a:lnTo>
                  <a:pt x="27794" y="9877"/>
                </a:lnTo>
                <a:lnTo>
                  <a:pt x="27611" y="9877"/>
                </a:lnTo>
                <a:lnTo>
                  <a:pt x="27228" y="10243"/>
                </a:lnTo>
                <a:lnTo>
                  <a:pt x="26314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2. Выявление ассоциаций учащихся 5 «Б» класса к слову «ВОЙ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3250440" y="2678760"/>
            <a:ext cx="16430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смер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3009960" y="3581280"/>
            <a:ext cx="2562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 rot="2883600">
            <a:off x="1590480" y="301932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жал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 rot="18175800">
            <a:off x="4821840" y="2678760"/>
            <a:ext cx="164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сочувств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1428840" y="392904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враж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2"/>
          <p:cNvSpPr/>
          <p:nvPr/>
        </p:nvSpPr>
        <p:spPr>
          <a:xfrm rot="18607200">
            <a:off x="2152440" y="480996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гор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 rot="5400000">
            <a:off x="3096720" y="504648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слез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 rot="1942200">
            <a:off x="4951440" y="5070240"/>
            <a:ext cx="2143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стр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500800" y="3929040"/>
            <a:ext cx="1928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ненави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3. Тестиров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920" y="785880"/>
            <a:ext cx="7215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Возможно  ли  на  войне  проявления человечност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-   7      учащих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т-   7     учащих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Как  надо  поступать  с пленны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Убивать (враги)-   4   учащих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Отпускать с миром, оказывать помощь(несчастные люди, безоружные, уже не участники военных действий)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  учащихся.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анализ отрывка из романа Л.Н. Толстого «Война и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4200" y="1214280"/>
          <a:ext cx="8643960" cy="5343840"/>
        </p:xfrm>
        <a:graphic>
          <a:graphicData uri="http://schemas.openxmlformats.org/drawingml/2006/table">
            <a:tbl>
              <a:tblPr/>
              <a:tblGrid>
                <a:gridCol w="738360"/>
                <a:gridCol w="2143080"/>
                <a:gridCol w="3602160"/>
                <a:gridCol w="21603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рои ром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ношение к п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ранцуз-барабанщик, пленные францу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я Р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леет пленного мальчика, первым вызывается пригласить его поесть , испытывал желание помочь ему , чувствовал себя неловко  перед ним из-за Тихона Щербатого и Долохо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альчик, засунув свои озябшие руки в карманы и подняв брови, испуганно смотрел на Денисова… путался в своих ответах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лепая босыми ногами по грязи , барабанщик подошел к двери.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д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ались накормить , обогреть , жал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i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omsieur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чал барабанщик дрожащим почти детским голосом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же на войне остается мирным человеком ,в  пленных видит несчастных людей, отпускает их, жалеет, а мальчика Венсена оставляет при себ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он Щербат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ивает пленного, чтобы завладеть его сапог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ох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аждебно смотрит на пленного мальчика, спорит с Денисовым о пленных, предлагает их убив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отрывка из романа  Н.Думбадз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Я вижу солнц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1285920"/>
          <a:ext cx="7763040" cy="5151240"/>
        </p:xfrm>
        <a:graphic>
          <a:graphicData uri="http://schemas.openxmlformats.org/drawingml/2006/table">
            <a:tbl>
              <a:tblPr/>
              <a:tblGrid>
                <a:gridCol w="606600"/>
                <a:gridCol w="1608120"/>
                <a:gridCol w="3608280"/>
                <a:gridCol w="19400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рои ро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ношение к плен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енный нем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ой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оен враждебно , иронизирует над немцем, отказывается помоч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Худой, гладко выбритый , голубоглазый, в зеленом вылинявшем кителе» и огромных  чувяк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 губы у немца дрожали», «дрожащими руками принял  мчади и стал уплетать за обе ще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тя Сосой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леет пленного, отдает свой кусок хлеба, а потом и весь обед, сама насыпала ему в карман таба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6:44:24Z</dcterms:created>
  <dc:creator>gfgdsaggf</dc:creator>
  <dc:description/>
  <dc:language>en-US</dc:language>
  <cp:lastModifiedBy>user</cp:lastModifiedBy>
  <dcterms:modified xsi:type="dcterms:W3CDTF">2011-05-01T08:31:14Z</dcterms:modified>
  <cp:revision>48</cp:revision>
  <dc:subject/>
  <dc:title>Немецкая пасха</dc:title>
</cp:coreProperties>
</file>