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6.gif" ContentType="image/gif"/>
  <Override PartName="/ppt/media/image8.jpeg" ContentType="image/jpeg"/>
  <Override PartName="/ppt/media/image5.png" ContentType="image/png"/>
  <Override PartName="/ppt/media/image12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3.gif" ContentType="image/gif"/>
  <Override PartName="/ppt/media/image16.png" ContentType="image/png"/>
  <Override PartName="/ppt/media/image20.jpeg" ContentType="image/jpeg"/>
  <Override PartName="/ppt/media/image15.jpeg" ContentType="image/jpeg"/>
  <Override PartName="/ppt/media/image18.gif" ContentType="image/gif"/>
  <Override PartName="/ppt/media/image23.gif" ContentType="image/gif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881F-6273-4B82-B043-DD99CAE8C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C95B-7EE6-4896-B364-D5E7F70A15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7FA-79CC-4E2A-9C78-2C628F55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4EA2-797D-474F-8777-D356BA13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6D1-DE48-4193-8DA8-C7D776A1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666E-7945-4939-815A-D0E27755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F2F-9442-45A2-9F5E-FEEBE14F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147-95EA-4C53-93D8-46C7561D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539-9196-423B-863D-774878AD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361-50D7-4428-8556-A4D7AA61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5D6-EEDC-4E98-9FD7-AE32CAD6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A60-AB97-4354-85F8-2E0249C3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0BA-727B-42E3-B112-A497BDCF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737-54F1-4B23-BB36-405C8DA7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C31E-DCBF-43C7-80A0-ED0DD5675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9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0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animo2.ucoz.ru/photo/animacii_malogo_razmera/sklad_animacij/animacija_volny_2/14-0-1063" TargetMode="External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nimo2.ucoz.ru/photo/animacii_malogo_razmera/sklad_animacij/animacija_okean/14-0-1098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animo2.ucoz.ru/photo/animacii_malogo_razmera/sklad_animacij/animacija_solnce_3/14-0-1250" TargetMode="External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gif"/><Relationship Id="rId3" Type="http://schemas.openxmlformats.org/officeDocument/2006/relationships/image" Target="../media/image17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:\Users\Neo\Pictures\фоны\фоны 3\bf41784147a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620640" y="5181480"/>
            <a:ext cx="455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дготов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Шамсиярова Наталья Вале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БОУ СОШ № 12 г. Красного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801817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«Клятва первоклассника!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7620120" y="533412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>
              <a:alpha val="33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8" descr="plat.gif"/>
          <p:cNvPicPr/>
          <p:nvPr/>
        </p:nvPicPr>
        <p:blipFill>
          <a:blip r:embed="rId2"/>
          <a:stretch/>
        </p:blipFill>
        <p:spPr>
          <a:xfrm>
            <a:off x="1523880" y="2971800"/>
            <a:ext cx="611532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801817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2514600"/>
            <a:ext cx="548640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божаю я лени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 хочу совсем учи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т такой я уче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ву учебники, тетрад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бываю о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мечаний не любл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 уроках часто сп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ниги вредно вам чит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 них хочется зе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7620120" y="533412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>
              <a:alpha val="33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8" descr="69555395.jpg"/>
          <p:cNvPicPr/>
          <p:nvPr/>
        </p:nvPicPr>
        <p:blipFill>
          <a:blip r:embed="rId2"/>
          <a:stretch/>
        </p:blipFill>
        <p:spPr>
          <a:xfrm>
            <a:off x="5562720" y="228600"/>
            <a:ext cx="3352680" cy="47624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konvert.jpg"/>
          <p:cNvPicPr/>
          <p:nvPr/>
        </p:nvPicPr>
        <p:blipFill>
          <a:blip r:embed="rId3"/>
          <a:stretch/>
        </p:blipFill>
        <p:spPr>
          <a:xfrm>
            <a:off x="152280" y="304920"/>
            <a:ext cx="4648320" cy="198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801817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"/>
          <p:cNvSpPr/>
          <p:nvPr/>
        </p:nvSpPr>
        <p:spPr>
          <a:xfrm>
            <a:off x="7620120" y="533412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>
              <a:alpha val="33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304920" y="3276720"/>
            <a:ext cx="632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здравляю вас с поступлением в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 класс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Я, между прочим, достиг потрясающих успехов как в учебе в школе магических наук Хогварта, так и в игре Квидд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0" descr="ves_harry_potter_-_kartinki_i_postery_2.jpg"/>
          <p:cNvPicPr/>
          <p:nvPr/>
        </p:nvPicPr>
        <p:blipFill>
          <a:blip r:embed="rId2"/>
          <a:stretch/>
        </p:blipFill>
        <p:spPr>
          <a:xfrm>
            <a:off x="4800600" y="228600"/>
            <a:ext cx="4076640" cy="32767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konvert.jpg"/>
          <p:cNvPicPr/>
          <p:nvPr/>
        </p:nvPicPr>
        <p:blipFill>
          <a:blip r:embed="rId3"/>
          <a:stretch/>
        </p:blipFill>
        <p:spPr>
          <a:xfrm>
            <a:off x="228600" y="457200"/>
            <a:ext cx="373392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C:\Users\Neo\Pictures\фоны\фоны 3\bf41784147a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D:\клипарты\школа\58e6df9cb602.jpg"/>
          <p:cNvPicPr/>
          <p:nvPr/>
        </p:nvPicPr>
        <p:blipFill>
          <a:blip r:embed="rId2"/>
          <a:stretch/>
        </p:blipFill>
        <p:spPr>
          <a:xfrm>
            <a:off x="6000840" y="2438280"/>
            <a:ext cx="3143160" cy="4419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568080" y="762120"/>
            <a:ext cx="75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Наша любимая школа №1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801817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076760" y="1905120"/>
            <a:ext cx="7325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Счастливого пут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по дорогам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ЗНАНИЙ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5" descr="иииииииииииииииии.gif"/>
          <p:cNvPicPr/>
          <p:nvPr/>
        </p:nvPicPr>
        <p:blipFill>
          <a:blip r:embed="rId2"/>
          <a:stretch/>
        </p:blipFill>
        <p:spPr>
          <a:xfrm>
            <a:off x="152280" y="4191120"/>
            <a:ext cx="2590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1 сентября\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ервое свидание.mp3" descr=""/>
          <p:cNvPicPr/>
          <p:nvPr/>
        </p:nvPicPr>
        <p:blipFill>
          <a:blip r:embed="rId2"/>
          <a:stretch/>
        </p:blipFill>
        <p:spPr>
          <a:xfrm>
            <a:off x="10134720" y="2438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7467480" y="2133720"/>
            <a:ext cx="14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70520" y="1600200"/>
            <a:ext cx="241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Arial"/>
              </a:rPr>
              <a:t>1 «Д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Бах - Air (Ventura).mp3" descr=""/>
          <p:cNvPicPr/>
          <p:nvPr/>
        </p:nvPicPr>
        <p:blipFill>
          <a:blip r:embed="rId1"/>
          <a:stretch/>
        </p:blipFill>
        <p:spPr>
          <a:xfrm>
            <a:off x="99820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priroda7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6" descr=""/>
          <p:cNvPicPr/>
          <p:nvPr/>
        </p:nvPicPr>
        <p:blipFill>
          <a:blip r:embed="rId3"/>
          <a:stretch/>
        </p:blipFill>
        <p:spPr>
          <a:xfrm>
            <a:off x="3048120" y="878040"/>
            <a:ext cx="57178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801817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19291365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8" descr="ucheniki_w450_h468.jpg"/>
          <p:cNvPicPr/>
          <p:nvPr/>
        </p:nvPicPr>
        <p:blipFill>
          <a:blip r:embed="rId4"/>
          <a:stretch/>
        </p:blipFill>
        <p:spPr>
          <a:xfrm>
            <a:off x="2666880" y="152280"/>
            <a:ext cx="4286520" cy="4457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228600" y="4572000"/>
            <a:ext cx="66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Мы теперь не просто дет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мы теперь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ЧЕНИКИ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332240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19081901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0"/>
            <a:ext cx="2743200" cy="24703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1" descr="steamclear.gif"/>
          <p:cNvPicPr/>
          <p:nvPr/>
        </p:nvPicPr>
        <p:blipFill>
          <a:blip r:embed="rId5"/>
          <a:stretch/>
        </p:blipFill>
        <p:spPr>
          <a:xfrm>
            <a:off x="0" y="1828800"/>
            <a:ext cx="8839080" cy="35812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2546280" y="914400"/>
            <a:ext cx="639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c000"/>
                </a:solidFill>
                <a:latin typeface="Arial"/>
              </a:rPr>
              <a:t>В добрый путь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1780200" y="5334120"/>
            <a:ext cx="68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c000"/>
                </a:solidFill>
                <a:latin typeface="Arial"/>
              </a:rPr>
              <a:t>…</a:t>
            </a:r>
            <a:r>
              <a:rPr b="0" i="1" lang="ru-RU" sz="6000" spc="-1" strike="noStrike">
                <a:solidFill>
                  <a:srgbClr val="ffc000"/>
                </a:solidFill>
                <a:latin typeface="Arial"/>
              </a:rPr>
              <a:t>первоклассник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801817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914400" y="838080"/>
          <a:ext cx="7238880" cy="53722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51">
            <a:hlinkClick r:id="rId2" action="ppaction://hlinksldjump"/>
          </p:cNvPr>
          <p:cNvSpPr/>
          <p:nvPr/>
        </p:nvSpPr>
        <p:spPr>
          <a:xfrm>
            <a:off x="914400" y="838080"/>
            <a:ext cx="14479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1">
            <a:hlinkClick r:id="rId3" action="ppaction://hlinksldjump"/>
          </p:cNvPr>
          <p:cNvSpPr/>
          <p:nvPr/>
        </p:nvSpPr>
        <p:spPr>
          <a:xfrm>
            <a:off x="3809880" y="2133720"/>
            <a:ext cx="14479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3">
            <a:hlinkClick r:id="rId4" action="ppaction://hlinksldjump"/>
          </p:cNvPr>
          <p:cNvSpPr/>
          <p:nvPr/>
        </p:nvSpPr>
        <p:spPr>
          <a:xfrm>
            <a:off x="6705720" y="2133720"/>
            <a:ext cx="144756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я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5"/>
          <p:cNvSpPr/>
          <p:nvPr/>
        </p:nvSpPr>
        <p:spPr>
          <a:xfrm>
            <a:off x="2362320" y="3505320"/>
            <a:ext cx="144756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7"/>
          <p:cNvSpPr/>
          <p:nvPr/>
        </p:nvSpPr>
        <p:spPr>
          <a:xfrm>
            <a:off x="5257800" y="3505320"/>
            <a:ext cx="14479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9"/>
          <p:cNvSpPr/>
          <p:nvPr/>
        </p:nvSpPr>
        <p:spPr>
          <a:xfrm>
            <a:off x="914400" y="4800600"/>
            <a:ext cx="14479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74"/>
          <p:cNvSpPr/>
          <p:nvPr/>
        </p:nvSpPr>
        <p:spPr>
          <a:xfrm>
            <a:off x="84582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bbe0e3">
              <a:alpha val="3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0" descr="ррррррр.gif"/>
          <p:cNvPicPr/>
          <p:nvPr/>
        </p:nvPicPr>
        <p:blipFill>
          <a:blip r:embed="rId5"/>
          <a:stretch/>
        </p:blipFill>
        <p:spPr>
          <a:xfrm>
            <a:off x="2362320" y="914400"/>
            <a:ext cx="1447560" cy="13240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" descr="лблллл.gif"/>
          <p:cNvPicPr/>
          <p:nvPr/>
        </p:nvPicPr>
        <p:blipFill>
          <a:blip r:embed="rId6"/>
          <a:stretch/>
        </p:blipFill>
        <p:spPr>
          <a:xfrm>
            <a:off x="1066680" y="3657600"/>
            <a:ext cx="1238400" cy="10573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5" descr="ррррррр.gif"/>
          <p:cNvPicPr/>
          <p:nvPr/>
        </p:nvPicPr>
        <p:blipFill>
          <a:blip r:embed="rId7"/>
          <a:stretch/>
        </p:blipFill>
        <p:spPr>
          <a:xfrm>
            <a:off x="6858000" y="4952880"/>
            <a:ext cx="117144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6" descr="ррррррр.gif"/>
          <p:cNvPicPr/>
          <p:nvPr/>
        </p:nvPicPr>
        <p:blipFill>
          <a:blip r:embed="rId8"/>
          <a:stretch/>
        </p:blipFill>
        <p:spPr>
          <a:xfrm>
            <a:off x="6858000" y="914400"/>
            <a:ext cx="117144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801817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57200" y="2895480"/>
            <a:ext cx="815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оздравляю всех первоклассников. Желаю набираться ума и обязательно научиться читать. А то, когда папа Карло подарил мне Азбуку, я променял её на билет в кукольный театр, о чем очень жалею. Берегите ваши учебни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8" descr="0_6fabd_3f716690_XL.png"/>
          <p:cNvPicPr/>
          <p:nvPr/>
        </p:nvPicPr>
        <p:blipFill>
          <a:blip r:embed="rId2"/>
          <a:stretch/>
        </p:blipFill>
        <p:spPr>
          <a:xfrm>
            <a:off x="2895480" y="0"/>
            <a:ext cx="41245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6"/>
          <p:cNvSpPr/>
          <p:nvPr/>
        </p:nvSpPr>
        <p:spPr>
          <a:xfrm>
            <a:off x="7620120" y="533412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>
              <a:alpha val="33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6" descr="konvert.jpg"/>
          <p:cNvPicPr/>
          <p:nvPr/>
        </p:nvPicPr>
        <p:blipFill>
          <a:blip r:embed="rId3"/>
          <a:stretch/>
        </p:blipFill>
        <p:spPr>
          <a:xfrm>
            <a:off x="0" y="38088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801817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" y="3047760"/>
            <a:ext cx="82296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Я тоже мечтаю пойти в школу, как вы. Если бы я училась в школе, то узнала бы, что Волк – это хитрый  хищник, и с ним никогда нельзя разговаривать, тем более, говорить, где живет моя бабуш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8305920" y="5791320"/>
            <a:ext cx="838080" cy="10666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1066680"/>
              <a:gd name="textAreaBottom" fmla="*/ 1012680 h 1066680"/>
            </a:gdLst>
            <a:ahLst/>
            <a:rect l="textAreaLeft" t="textAreaTop" r="textAreaRight" b="textAreaBottom"/>
            <a:pathLst>
              <a:path w="21600" h="27489">
                <a:moveTo>
                  <a:pt x="0" y="0"/>
                </a:moveTo>
                <a:lnTo>
                  <a:pt x="21600" y="0"/>
                </a:lnTo>
                <a:lnTo>
                  <a:pt x="21600" y="27489"/>
                </a:lnTo>
                <a:lnTo>
                  <a:pt x="0" y="27489"/>
                </a:lnTo>
                <a:close/>
              </a:path>
              <a:path fill="lightenLess" w="21600" h="274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89">
                <a:moveTo>
                  <a:pt x="21600" y="0"/>
                </a:moveTo>
                <a:lnTo>
                  <a:pt x="21600" y="27489"/>
                </a:lnTo>
                <a:lnTo>
                  <a:pt x="20200" y="26089"/>
                </a:lnTo>
                <a:lnTo>
                  <a:pt x="20200" y="1400"/>
                </a:lnTo>
                <a:close/>
              </a:path>
              <a:path fill="darkenLess" w="21600" h="27489">
                <a:moveTo>
                  <a:pt x="21600" y="27489"/>
                </a:moveTo>
                <a:lnTo>
                  <a:pt x="0" y="27489"/>
                </a:lnTo>
                <a:lnTo>
                  <a:pt x="1400" y="26089"/>
                </a:lnTo>
                <a:lnTo>
                  <a:pt x="20200" y="26089"/>
                </a:lnTo>
                <a:close/>
              </a:path>
              <a:path fill="lighten" w="21600" h="27489">
                <a:moveTo>
                  <a:pt x="0" y="274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89"/>
                </a:lnTo>
                <a:close/>
              </a:path>
              <a:path fill="darken" w="21600" h="27489">
                <a:moveTo>
                  <a:pt x="3794" y="10437"/>
                </a:moveTo>
                <a:lnTo>
                  <a:pt x="7301" y="10437"/>
                </a:lnTo>
                <a:lnTo>
                  <a:pt x="7301" y="15773"/>
                </a:lnTo>
                <a:cubicBezTo>
                  <a:pt x="7301" y="16695"/>
                  <a:pt x="8102" y="17426"/>
                  <a:pt x="9138" y="17426"/>
                </a:cubicBezTo>
                <a:lnTo>
                  <a:pt x="10800" y="17426"/>
                </a:lnTo>
                <a:cubicBezTo>
                  <a:pt x="11836" y="17426"/>
                  <a:pt x="12636" y="16695"/>
                  <a:pt x="12636" y="15773"/>
                </a:cubicBezTo>
                <a:lnTo>
                  <a:pt x="12636" y="10437"/>
                </a:lnTo>
                <a:lnTo>
                  <a:pt x="10800" y="10437"/>
                </a:lnTo>
                <a:lnTo>
                  <a:pt x="14308" y="6930"/>
                </a:lnTo>
                <a:lnTo>
                  <a:pt x="17981" y="10437"/>
                </a:lnTo>
                <a:lnTo>
                  <a:pt x="16144" y="10437"/>
                </a:lnTo>
                <a:lnTo>
                  <a:pt x="16144" y="15773"/>
                </a:lnTo>
                <a:cubicBezTo>
                  <a:pt x="16144" y="18540"/>
                  <a:pt x="13568" y="21099"/>
                  <a:pt x="10800" y="21099"/>
                </a:cubicBezTo>
                <a:lnTo>
                  <a:pt x="9138" y="21099"/>
                </a:lnTo>
                <a:cubicBezTo>
                  <a:pt x="6370" y="21099"/>
                  <a:pt x="3794" y="18540"/>
                  <a:pt x="3794" y="15773"/>
                </a:cubicBezTo>
                <a:close/>
              </a:path>
            </a:pathLst>
          </a:custGeom>
          <a:solidFill>
            <a:srgbClr val="bbe0e3">
              <a:alpha val="33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8" descr="0_a4fd8_ddc33be6_XL.png"/>
          <p:cNvPicPr/>
          <p:nvPr/>
        </p:nvPicPr>
        <p:blipFill>
          <a:blip r:embed="rId2"/>
          <a:stretch/>
        </p:blipFill>
        <p:spPr>
          <a:xfrm>
            <a:off x="3657600" y="685800"/>
            <a:ext cx="4398840" cy="59436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konvert.jpg"/>
          <p:cNvPicPr/>
          <p:nvPr/>
        </p:nvPicPr>
        <p:blipFill>
          <a:blip r:embed="rId3"/>
          <a:stretch/>
        </p:blipFill>
        <p:spPr>
          <a:xfrm>
            <a:off x="228600" y="457200"/>
            <a:ext cx="31240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8" descr="konvert.jpg"/>
          <p:cNvPicPr/>
          <p:nvPr/>
        </p:nvPicPr>
        <p:blipFill>
          <a:blip r:embed="rId1"/>
          <a:stretch/>
        </p:blipFill>
        <p:spPr>
          <a:xfrm>
            <a:off x="3857760" y="329076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80181708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7"/>
          <p:cNvSpPr/>
          <p:nvPr/>
        </p:nvSpPr>
        <p:spPr>
          <a:xfrm>
            <a:off x="7620120" y="533412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>
              <a:alpha val="33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2590920" y="228600"/>
            <a:ext cx="6324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бегайте по классу на переменках, а то можете нечаянно разб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зу или уронить золотое яичко. И мне тогда придется высиживать новое яичко, не золотое, а прост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10" descr="image_4e00d55338874.jpg"/>
          <p:cNvPicPr/>
          <p:nvPr/>
        </p:nvPicPr>
        <p:blipFill>
          <a:blip r:embed="rId3"/>
          <a:stretch/>
        </p:blipFill>
        <p:spPr>
          <a:xfrm>
            <a:off x="152280" y="2590920"/>
            <a:ext cx="439272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konvert.jpg"/>
          <p:cNvPicPr/>
          <p:nvPr/>
        </p:nvPicPr>
        <p:blipFill>
          <a:blip r:embed="rId4"/>
          <a:stretch/>
        </p:blipFill>
        <p:spPr>
          <a:xfrm>
            <a:off x="685800" y="53352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2-11-28T15:39:53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